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22A7-F1CB-4CF6-9F33-0F4CB9787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83A1-65AA-4CBA-95AE-0AC111E9D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469B-3E7A-4AB0-8DB3-E552341FE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D572-67E9-4503-B041-FD632D0566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A7B8-6BC5-4BA8-9423-40C766A6FE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24BC-8B2F-4098-9FB9-2290CB2AF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D7D7-8689-4A9A-9027-152ADCD30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0F6E-7810-44F9-9F76-63256240B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F58C-7C79-4C84-B3E3-A28844183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6FC8-3AE4-4585-AB7C-B1BCA5816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289C-99D3-49E3-95BD-54E5F36DC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BD53-4CD6-4A52-86A2-6B1B31229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9960" y="-338040"/>
            <a:ext cx="9405000" cy="7194240"/>
            <a:chOff x="-39960" y="-338040"/>
            <a:chExt cx="9405000" cy="7194240"/>
          </a:xfrm>
        </p:grpSpPr>
        <p:grpSp>
          <p:nvGrpSpPr>
            <p:cNvPr id="1" name="Group 2"/>
            <p:cNvGrpSpPr/>
            <p:nvPr/>
          </p:nvGrpSpPr>
          <p:grpSpPr>
            <a:xfrm>
              <a:off x="4833360" y="-338040"/>
              <a:ext cx="4531680" cy="6541560"/>
              <a:chOff x="4833360" y="-338040"/>
              <a:chExt cx="4531680" cy="6541560"/>
            </a:xfrm>
          </p:grpSpPr>
          <p:sp>
            <p:nvSpPr>
              <p:cNvPr id="2" name="Freeform 3"/>
              <p:cNvSpPr/>
              <p:nvPr/>
            </p:nvSpPr>
            <p:spPr>
              <a:xfrm flipV="1" rot="12000000">
                <a:off x="6247800" y="62640"/>
                <a:ext cx="2778840" cy="24670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 flipV="1" rot="12000000">
                <a:off x="7349040" y="1751040"/>
                <a:ext cx="1190160" cy="8827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 flipV="1" rot="12000000">
                <a:off x="6566760" y="2413080"/>
                <a:ext cx="577440" cy="4143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 flipV="1" rot="12000000">
                <a:off x="7127640" y="405000"/>
                <a:ext cx="510480" cy="5767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 flipV="1" rot="12000000">
                <a:off x="7000560" y="2467440"/>
                <a:ext cx="214920" cy="3474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 flipV="1" rot="12000000">
                <a:off x="6979320" y="998640"/>
                <a:ext cx="250200" cy="1494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 flipV="1" rot="12000000">
                <a:off x="5397480" y="2767680"/>
                <a:ext cx="688320" cy="34210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 flipH="1" rot="360000">
              <a:off x="11880" y="3107160"/>
              <a:ext cx="513360" cy="1029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246600" y="1999440"/>
              <a:ext cx="2002680" cy="2431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-20520" y="4142160"/>
              <a:ext cx="1274040" cy="7282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 flipH="1" rot="360000">
              <a:off x="1407600" y="4532400"/>
              <a:ext cx="563040" cy="7358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 flipH="1" rot="360000">
              <a:off x="1248480" y="4729320"/>
              <a:ext cx="138240" cy="434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872360" y="5194440"/>
              <a:ext cx="1762560" cy="16617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" name="Group 16"/>
            <p:cNvGrpSpPr/>
            <p:nvPr/>
          </p:nvGrpSpPr>
          <p:grpSpPr>
            <a:xfrm>
              <a:off x="3987720" y="920520"/>
              <a:ext cx="1270800" cy="1390680"/>
              <a:chOff x="3987720" y="920520"/>
              <a:chExt cx="1270800" cy="1390680"/>
            </a:xfrm>
          </p:grpSpPr>
          <p:sp>
            <p:nvSpPr>
              <p:cNvPr id="16" name="Freeform 17"/>
              <p:cNvSpPr/>
              <p:nvPr/>
            </p:nvSpPr>
            <p:spPr>
              <a:xfrm rot="3240000">
                <a:off x="4537080" y="939960"/>
                <a:ext cx="305640" cy="504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 rot="3240000">
                <a:off x="4674600" y="1517760"/>
                <a:ext cx="522720" cy="417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19"/>
              <p:cNvSpPr/>
              <p:nvPr/>
            </p:nvSpPr>
            <p:spPr>
              <a:xfrm rot="3240000">
                <a:off x="3961080" y="1920960"/>
                <a:ext cx="546480" cy="213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" name="Group 20"/>
            <p:cNvGrpSpPr/>
            <p:nvPr/>
          </p:nvGrpSpPr>
          <p:grpSpPr>
            <a:xfrm>
              <a:off x="5613840" y="284040"/>
              <a:ext cx="970560" cy="911880"/>
              <a:chOff x="5613840" y="284040"/>
              <a:chExt cx="970560" cy="911880"/>
            </a:xfrm>
          </p:grpSpPr>
          <p:sp>
            <p:nvSpPr>
              <p:cNvPr id="20" name="Freeform 21"/>
              <p:cNvSpPr/>
              <p:nvPr/>
            </p:nvSpPr>
            <p:spPr>
              <a:xfrm rot="14880000">
                <a:off x="5735520" y="834120"/>
                <a:ext cx="195120" cy="394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14880000">
                <a:off x="5680440" y="480240"/>
                <a:ext cx="334440" cy="326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14880000">
                <a:off x="6267600" y="393840"/>
                <a:ext cx="348840" cy="165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3" name="Group 24"/>
            <p:cNvGrpSpPr/>
            <p:nvPr/>
          </p:nvGrpSpPr>
          <p:grpSpPr>
            <a:xfrm>
              <a:off x="931680" y="5153760"/>
              <a:ext cx="1164240" cy="1066320"/>
              <a:chOff x="931680" y="5153760"/>
              <a:chExt cx="1164240" cy="1066320"/>
            </a:xfrm>
          </p:grpSpPr>
          <p:sp>
            <p:nvSpPr>
              <p:cNvPr id="24" name="Freeform 25"/>
              <p:cNvSpPr/>
              <p:nvPr/>
            </p:nvSpPr>
            <p:spPr>
              <a:xfrm rot="8520000">
                <a:off x="1730160" y="5479560"/>
                <a:ext cx="267120" cy="411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 rot="8520000">
                <a:off x="1184760" y="5774040"/>
                <a:ext cx="455400" cy="342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 rot="8520000">
                <a:off x="934560" y="5281560"/>
                <a:ext cx="475560" cy="173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" name="Group 28"/>
            <p:cNvGrpSpPr/>
            <p:nvPr/>
          </p:nvGrpSpPr>
          <p:grpSpPr>
            <a:xfrm>
              <a:off x="221400" y="367920"/>
              <a:ext cx="1864080" cy="1276200"/>
              <a:chOff x="221400" y="367920"/>
              <a:chExt cx="1864080" cy="1276200"/>
            </a:xfrm>
          </p:grpSpPr>
          <p:sp>
            <p:nvSpPr>
              <p:cNvPr id="28" name="Freeform 29"/>
              <p:cNvSpPr/>
              <p:nvPr/>
            </p:nvSpPr>
            <p:spPr>
              <a:xfrm flipH="1" rot="4140000">
                <a:off x="1542240" y="1060560"/>
                <a:ext cx="396000" cy="586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 flipH="1" rot="4140000">
                <a:off x="928080" y="528120"/>
                <a:ext cx="678960" cy="488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 flipH="1" rot="4140000">
                <a:off x="109800" y="1099440"/>
                <a:ext cx="708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1" name="Group 32"/>
            <p:cNvGrpSpPr/>
            <p:nvPr/>
          </p:nvGrpSpPr>
          <p:grpSpPr>
            <a:xfrm>
              <a:off x="7332120" y="3619800"/>
              <a:ext cx="1260000" cy="1718280"/>
              <a:chOff x="7332120" y="3619800"/>
              <a:chExt cx="1260000" cy="1718280"/>
            </a:xfrm>
          </p:grpSpPr>
          <p:sp>
            <p:nvSpPr>
              <p:cNvPr id="32" name="Freeform 33"/>
              <p:cNvSpPr/>
              <p:nvPr/>
            </p:nvSpPr>
            <p:spPr>
              <a:xfrm flipH="1" rot="10020000">
                <a:off x="7390080" y="4736160"/>
                <a:ext cx="388080" cy="565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 flipH="1" rot="10020000">
                <a:off x="7881840" y="4415760"/>
                <a:ext cx="665280" cy="470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5"/>
              <p:cNvSpPr/>
              <p:nvPr/>
            </p:nvSpPr>
            <p:spPr>
              <a:xfrm flipH="1" rot="10020000">
                <a:off x="7551000" y="3694680"/>
                <a:ext cx="695160" cy="240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Freeform 36"/>
            <p:cNvSpPr/>
            <p:nvPr/>
          </p:nvSpPr>
          <p:spPr>
            <a:xfrm>
              <a:off x="1915560" y="2880"/>
              <a:ext cx="1370880" cy="1406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 flipV="1" rot="9840000">
              <a:off x="3413160" y="164880"/>
              <a:ext cx="1082880" cy="9410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V="1" rot="9840000">
              <a:off x="3157560" y="1361520"/>
              <a:ext cx="524880" cy="440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flipV="1" rot="9840000">
              <a:off x="3518640" y="1285200"/>
              <a:ext cx="195480" cy="3693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>
              <a:off x="2529360" y="0"/>
              <a:ext cx="197280" cy="1918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 flipV="1" rot="9840000">
              <a:off x="3439080" y="1964520"/>
              <a:ext cx="624960" cy="3650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-20520" y="2932920"/>
              <a:ext cx="57240" cy="209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5BB262-76BE-474E-8FA1-6D09E36C855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8800" y="1857240"/>
            <a:ext cx="61912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28800" y="2714400"/>
            <a:ext cx="6286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65120" indent="-349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7200" spc="-1" strike="noStrike">
                <a:solidFill>
                  <a:srgbClr val="7878de"/>
                </a:solidFill>
                <a:latin typeface="Times New Roman"/>
                <a:ea typeface="Times New Roman"/>
              </a:rPr>
              <a:t>Сделаем мир   добрее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99720" y="1642680"/>
            <a:ext cx="70009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 этом мире, в котором живе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я и ты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е хватает тепла, не хватает людской добро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удем вместе учиться друг друга беречь и люб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удем вместе учиться друг другу как солнце свет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8800" y="298080"/>
            <a:ext cx="6191280" cy="20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72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28800" y="2714400"/>
            <a:ext cx="6286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857160" y="2356920"/>
            <a:ext cx="6858000" cy="32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Доброта- это отзывчивость, душевное расположение к людям, стремление делать добро другим»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85880" y="857160"/>
            <a:ext cx="692928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тзывчивый,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хороший,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честный,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орядочный,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ежливый,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заботливый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785520" y="928440"/>
            <a:ext cx="73580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дана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ые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а.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му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у –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ый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а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т, в том и правды мало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дежда красит человека, 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ые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а.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и железные ворота открывает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571760" y="1714680"/>
            <a:ext cx="5715000" cy="4000320"/>
          </a:xfrm>
          <a:prstGeom prst="rect">
            <a:avLst/>
          </a:prstGeom>
          <a:ln w="0">
            <a:noFill/>
          </a:ln>
        </p:spPr>
      </p:pic>
      <p:sp>
        <p:nvSpPr>
          <p:cNvPr id="94" name="Содержимое 2"/>
          <p:cNvSpPr/>
          <p:nvPr/>
        </p:nvSpPr>
        <p:spPr>
          <a:xfrm>
            <a:off x="1785960" y="1071720"/>
            <a:ext cx="5572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жба – главное богатств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2143080" y="857160"/>
            <a:ext cx="4214880" cy="55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857160" y="128592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3643200" y="1000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4"/>
          <a:stretch/>
        </p:blipFill>
        <p:spPr>
          <a:xfrm>
            <a:off x="857160" y="3714840"/>
            <a:ext cx="250056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5"/>
          <a:stretch/>
        </p:blipFill>
        <p:spPr>
          <a:xfrm>
            <a:off x="6072120" y="2643120"/>
            <a:ext cx="2394000" cy="221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6"/>
          <a:stretch/>
        </p:blipFill>
        <p:spPr>
          <a:xfrm>
            <a:off x="3571920" y="4000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000080" y="1143000"/>
            <a:ext cx="3405240" cy="242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1071720" y="3714840"/>
            <a:ext cx="335736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4"/>
          <a:stretch/>
        </p:blipFill>
        <p:spPr>
          <a:xfrm>
            <a:off x="4929120" y="2643120"/>
            <a:ext cx="299268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84" dur="800" fill="hold"/>
                                        <p:tgtEl>
                                          <p:spTgt spid="105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94" dur="800" fill="hold"/>
                                        <p:tgtEl>
                                          <p:spTgt spid="106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999720" y="1356840"/>
            <a:ext cx="62866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229680" indent="-172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7878de"/>
                </a:solidFill>
                <a:latin typeface="Times New Roman"/>
                <a:ea typeface="Times New Roman"/>
              </a:rPr>
              <a:t>Спасиб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29680" indent="-172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7878de"/>
                </a:solidFill>
                <a:latin typeface="Times New Roman"/>
                <a:ea typeface="Times New Roman"/>
              </a:rPr>
              <a:t>Пожалуйс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29680" indent="-1724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7878de"/>
                </a:solidFill>
                <a:latin typeface="Times New Roman"/>
                <a:ea typeface="Times New Roman"/>
              </a:rPr>
              <a:t>Извинит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29680" indent="-17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7878de"/>
                </a:solidFill>
                <a:latin typeface="Times New Roman"/>
                <a:ea typeface="Times New Roman"/>
              </a:rPr>
              <a:t>Будьте  добры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29680" indent="-172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7878de"/>
                </a:solidFill>
                <a:latin typeface="Times New Roman"/>
                <a:ea typeface="Times New Roman"/>
              </a:rPr>
              <a:t>Добрый ден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29680" indent="-1724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7878de"/>
                </a:solidFill>
                <a:latin typeface="Times New Roman"/>
                <a:ea typeface="Times New Roman"/>
              </a:rPr>
              <a:t>Здравствуйт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29680" indent="-17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7878de"/>
                </a:solidFill>
                <a:latin typeface="Times New Roman"/>
                <a:ea typeface="Times New Roman"/>
              </a:rPr>
              <a:t>До свидан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29680" indent="-172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29680" indent="-172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29680" indent="-172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6:46:08Z</dcterms:created>
  <dc:creator>Home</dc:creator>
  <dc:description/>
  <dc:language>en-US</dc:language>
  <cp:lastModifiedBy>Марина</cp:lastModifiedBy>
  <dcterms:modified xsi:type="dcterms:W3CDTF">2014-11-07T14:29:03Z</dcterms:modified>
  <cp:revision>19</cp:revision>
  <dc:subject/>
  <dc:title>Слайд 1</dc:title>
</cp:coreProperties>
</file>