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607D-7B3F-41C2-90A0-8B2FF95BC302}" type="slidenum"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7FB2-3028-4414-9145-559C8FD3F5F0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1AE0-3E2C-43DA-BED7-0B72FBBF979E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7B3D-88C4-4B98-A455-6E46A958DCC2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1A04-E56C-488E-8589-B31400D980E2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0AAC-8EEB-4012-963A-70FEA33AE071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EF9B-4594-4792-AC9E-98FEDDF684B0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994D-BD7B-4779-B98A-DE1FE46F2940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2565-9D48-4BED-A2C4-81BD49A02CCE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A15-D310-4FE5-B1EA-6A4B4299C168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27B8-5D3C-4177-82F5-ED144FCE2AF0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7EB3-D57E-44B4-8AB3-FE91818051AF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556E-E9D9-497E-BB7E-66498B194C6C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85D8-AACA-4516-80AB-6B4698F86A72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23C7-1DEF-4EBF-BAE8-723FB8814527}" type="slidenum">
              <a:rPr b="0" lang="ru-RU" sz="12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A1E-292B-4D26-8F73-CF1CE066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063-2165-437C-B743-4262F277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CA1-20C3-43DB-BCDF-63C8A93F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0A1-E703-4E17-9D70-D640C4CB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D892-68B9-4924-9A46-E8AEFEAD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A45F-F9DD-4BF1-B876-830619C1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204B-6E0E-480A-955D-63639784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AE70-0C03-45B3-A527-509616CE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A32D-BDC0-4AD9-98B8-8E3357B7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0BDE-DDE1-46D2-A4CA-49E5D435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1AC4-DDD8-46AB-B2D5-8B24FA65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4F6-C15E-4F13-9E10-C935B8BD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63B0-9B0F-4D14-BC0A-5F83A60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2760-2554-453E-B3D3-9D80761F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9093-1E40-464A-AB81-B039763E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4B67-4E42-4527-BDC5-5BD54DF9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C5A9-7E2E-4FF2-8DAD-AE40E79B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7F5-3DEE-4F68-A3DB-8A4A3531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7C1-2973-4355-875E-3253165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3AC-DFFC-402A-8562-BFE15772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005-A4E5-4ECC-B382-C9BF517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17D-2CF5-4E18-880A-74D851D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85A-7B32-4B09-B984-253B4A7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627-F7CF-46CE-863E-93363574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18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5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41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2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352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37B7-71C1-4FDD-9932-FD50D47161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5560"/>
            <a:chOff x="-468360" y="-293400"/>
            <a:chExt cx="9765000" cy="767556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5560"/>
              <a:chOff x="-468360" y="-293400"/>
              <a:chExt cx="9765000" cy="767556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55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436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24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4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384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81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832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136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368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468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2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24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2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29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140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60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39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1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124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60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15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58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80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67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0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795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836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480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66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43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588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2320" y="-1479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196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098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1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228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17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65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795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836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480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66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43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588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196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0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1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228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1640" y="1502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17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65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484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276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8920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56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67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48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636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516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83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31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29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18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368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897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5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296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04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748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86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74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0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26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70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764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3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58680"/>
              <a:ext cx="8876160" cy="2544120"/>
              <a:chOff x="97560" y="2758680"/>
              <a:chExt cx="8876160" cy="25441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588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4760"/>
                <a:ext cx="8745120" cy="223920"/>
                <a:chOff x="228600" y="352476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476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848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4400"/>
                <a:ext cx="8745120" cy="223560"/>
                <a:chOff x="120600" y="343440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440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812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4800" y="2758680"/>
                <a:ext cx="2102040" cy="2152080"/>
                <a:chOff x="154800" y="2758680"/>
                <a:chExt cx="2102040" cy="215208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087360"/>
                  <a:ext cx="1627200" cy="149436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59440" y="3717000"/>
                  <a:ext cx="366840" cy="109548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3240" y="338616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65800" y="3359880"/>
                  <a:ext cx="885600" cy="861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0240" y="3657240"/>
                  <a:ext cx="52416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3D1A-1070-4DB5-889B-1A27A4D8E2B1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050560" y="609480"/>
            <a:ext cx="381636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Monotype Corsiva"/>
              </a:rPr>
              <a:t>Цели урока: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199280" cy="4114800"/>
          </a:xfrm>
          <a:prstGeom prst="rect">
            <a:avLst/>
          </a:prstGeom>
          <a:noFill/>
          <a:ln w="57240">
            <a:solidFill>
              <a:srgbClr val="007572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систематизировать знания по теме «Сложное предложение с разными видами связи»;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проверить умение различать предложения по структуре и способам связи;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научить использовать в речи подобные синтаксические конструкции;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проверить умение объяснять постановку знаков препинания в предложении;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проверить умение составлять схемы предложений;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подготовиться к сдаче ГИА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4" name="Picture 6" descr="rast23"/>
          <p:cNvPicPr/>
          <p:nvPr/>
        </p:nvPicPr>
        <p:blipFill>
          <a:blip r:embed="rId1"/>
          <a:stretch/>
        </p:blipFill>
        <p:spPr>
          <a:xfrm>
            <a:off x="7956720" y="1413000"/>
            <a:ext cx="761760" cy="952200"/>
          </a:xfrm>
          <a:prstGeom prst="rect">
            <a:avLst/>
          </a:prstGeom>
          <a:ln w="0">
            <a:noFill/>
          </a:ln>
        </p:spPr>
      </p:pic>
    </p:spTree>
  </p:cSld>
  <p:transition advTm="27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200720" cy="857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4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Работа в парах.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Соберите предложение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.</a:t>
            </a: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Ответ.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8029440" cy="4714560"/>
          </a:xfrm>
          <a:prstGeom prst="rect">
            <a:avLst/>
          </a:prstGeom>
          <a:solidFill>
            <a:srgbClr val="f5cddf"/>
          </a:solidFill>
          <a:ln w="28440">
            <a:solidFill>
              <a:srgbClr val="ffff66"/>
            </a:solidFill>
            <a:miter/>
          </a:ln>
        </p:spPr>
        <p:txBody>
          <a:bodyPr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[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]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</a:rPr>
              <a:t>,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 (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) 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</a:rPr>
              <a:t>: 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[    ]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Жизнь Пришвина – пример того, как человек отрешился от всего наносного: он начал жить только по велению сердца.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-Подчеркните грамматическую основу предложения.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-Объясните постановку знаков препинания в предложении.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-21600" y="90360"/>
            <a:ext cx="91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Segoe UI"/>
                <a:ea typeface="Times New Roman"/>
              </a:rPr>
              <a:t>Жизнь Пришвина </a:t>
            </a:r>
            <a:r>
              <a:rPr b="0" lang="ru-RU" sz="1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333333"/>
                </a:solidFill>
                <a:latin typeface="Segoe UI"/>
                <a:ea typeface="Times New Roman"/>
              </a:rPr>
              <a:t> пример того, как человек отрешился от всего наносного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333333"/>
                </a:solidFill>
                <a:latin typeface="Segoe U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н</a:t>
            </a:r>
            <a:r>
              <a:rPr b="0" lang="ru-RU" sz="1200" spc="-1" strike="noStrike">
                <a:solidFill>
                  <a:srgbClr val="333333"/>
                </a:solidFill>
                <a:latin typeface="Segoe UI"/>
                <a:ea typeface="Times New Roman"/>
              </a:rPr>
              <a:t> начал жить только по велению сердца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Работа с теоретической частью параграфа 35 учебника  стр.214-215.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42960" y="1981080"/>
          <a:ext cx="7815240" cy="4356360"/>
        </p:xfrm>
        <a:graphic>
          <a:graphicData uri="http://schemas.openxmlformats.org/drawingml/2006/table">
            <a:tbl>
              <a:tblPr/>
              <a:tblGrid>
                <a:gridCol w="3929040"/>
                <a:gridCol w="3886200"/>
              </a:tblGrid>
              <a:tr h="8766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Что нового узнали о сложных предложениях с разными видами связи?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9cdcda"/>
                      </a:solidFill>
                    </a:lnL>
                    <a:lnR w="5760">
                      <a:solidFill>
                        <a:srgbClr val="9cdcda"/>
                      </a:solidFill>
                    </a:lnR>
                    <a:lnT w="5760">
                      <a:solidFill>
                        <a:srgbClr val="9cdcda"/>
                      </a:solidFill>
                    </a:lnT>
                    <a:lnB w="18720">
                      <a:solidFill>
                        <a:srgbClr val="9cdcda"/>
                      </a:solidFill>
                    </a:lnB>
                    <a:solidFill>
                      <a:srgbClr val="f5cd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КРЕПЛЕНИЕ.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9cdcda"/>
                      </a:solidFill>
                    </a:lnL>
                    <a:lnR w="5760">
                      <a:solidFill>
                        <a:srgbClr val="9cdcda"/>
                      </a:solidFill>
                    </a:lnR>
                    <a:lnT w="18720">
                      <a:solidFill>
                        <a:srgbClr val="9cdcda"/>
                      </a:solidFill>
                    </a:lnT>
                    <a:lnB w="5760">
                      <a:solidFill>
                        <a:srgbClr val="9cdcda"/>
                      </a:solidFill>
                    </a:lnB>
                    <a:solidFill>
                      <a:srgbClr val="fbedf3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чащиеся 2 и 3 уровня смотрят клип с песней Ваенги на стихотворение Н. Гумилева «Жираф» и пишут сочинение-миниатюру «Мои мысли, чувства, … впечатления о…», используя сложные предложения с различными видами связи (границы простых предложений выделить, указать средства связи простых предложений).  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9cdcda"/>
                      </a:solidFill>
                    </a:lnL>
                    <a:lnR w="5760">
                      <a:solidFill>
                        <a:srgbClr val="9cdcda"/>
                      </a:solidFill>
                    </a:lnR>
                    <a:lnT w="18720">
                      <a:solidFill>
                        <a:srgbClr val="9cdcda"/>
                      </a:solidFill>
                    </a:lnT>
                    <a:lnB w="5760">
                      <a:solidFill>
                        <a:srgbClr val="9cdcda"/>
                      </a:solidFill>
                    </a:lnB>
                    <a:solidFill>
                      <a:srgbClr val="fbed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чащиеся 1 уровня выполняют №293 предложения 1-3 по заданию учебника с последующей самопроверкой.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9cdcda"/>
                      </a:solidFill>
                    </a:lnL>
                    <a:lnR w="5760">
                      <a:solidFill>
                        <a:srgbClr val="9cdcda"/>
                      </a:solidFill>
                    </a:lnR>
                    <a:lnT w="5760">
                      <a:solidFill>
                        <a:srgbClr val="9cdcda"/>
                      </a:solidFill>
                    </a:lnT>
                    <a:lnB w="5760">
                      <a:solidFill>
                        <a:srgbClr val="9cdcda"/>
                      </a:solidFill>
                    </a:lnB>
                    <a:solidFill>
                      <a:srgbClr val="fdf6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8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Учащиеся 2 уровня выполняют №294 1 абзац с 3 предложения по заданию учебника с последующей взаимопроверкой.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9cdcda"/>
                      </a:solidFill>
                    </a:lnL>
                    <a:lnR w="5760">
                      <a:solidFill>
                        <a:srgbClr val="9cdcda"/>
                      </a:solidFill>
                    </a:lnR>
                    <a:lnT w="5760">
                      <a:solidFill>
                        <a:srgbClr val="9cdcda"/>
                      </a:solidFill>
                    </a:lnT>
                    <a:lnB w="5760">
                      <a:solidFill>
                        <a:srgbClr val="9cdcda"/>
                      </a:solidFill>
                    </a:lnB>
                    <a:solidFill>
                      <a:srgbClr val="fbed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333333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686640" cy="874800"/>
          </a:xfrm>
          <a:prstGeom prst="rect">
            <a:avLst/>
          </a:prstGeom>
          <a:solidFill>
            <a:srgbClr val="ccffff"/>
          </a:solidFill>
          <a:ln w="2844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Итог. Рефлексия.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4360" y="1625760"/>
            <a:ext cx="7772400" cy="4682880"/>
          </a:xfrm>
          <a:prstGeom prst="rect">
            <a:avLst/>
          </a:prstGeom>
          <a:solidFill>
            <a:srgbClr val="f5cddf"/>
          </a:solidFill>
          <a:ln w="7632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Сегодня я узнал.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Было интересно.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Было трудно.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Я понял, что.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Я попробую…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У меня получилось.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Я смог…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Мне захотелось.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686640" cy="874800"/>
          </a:xfrm>
          <a:prstGeom prst="rect">
            <a:avLst/>
          </a:prstGeom>
          <a:solidFill>
            <a:srgbClr val="ccffff"/>
          </a:solidFill>
          <a:ln w="2844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Объяснение домашнего задания. Упр.294 (2абзац); 295.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360" y="1625760"/>
            <a:ext cx="7772400" cy="4682880"/>
          </a:xfrm>
          <a:prstGeom prst="rect">
            <a:avLst/>
          </a:prstGeom>
          <a:solidFill>
            <a:srgbClr val="f5cddf"/>
          </a:solidFill>
          <a:ln w="76320">
            <a:solidFill>
              <a:srgbClr val="ffff66"/>
            </a:solidFill>
            <a:miter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Виды сжатия текста</a:t>
            </a: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1 Исключение подробностей. Сначала выделить главное, а затем убрать подробности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2 Обобщение. Сначала вычленяем существенные факты, объединяем их в одно целое, подбираем соответствующие языковые средства и составляем текст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3. Сочетание исключения и обобщения. 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ff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Спасибо всем!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12" name="Picture 4" descr="gr9"/>
          <p:cNvPicPr/>
          <p:nvPr/>
        </p:nvPicPr>
        <p:blipFill>
          <a:blip r:embed="rId1"/>
          <a:stretch/>
        </p:blipFill>
        <p:spPr>
          <a:xfrm>
            <a:off x="1908000" y="2133720"/>
            <a:ext cx="4391280" cy="3389040"/>
          </a:xfrm>
          <a:prstGeom prst="rect">
            <a:avLst/>
          </a:prstGeom>
          <a:ln w="0">
            <a:noFill/>
          </a:ln>
        </p:spPr>
      </p:pic>
    </p:spTree>
  </p:cSld>
  <p:transition advTm="2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Monotype Corsiva"/>
              </a:rPr>
              <a:t>Цели урока: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7572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научить самостоятельно извлекать необходимую информацию из различных источников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соблюдать нормы речевого поведения в различных сферах и ситуациях общения,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развивать навыки самостоятельной деятельности;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повторить орфограммы н и нн в разных частях речи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совершенствовать коммуникативные способности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Monotype Corsiva"/>
              </a:rPr>
              <a:t>Словарный диктант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288" name="Picture 2" descr="C:\Users\Q\Pictures\1.jpg"/>
          <p:cNvPicPr/>
          <p:nvPr/>
        </p:nvPicPr>
        <p:blipFill>
          <a:blip r:embed="rId1"/>
          <a:stretch/>
        </p:blipFill>
        <p:spPr>
          <a:xfrm>
            <a:off x="2286000" y="1911240"/>
            <a:ext cx="4857840" cy="3643560"/>
          </a:xfrm>
          <a:prstGeom prst="rect">
            <a:avLst/>
          </a:prstGeom>
          <a:ln w="0">
            <a:noFill/>
          </a:ln>
        </p:spPr>
      </p:pic>
    </p:spTree>
  </p:cSld>
  <p:transition advTm="2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200720" cy="1440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Задание </a:t>
            </a:r>
            <a:r>
              <a:rPr b="1" lang="en-US" sz="3200" spc="-1" strike="noStrike">
                <a:solidFill>
                  <a:srgbClr val="993300"/>
                </a:solidFill>
                <a:latin typeface="Monotype Corsiva"/>
              </a:rPr>
              <a:t>I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Словарный диктант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solidFill>
            <a:srgbClr val="f5cddf"/>
          </a:solidFill>
          <a:ln w="2844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Рождё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е в неволе медвежата,  полирова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ая мебель, золочё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купол, глиня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е дощечки, масля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крем, маринова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огурец, ран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боец, масл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ица, жела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стари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смышл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ученик, оловя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отчая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жар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картофель, жар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в духовке, свежезаморож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ран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в руку, гости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ица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200720" cy="1440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2</a:t>
            </a: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Устная коллективная работа.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Дайте характеристику предложений.</a:t>
            </a:r>
            <a:r>
              <a:rPr b="0" lang="ru-RU" sz="2800" spc="-1" strike="noStrike">
                <a:solidFill>
                  <a:srgbClr val="9933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solidFill>
            <a:srgbClr val="f5cddf"/>
          </a:solidFill>
          <a:ln w="2844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Любовь к родному краю, знание его истории – основа, на которой только и может осуществляться рост духовной культуры всего общества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Этот рост начинается именно с корней, а человек должен сохранять культуру страны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Краеведение является самым массовым видом  науки: в сборе материалов могут участвовать и большие ученые, и школьники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Каждый город – это синтез нескольких культур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200720" cy="857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3</a:t>
            </a: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Определите виды связи , составьте схемы.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8029440" cy="4714560"/>
          </a:xfrm>
          <a:prstGeom prst="rect">
            <a:avLst/>
          </a:prstGeom>
          <a:solidFill>
            <a:srgbClr val="f5cddf"/>
          </a:solidFill>
          <a:ln w="2844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1.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Человек должен трудиться, работать в поте лица, кто бы он ни был, и в этом одном заключается смысл и цель его жизни, его счастье, его восторги. (А. Чехов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2. Мы услышали: по реке проплыла лодка, и на душе стало легко. (В. Арсеньев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3.Поставь над собой и сто учителей — они окажутся бессильными, если ты не можешь сам заставить себя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(В Сухомлинский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4.После обеда, когда солнце находилось в зените, мы решили сделать остановку, но неожиданно наши планы изменились: слишком мало времени было у нас в запасе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200720" cy="857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3</a:t>
            </a: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Ответы. Схемы  предложений на доске.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8029440" cy="4714560"/>
          </a:xfrm>
          <a:prstGeom prst="rect">
            <a:avLst/>
          </a:prstGeom>
          <a:solidFill>
            <a:srgbClr val="f5cddf"/>
          </a:solidFill>
          <a:ln w="2844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457200" indent="-457200"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Человек должен трудиться, работать в поте лица, кто бы он ни был, и в этом одном заключается смысл и цель его жизни, его счастье, его восторги. (А. Чехов)</a:t>
            </a: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— </a:t>
            </a: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Сочинительная и подчинительная: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2. Мы услышали: по реке проплыла лодка, и на душе стало легко. (В. Арсеньев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— </a:t>
            </a: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Сочинительная и бессоюзная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200720" cy="857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3</a:t>
            </a: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Ответы. Схемы предложений на доске.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8029440" cy="4714560"/>
          </a:xfrm>
          <a:prstGeom prst="rect">
            <a:avLst/>
          </a:prstGeom>
          <a:solidFill>
            <a:srgbClr val="f5cddf"/>
          </a:solidFill>
          <a:ln w="2844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3.Поставь над собой и сто учителей — они окажутся бессильными, если ты не можешь сам заставить себя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(В Сухомлинский)</a:t>
            </a:r>
            <a:r>
              <a:rPr b="0" i="1" lang="ru-RU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-- Подчинительная и бессоюзная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4.После обеда, когда солнце находилось в зените, мы решили сделать остановку, но неожиданно наши планы изменились: слишком мало времени было у нас в запасе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Narrow"/>
              </a:rPr>
              <a:t>— </a:t>
            </a:r>
            <a:r>
              <a:rPr b="0" i="1" lang="ru-RU" sz="2400" spc="-1" strike="noStrike">
                <a:solidFill>
                  <a:srgbClr val="ff0000"/>
                </a:solidFill>
                <a:latin typeface="Arial Narrow"/>
              </a:rPr>
              <a:t>Сочинительная, подчинительная, бессоюзная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28800" y="642600"/>
            <a:ext cx="7200720" cy="857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4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Работа в парах.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Соберите предложение</a:t>
            </a: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8029440" cy="4714560"/>
          </a:xfrm>
          <a:prstGeom prst="rect">
            <a:avLst/>
          </a:prstGeom>
          <a:solidFill>
            <a:srgbClr val="f5cddf"/>
          </a:solidFill>
          <a:ln w="2844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Жизнь – пример начать как человек отрешиться он жить только по сердца наносной Пришвин того от всего веление.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[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]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</a:rPr>
              <a:t>,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 (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) 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</a:rPr>
              <a:t>: 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[    ]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 advTm="2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5:28:35Z</dcterms:created>
  <dc:creator>Администратор</dc:creator>
  <dc:description/>
  <dc:language>en-US</dc:language>
  <cp:lastModifiedBy>Valued Acer Customer</cp:lastModifiedBy>
  <dcterms:modified xsi:type="dcterms:W3CDTF">2014-09-08T11:47:32Z</dcterms:modified>
  <cp:revision>168</cp:revision>
  <dc:subject/>
  <dc:title>Презентация PowerPoint</dc:title>
</cp:coreProperties>
</file>