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725-C1D0-4B0B-BC61-F1151DFE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6E9-3BC1-4364-B7B7-FD3EF4B4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898-FE34-4AF6-BBC5-545EEF64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15A-1734-415F-A680-DE741E76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03E02-2EDC-421F-A7A4-1422FE3B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7CCBD-7491-46DC-867B-E7504989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69378-538B-4581-82B9-0D63F90F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18003-7BAB-4BCC-ABEC-32D614D3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CB1E5-EEDD-424A-ACAE-3EE9D6B1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7D82-3D5F-45B8-AE51-BEAC776D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F066A-FBBF-4903-BFA2-441F665C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1E2-8E5F-40D6-B3AA-E9A745FE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C89B0-8E52-49F5-A86A-4D111473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C9586-E5D1-476F-9837-D64D018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8FF9A-5B4F-4483-9ACE-A17C97FE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48ABC-521D-4B2F-872C-BCB18897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BDC65-470A-452D-AA17-9E8D9D8B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E97F-1A47-4CC4-B3C0-174AFB25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26FC-B7EA-4434-A7ED-42BF5CD5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001C-B296-4764-BB04-7412C1E9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9976-4CF3-4AA3-A871-94EF7628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B904-3C4C-468B-9450-A44EC3B8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216-22C1-44A0-994D-28C4E65D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9ED8-C872-4AFB-80FA-B59F3C0F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AA82-6BBE-4751-9318-3E0CADB9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3E3A-6C59-4A3C-9770-4D0ACF64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1B34-7A3F-4525-A6B4-B6C3D3B1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9AB7-9EE3-4EE7-8B71-1DF833D8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2BD4-E70C-4B8C-B316-66FF8B9E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1FF3-55E4-4CAD-A11A-2744642A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39D64-6762-4DCC-AC73-49D2526F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94B31-783C-4644-8E13-FE054789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9432A-E85D-43F7-915A-5A436990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F56-1B7A-4095-BE50-2333A39C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5101D-1E7F-4229-997F-0E0E55C0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81AB5B-81A8-41EE-AFB7-2AB9F8A5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639AA-54A7-4534-80E3-4C39700F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99E79-7066-4EC6-BBA5-87D00C7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DDF52-FDCD-4ED6-A96D-3ECBDC5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65A35-948E-40A3-8956-AADE4F95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9B511-4AC0-4491-842D-F43D0BFB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42F17-968D-4CA7-B972-1F9DD339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2E0DE-C74C-4ADB-B003-D384E063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FF5-9805-40B2-B375-E8DF5437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6B7-2859-43B2-8CCB-601986B4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ED8-8E9B-45F9-B8D6-15C769B8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049-EF9F-4FE5-9A6C-8D2F3AB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4BA-8617-43DD-BBB2-E30752C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E91D-7E44-4A22-A65D-5AC52C665FA7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D8C5-A6A7-4C33-BA43-37C5CE3EA4BF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02F5-2BF4-419A-A1E7-B2C1DADB8284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54D6-E3F9-4FCF-AF9B-11D4D8CBE4C4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informatika-i-my.webnode.ru/" TargetMode="External"/><Relationship Id="rId4" Type="http://schemas.openxmlformats.org/officeDocument/2006/relationships/hyperlink" Target="http://informatika-i-my.webnode.ru/" TargetMode="External"/><Relationship Id="rId5" Type="http://schemas.openxmlformats.org/officeDocument/2006/relationships/hyperlink" Target="http://informatika-i-my.webnode.ru/" TargetMode="External"/><Relationship Id="rId6" Type="http://schemas.openxmlformats.org/officeDocument/2006/relationships/hyperlink" Target="http://informatika-i-my.webnode.ru/" TargetMode="External"/><Relationship Id="rId7" Type="http://schemas.openxmlformats.org/officeDocument/2006/relationships/hyperlink" Target="http://informatika-i-my.webnode.ru/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рнпен\Мои документы\Загрузки\i.jpeg"/>
          <p:cNvPicPr/>
          <p:nvPr/>
        </p:nvPicPr>
        <p:blipFill>
          <a:blip r:embed="rId1"/>
          <a:stretch/>
        </p:blipFill>
        <p:spPr>
          <a:xfrm>
            <a:off x="324000" y="4002120"/>
            <a:ext cx="3600360" cy="23796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2"/>
          <p:cNvSpPr/>
          <p:nvPr/>
        </p:nvSpPr>
        <p:spPr>
          <a:xfrm>
            <a:off x="755640" y="2637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растные психологические особенности пятиклассни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рямоугольник 5" descr=""/>
          <p:cNvPicPr/>
          <p:nvPr/>
        </p:nvPicPr>
        <p:blipFill>
          <a:blip r:embed="rId2"/>
          <a:stretch/>
        </p:blipFill>
        <p:spPr>
          <a:xfrm>
            <a:off x="-42840" y="414360"/>
            <a:ext cx="9352080" cy="20113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5724360" y="4149720"/>
            <a:ext cx="29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 и провела классный 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ковлева Ири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651640" y="6238440"/>
            <a:ext cx="32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e58b6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8e58b6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en-US" sz="1600" spc="-1" strike="noStrike" u="sng">
                <a:solidFill>
                  <a:srgbClr val="8e58b6"/>
                </a:solidFill>
                <a:uFillTx/>
                <a:latin typeface="Times New Roman"/>
                <a:hlinkClick r:id="rId5"/>
              </a:rPr>
              <a:t>informatika</a:t>
            </a:r>
            <a:r>
              <a:rPr b="0" lang="ru-RU" sz="1600" spc="-1" strike="noStrike" u="sng">
                <a:solidFill>
                  <a:srgbClr val="8e58b6"/>
                </a:solidFill>
                <a:uFillTx/>
                <a:latin typeface="Times New Roman"/>
                <a:hlinkClick r:id="rId6"/>
              </a:rPr>
              <a:t>-</a:t>
            </a:r>
            <a:r>
              <a:rPr b="0" lang="en-US" sz="1600" spc="-1" strike="noStrike" u="sng">
                <a:solidFill>
                  <a:srgbClr val="8e58b6"/>
                </a:solidFill>
                <a:uFillTx/>
                <a:latin typeface="Times New Roman"/>
                <a:hlinkClick r:id="rId7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nod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971640" y="1916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азман О.С. Педагогика свободы и педагогика необходимости. М. 1994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злова О.Н. Введение в теорию воспитания. Пособие для преподавателей. М. 1994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ава ребенка. (Конвенция ООН о правах ребенк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Прямоугольник 3" descr=""/>
          <p:cNvPicPr/>
          <p:nvPr/>
        </p:nvPicPr>
        <p:blipFill>
          <a:blip r:embed="rId1"/>
          <a:stretch/>
        </p:blipFill>
        <p:spPr>
          <a:xfrm>
            <a:off x="579600" y="365040"/>
            <a:ext cx="80643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250920" y="242100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ятиклассник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переходный от младшего к подростковому возраст. Возраст связан с постепенным обретением чувства взрослости. Характерно усиление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езависимост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детей от взрослых. Характерен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егативиз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стремление противостоять, не поддаваться любым влияниям, предложениям, суждениям, чувствам взрослых. Происходит постепенная замена ведущей учебной деятельности на ведущую деятельность общения –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становление доверительно- дружеских отношений со сверстникам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C:\Documents and Settings\рнпен\Мои документы\Загрузки\i.jpeg7.jpeg"/>
          <p:cNvPicPr/>
          <p:nvPr/>
        </p:nvPicPr>
        <p:blipFill>
          <a:blip r:embed="rId1"/>
          <a:stretch/>
        </p:blipFill>
        <p:spPr>
          <a:xfrm>
            <a:off x="468360" y="476280"/>
            <a:ext cx="1955880" cy="15127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3"/>
          <p:cNvSpPr/>
          <p:nvPr/>
        </p:nvSpPr>
        <p:spPr>
          <a:xfrm>
            <a:off x="2268360" y="260280"/>
            <a:ext cx="489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озрастные психологические особенности 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im8-tub-ru.yandex.net/i?id=100917300-39-72&amp;n=21"/>
          <p:cNvPicPr/>
          <p:nvPr/>
        </p:nvPicPr>
        <p:blipFill>
          <a:blip r:embed="rId2"/>
          <a:stretch/>
        </p:blipFill>
        <p:spPr>
          <a:xfrm>
            <a:off x="7020000" y="404640"/>
            <a:ext cx="165564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http://im8-tub-ru.yandex.net/i?id=491463205-44-72&amp;n=21"/>
          <p:cNvPicPr/>
          <p:nvPr/>
        </p:nvPicPr>
        <p:blipFill>
          <a:blip r:embed="rId1"/>
          <a:stretch/>
        </p:blipFill>
        <p:spPr>
          <a:xfrm>
            <a:off x="250920" y="189000"/>
            <a:ext cx="2476440" cy="25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im4-tub-ru.yandex.net/i?id=92028134-28-72&amp;n=21"/>
          <p:cNvPicPr/>
          <p:nvPr/>
        </p:nvPicPr>
        <p:blipFill>
          <a:blip r:embed="rId2"/>
          <a:stretch/>
        </p:blipFill>
        <p:spPr>
          <a:xfrm>
            <a:off x="6084720" y="4005360"/>
            <a:ext cx="2903760" cy="23176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"/>
          <p:cNvSpPr/>
          <p:nvPr/>
        </p:nvSpPr>
        <p:spPr>
          <a:xfrm>
            <a:off x="2843280" y="189000"/>
            <a:ext cx="59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ые нормы поведения установленные взрослыми отходят на второй план. 5-классник переходит на внутригрупповые нормы поведения (те, которые установил сам и сверстни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250920" y="2997360"/>
            <a:ext cx="604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тремление к личному авторитету среди сверстнико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ождает активный поиск для образца подражания. Начинают играть роли в школе, дома и пробуют, как на ту роль будут реагировать взрослые (роль лидера, роль знатока, души компании, задир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рнпен\Мои документы\Загрузки\i.jpeg1.jpeg"/>
          <p:cNvPicPr/>
          <p:nvPr/>
        </p:nvPicPr>
        <p:blipFill>
          <a:blip r:embed="rId1"/>
          <a:stretch/>
        </p:blipFill>
        <p:spPr>
          <a:xfrm>
            <a:off x="395280" y="2421000"/>
            <a:ext cx="2527200" cy="19447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"/>
          <p:cNvSpPr/>
          <p:nvPr/>
        </p:nvSpPr>
        <p:spPr>
          <a:xfrm>
            <a:off x="4211640" y="40464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н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вышенное внимание ребенка к себ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 своей внешности, самопознанию, самовоспитанию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вышенная критичность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 себе и окружающим. Очень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шаткая самооценк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оторая зависит от: положительной либо отрицательной оценки своих школьных способностей, от того, на сколько налажены межличностные отношения со сверстниками, а так же педагогами, какое взаимоотношение в семь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C:\Documents and Settings\рнпен\Мои документы\Загрузки\i.jpeg3.jpeg"/>
          <p:cNvPicPr/>
          <p:nvPr/>
        </p:nvPicPr>
        <p:blipFill>
          <a:blip r:embed="rId2"/>
          <a:stretch/>
        </p:blipFill>
        <p:spPr>
          <a:xfrm>
            <a:off x="1332000" y="404640"/>
            <a:ext cx="1944720" cy="1881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C:\Documents and Settings\рнпен\Мои документы\Загрузки\i.jpeg8.jpeg"/>
          <p:cNvPicPr/>
          <p:nvPr/>
        </p:nvPicPr>
        <p:blipFill>
          <a:blip r:embed="rId3"/>
          <a:stretch/>
        </p:blipFill>
        <p:spPr>
          <a:xfrm>
            <a:off x="2050920" y="4508640"/>
            <a:ext cx="2030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3203640" y="333360"/>
            <a:ext cx="55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вязи с этим начинают проявляться такие признаки как: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ямство, внутренние переживания,  стремление к самостоятельности, замкнутость (особенно когда родители не считаются с внутренними переживаниями ребенка), ранимость, обидчивость и отгороженость.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http://im0-tub-ru.yandex.net/i?id=269007456-46-72&amp;n=21"/>
          <p:cNvPicPr/>
          <p:nvPr/>
        </p:nvPicPr>
        <p:blipFill>
          <a:blip r:embed="rId1"/>
          <a:stretch/>
        </p:blipFill>
        <p:spPr>
          <a:xfrm>
            <a:off x="468360" y="476280"/>
            <a:ext cx="2708280" cy="1873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im7-tub-ru.yandex.net/i?id=230260054-64-72&amp;n=21"/>
          <p:cNvPicPr/>
          <p:nvPr/>
        </p:nvPicPr>
        <p:blipFill>
          <a:blip r:embed="rId2"/>
          <a:stretch/>
        </p:blipFill>
        <p:spPr>
          <a:xfrm>
            <a:off x="5867280" y="3951360"/>
            <a:ext cx="2936880" cy="220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5"/>
          <p:cNvSpPr/>
          <p:nvPr/>
        </p:nvSpPr>
        <p:spPr>
          <a:xfrm>
            <a:off x="395280" y="3716280"/>
            <a:ext cx="54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 обостряется чувство собственного достоинства (и если его неосторожно затронуть, ребенок либо отвечает на обиду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зостью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что нас ошеломляет, либ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живает обиду в себе и еще больше отгораживает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на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ttp://im7-tub-ru.yandex.net/i?id=103819252-04-72&amp;n=21"/>
          <p:cNvPicPr/>
          <p:nvPr/>
        </p:nvPicPr>
        <p:blipFill>
          <a:blip r:embed="rId1"/>
          <a:stretch/>
        </p:blipFill>
        <p:spPr>
          <a:xfrm>
            <a:off x="6443640" y="4292640"/>
            <a:ext cx="2508120" cy="20019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"/>
          <p:cNvSpPr/>
          <p:nvPr/>
        </p:nvSpPr>
        <p:spPr>
          <a:xfrm>
            <a:off x="2484360" y="0"/>
            <a:ext cx="638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формируют себе идеал (не всегда положительный) и стремятся ему подражать. Важно, чтобы в этот момент ребенок мог откровенно общаться как с родителями, так и с уч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im5-tub-ru.yandex.net/i?id=199264094-25-72&amp;n=21"/>
          <p:cNvPicPr/>
          <p:nvPr/>
        </p:nvPicPr>
        <p:blipFill>
          <a:blip r:embed="rId2"/>
          <a:stretch/>
        </p:blipFill>
        <p:spPr>
          <a:xfrm>
            <a:off x="468360" y="189000"/>
            <a:ext cx="1727280" cy="26175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468360" y="2781360"/>
            <a:ext cx="619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жно заранее задуматься о перестройке своего отношения к ребенку,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тказаться от роли всезнающего наставника и принять роль старшего друга и товарища.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 характеризуется угасанием духа, интеллектуального соперничества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душием к учеб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C:\Documents and Settings\рнпен\Мои документы\Загрузки\i.jpeg2.jpeg"/>
          <p:cNvPicPr/>
          <p:nvPr/>
        </p:nvPicPr>
        <p:blipFill>
          <a:blip r:embed="rId1"/>
          <a:stretch/>
        </p:blipFill>
        <p:spPr>
          <a:xfrm>
            <a:off x="395280" y="333360"/>
            <a:ext cx="8377200" cy="624528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"/>
          <p:cNvSpPr/>
          <p:nvPr/>
        </p:nvSpPr>
        <p:spPr>
          <a:xfrm>
            <a:off x="324000" y="3860640"/>
            <a:ext cx="85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ебная деятельность характеризуется крайней неорганизованностью, импульсивностью. Они не умеют планировать свои действия, контролировать их, часто перескакивают с одного на другое не завершив начатое.  Все это связано с нервно-психическим состоя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1155960" y="2783880"/>
            <a:ext cx="701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ации родителя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2" descr="6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29528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3"/>
          <p:cNvSpPr/>
          <p:nvPr/>
        </p:nvSpPr>
        <p:spPr>
          <a:xfrm>
            <a:off x="250920" y="1916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4356"/>
                </a:solidFill>
                <a:latin typeface="Times New Roman"/>
                <a:ea typeface="Times New Roman"/>
              </a:rPr>
              <a:t>Воодушевите ребенка на рассказ о своих школьных дел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3276720" y="33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c31"/>
                </a:solidFill>
                <a:latin typeface="Times New Roman"/>
                <a:ea typeface="Times New Roman"/>
              </a:rPr>
              <a:t>Регулярно беседуйте с классным руководителем и  учителями вашего ребенка о его успеваемости, поведении и взаимоотношениях с друг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4356000" y="1773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связывайте оценки за успеваемость ребенка со своей системой наказаний и поощр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5219640" y="350028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могайте ребенку выполнять домашние задания, но не делайте их с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3203640" y="5229360"/>
            <a:ext cx="40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3540a"/>
                </a:solidFill>
                <a:latin typeface="Times New Roman"/>
                <a:ea typeface="Times New Roman"/>
              </a:rPr>
              <a:t>Обратите внимание на занятия спортом или прогулки, правильное питание, витаминизаци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324000" y="3645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обенные усилия прилагайте для того, чтобы поддерживать спокойную и стабильную атмосферу в доме, когда в школьной жизни ребенка происходят из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179280" y="3933720"/>
            <a:ext cx="87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важно похвалить и обнять ребенка с самого утра. Это аванс на весь долгий и трудный ден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http://im8-tub-ru.yandex.net/i?id=56459344-21-72&amp;n=21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6:12:36Z</dcterms:created>
  <dc:creator>рнпен</dc:creator>
  <dc:description/>
  <dc:language>en-US</dc:language>
  <cp:lastModifiedBy>Teacher-PC</cp:lastModifiedBy>
  <dcterms:modified xsi:type="dcterms:W3CDTF">2015-03-06T00:51:09Z</dcterms:modified>
  <cp:revision>35</cp:revision>
  <dc:subject/>
  <dc:title>Слайд 1</dc:title>
</cp:coreProperties>
</file>