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C52-51EC-4843-9C45-28383DEB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456D-53B9-4A7E-B33A-910C03C0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35B-AF59-435D-BA22-3363D119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865-8520-4870-A038-729AA905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2945-AF66-4D2A-8B92-72D46567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D919-D64E-4837-A049-7EA9BB36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730D-0AC6-40D2-BAFA-99FC1306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244D-72EB-48D5-800C-CECF1F80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A775-3799-4FB8-BF6D-A953C06B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EDDB-1F41-4343-98F9-148CEDE3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02E2-7162-4A3E-9EA7-33243A5D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FE0-151C-43ED-867B-E35A23E6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FB97-D723-4FD2-848E-29E68B2F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DCA7-27EC-4206-BBE0-5EA145F8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12B7-5229-4E2F-8A49-11E9DB30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AC11-39E8-485D-9E6C-EF6652EB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4A56-DADA-4CD7-8FC8-BAFA5598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20D-D1AF-42BB-8237-FC1B5E51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D88-2917-42DA-A7AD-06C31937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179-77C0-488B-89FE-702B0F2F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14E-AE6A-4C53-B9AD-0E929FE5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16D-F7DF-4E2B-BD6E-69307ACE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7D3-68A5-4A18-A3C6-E7875864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A0BA-02AB-4205-8E7F-53AA5FBE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3640" cy="4046400"/>
            <a:chOff x="0" y="2438280"/>
            <a:chExt cx="9143640" cy="404640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560" cy="6091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6720" cy="1942920"/>
            </a:xfrm>
            <a:custGeom>
              <a:avLst/>
              <a:gdLst>
                <a:gd name="textAreaLeft" fmla="*/ 0 w 4266720"/>
                <a:gd name="textAreaRight" fmla="*/ 4267080 w 426672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320" cy="1955520"/>
            </a:xfrm>
            <a:custGeom>
              <a:avLst/>
              <a:gdLst>
                <a:gd name="textAreaLeft" fmla="*/ 0 w 3811320"/>
                <a:gd name="textAreaRight" fmla="*/ 3811680 w 3811320"/>
                <a:gd name="textAreaTop" fmla="*/ 0 h 1955520"/>
                <a:gd name="textAreaBottom" fmla="*/ 1955880 h 195552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3720" cy="1209240"/>
            </a:xfrm>
            <a:custGeom>
              <a:avLst/>
              <a:gdLst>
                <a:gd name="textAreaLeft" fmla="*/ 0 w 3123720"/>
                <a:gd name="textAreaRight" fmla="*/ 3124080 w 3123720"/>
                <a:gd name="textAreaTop" fmla="*/ 0 h 1209240"/>
                <a:gd name="textAreaBottom" fmla="*/ 1209600 h 120924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5"/>
                </a:gs>
                <a:gs pos="100000">
                  <a:srgbClr val="006e6b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4840" cy="1900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400" cy="1900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7720" cy="43632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080" cy="485280"/>
            </a:xfrm>
            <a:custGeom>
              <a:avLst/>
              <a:gdLst>
                <a:gd name="textAreaLeft" fmla="*/ 0 w 1144080"/>
                <a:gd name="textAreaRight" fmla="*/ 1144440 w 114408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520" cy="1398240"/>
            </a:xfrm>
            <a:custGeom>
              <a:avLst/>
              <a:gdLst>
                <a:gd name="textAreaLeft" fmla="*/ 0 w 3809520"/>
                <a:gd name="textAreaRight" fmla="*/ 3809880 w 3809520"/>
                <a:gd name="textAreaTop" fmla="*/ 0 h 1398240"/>
                <a:gd name="textAreaBottom" fmla="*/ 1398600 h 139824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480" cy="40932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673"/>
                </a:gs>
                <a:gs pos="100000">
                  <a:srgbClr val="006e6b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560" cy="10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160" cy="607680"/>
            </a:xfrm>
            <a:custGeom>
              <a:avLst/>
              <a:gdLst>
                <a:gd name="textAreaLeft" fmla="*/ 0 w 1136160"/>
                <a:gd name="textAreaRight" fmla="*/ 1136520 w 11361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673"/>
                </a:gs>
                <a:gs pos="100000">
                  <a:srgbClr val="006e6b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360" cy="35676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673"/>
                </a:gs>
                <a:gs pos="100000">
                  <a:srgbClr val="006e6b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120" cy="1480680"/>
            </a:xfrm>
            <a:custGeom>
              <a:avLst/>
              <a:gdLst>
                <a:gd name="textAreaLeft" fmla="*/ 0 w 4119120"/>
                <a:gd name="textAreaRight" fmla="*/ 4119480 w 4119120"/>
                <a:gd name="textAreaTop" fmla="*/ 0 h 1480680"/>
                <a:gd name="textAreaBottom" fmla="*/ 1481040 h 148068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5"/>
                </a:gs>
                <a:gs pos="100000">
                  <a:srgbClr val="006e6b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520" cy="1731600"/>
            </a:xfrm>
            <a:custGeom>
              <a:avLst/>
              <a:gdLst>
                <a:gd name="textAreaLeft" fmla="*/ 0 w 4322520"/>
                <a:gd name="textAreaRight" fmla="*/ 4322880 w 4322520"/>
                <a:gd name="textAreaTop" fmla="*/ 0 h 1731600"/>
                <a:gd name="textAreaBottom" fmla="*/ 1731960 h 173160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6E48E4-A5E0-4139-93CB-EF84CB77352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3640" cy="4046400"/>
            <a:chOff x="0" y="2438280"/>
            <a:chExt cx="9143640" cy="404640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560" cy="6091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6720" cy="1942920"/>
            </a:xfrm>
            <a:custGeom>
              <a:avLst/>
              <a:gdLst>
                <a:gd name="textAreaLeft" fmla="*/ 0 w 4266720"/>
                <a:gd name="textAreaRight" fmla="*/ 4267080 w 426672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320" cy="1955520"/>
            </a:xfrm>
            <a:custGeom>
              <a:avLst/>
              <a:gdLst>
                <a:gd name="textAreaLeft" fmla="*/ 0 w 3811320"/>
                <a:gd name="textAreaRight" fmla="*/ 3811680 w 3811320"/>
                <a:gd name="textAreaTop" fmla="*/ 0 h 1955520"/>
                <a:gd name="textAreaBottom" fmla="*/ 1955880 h 195552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3720" cy="1209240"/>
            </a:xfrm>
            <a:custGeom>
              <a:avLst/>
              <a:gdLst>
                <a:gd name="textAreaLeft" fmla="*/ 0 w 3123720"/>
                <a:gd name="textAreaRight" fmla="*/ 3124080 w 3123720"/>
                <a:gd name="textAreaTop" fmla="*/ 0 h 1209240"/>
                <a:gd name="textAreaBottom" fmla="*/ 1209600 h 120924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5"/>
                </a:gs>
                <a:gs pos="100000">
                  <a:srgbClr val="006e6b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4840" cy="1900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400" cy="1900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7720" cy="43632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080" cy="485280"/>
            </a:xfrm>
            <a:custGeom>
              <a:avLst/>
              <a:gdLst>
                <a:gd name="textAreaLeft" fmla="*/ 0 w 1144080"/>
                <a:gd name="textAreaRight" fmla="*/ 1144440 w 114408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520" cy="1398240"/>
            </a:xfrm>
            <a:custGeom>
              <a:avLst/>
              <a:gdLst>
                <a:gd name="textAreaLeft" fmla="*/ 0 w 3809520"/>
                <a:gd name="textAreaRight" fmla="*/ 3809880 w 3809520"/>
                <a:gd name="textAreaTop" fmla="*/ 0 h 1398240"/>
                <a:gd name="textAreaBottom" fmla="*/ 1398600 h 139824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480" cy="40932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673"/>
                </a:gs>
                <a:gs pos="100000">
                  <a:srgbClr val="006e6b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560" cy="10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160" cy="607680"/>
            </a:xfrm>
            <a:custGeom>
              <a:avLst/>
              <a:gdLst>
                <a:gd name="textAreaLeft" fmla="*/ 0 w 1136160"/>
                <a:gd name="textAreaRight" fmla="*/ 1136520 w 11361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673"/>
                </a:gs>
                <a:gs pos="100000">
                  <a:srgbClr val="006e6b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360" cy="35676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673"/>
                </a:gs>
                <a:gs pos="100000">
                  <a:srgbClr val="006e6b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120" cy="1480680"/>
            </a:xfrm>
            <a:custGeom>
              <a:avLst/>
              <a:gdLst>
                <a:gd name="textAreaLeft" fmla="*/ 0 w 4119120"/>
                <a:gd name="textAreaRight" fmla="*/ 4119480 w 4119120"/>
                <a:gd name="textAreaTop" fmla="*/ 0 h 1480680"/>
                <a:gd name="textAreaBottom" fmla="*/ 1481040 h 148068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5"/>
                </a:gs>
                <a:gs pos="100000">
                  <a:srgbClr val="006e6b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520" cy="1731600"/>
            </a:xfrm>
            <a:custGeom>
              <a:avLst/>
              <a:gdLst>
                <a:gd name="textAreaLeft" fmla="*/ 0 w 4322520"/>
                <a:gd name="textAreaRight" fmla="*/ 4322880 w 4322520"/>
                <a:gd name="textAreaTop" fmla="*/ 0 h 1731600"/>
                <a:gd name="textAreaBottom" fmla="*/ 1731960 h 173160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30534D-A152-4D45-ADE0-692427F5648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01336_579388_6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0" y="0"/>
            <a:ext cx="6629040" cy="5883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сякий живой организм обеспечивая  жизнедеятельность клеток, тканей и органов должен непрерывно расходовать входящие в состав организма материалы. Для поддержания здорового образа жизни необходимо, чтобы эти траты целиком покрывались пищей. Совершенно естественно, что безупречное питание человека должна содержать именно  те материалы, которые входят в состав его организма, т.е. белки, жиры, углеводы, витамины, минеральные материалы и воду. Так как суммарные затраты организмом этих материалов зависят от ряда факторов: возраста, облика труда, влияний окружающей среды и состояния самого организма, то необходимо иметь представление о значении отдельных материалов и потребности в них для безупречного питания и здорового образа жизни в зависимости от указанных фак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fruits_and_vegetables"/>
          <p:cNvPicPr/>
          <p:nvPr/>
        </p:nvPicPr>
        <p:blipFill>
          <a:blip r:embed="rId1"/>
          <a:stretch/>
        </p:blipFill>
        <p:spPr>
          <a:xfrm>
            <a:off x="5638680" y="3765600"/>
            <a:ext cx="3504960" cy="3092040"/>
          </a:xfrm>
          <a:prstGeom prst="rect">
            <a:avLst/>
          </a:prstGeom>
          <a:ln w="9525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b9efee"/>
                </a:solidFill>
                <a:latin typeface="Garamond"/>
              </a:rPr>
              <a:t>Здоровый образ жизни и ухоженность</a:t>
            </a:r>
            <a:endParaRPr b="0" lang="ru-RU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158big"/>
          <p:cNvPicPr/>
          <p:nvPr/>
        </p:nvPicPr>
        <p:blipFill>
          <a:blip r:embed="rId1"/>
          <a:stretch/>
        </p:blipFill>
        <p:spPr>
          <a:xfrm>
            <a:off x="228600" y="1905120"/>
            <a:ext cx="2857320" cy="4533480"/>
          </a:xfrm>
          <a:prstGeom prst="rect">
            <a:avLst/>
          </a:prstGeom>
          <a:ln w="9525">
            <a:noFill/>
          </a:ln>
        </p:spPr>
      </p:pic>
      <p:pic>
        <p:nvPicPr>
          <p:cNvPr id="140" name="Picture 6" descr="B7087E9B69A0D3E50FEECA6319C4F3DF-48810"/>
          <p:cNvPicPr/>
          <p:nvPr/>
        </p:nvPicPr>
        <p:blipFill>
          <a:blip r:embed="rId2"/>
          <a:stretch/>
        </p:blipFill>
        <p:spPr>
          <a:xfrm>
            <a:off x="3886200" y="1905120"/>
            <a:ext cx="5257440" cy="4571640"/>
          </a:xfrm>
          <a:prstGeom prst="rect">
            <a:avLst/>
          </a:prstGeom>
          <a:ln w="9525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457200" y="0"/>
            <a:ext cx="4571640" cy="801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хоженность – это  обязательное качество и непременное условие для  ведущего здоровый образ жизни человека, независимо от его пола или возраста. Хотя понятие ухоженность несколько размыто, очевидно, что состояние кожи, волос на голове, лице и теле, ногтей, зубов, фигуры вкупе с гармоничностью, чистотой и аккуратностью одежды, обуви и аксессуаров, а также аромат, исходящий от человека – характеризуют его ухоженность в очень полной м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хоженность - это далеко не внешний вид, скорее когда Вы спокойно и непринужденно можете снять с себя все, что на Вас надето, и не станете от этого хуже Вы можете считать, что ухож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glavn"/>
          <p:cNvPicPr/>
          <p:nvPr/>
        </p:nvPicPr>
        <p:blipFill>
          <a:blip r:embed="rId1"/>
          <a:stretch/>
        </p:blipFill>
        <p:spPr>
          <a:xfrm>
            <a:off x="5867280" y="457200"/>
            <a:ext cx="2925360" cy="3895200"/>
          </a:xfrm>
          <a:prstGeom prst="rect">
            <a:avLst/>
          </a:prstGeom>
          <a:ln w="9525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к материалу о спорт е -руб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000000"/>
                </a:solidFill>
                <a:latin typeface="Garamond"/>
              </a:rPr>
              <a:t>Здоровый образ жизни и увлечения (хобби)</a:t>
            </a:r>
            <a:endParaRPr b="0" lang="ru-RU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380880" y="457200"/>
            <a:ext cx="4571640" cy="771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уществуют десятки увлечений (хобби), которыми занимаются люди в свободное время. Среди них есть очень распространенные и совершенно безобидные (вязание, вышивание, рыбалка, туризм и т.п.) , а есть и такие, которые со временем превращаются в зависимость (например, игрома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ля человека, ведущего здоровый образ жизни, наличие хобби – мощная поддержка психического здоровья и гармонии с окружающим миром. Ниже приведены те виды здоровых увлечений, которые реализуемы в условиях Российской действительности, по крайней мере, для части россия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pic_molod"/>
          <p:cNvPicPr/>
          <p:nvPr/>
        </p:nvPicPr>
        <p:blipFill>
          <a:blip r:embed="rId1"/>
          <a:stretch/>
        </p:blipFill>
        <p:spPr>
          <a:xfrm>
            <a:off x="5410080" y="228600"/>
            <a:ext cx="3733560" cy="3381120"/>
          </a:xfrm>
          <a:prstGeom prst="rect">
            <a:avLst/>
          </a:prstGeom>
          <a:ln w="9525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001336_522739_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p40_plakatvzdorovomtele-zdorovyiydux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b9efee"/>
                </a:solidFill>
                <a:latin typeface="Garamond"/>
              </a:rPr>
              <a:t>Здоровый образ жизни</a:t>
            </a: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1447920"/>
            <a:ext cx="9143640" cy="13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ждый нормальный человек стремится прожить свою жизнь долго и счастливо. Но все ли мы делаем для этого? Если проанализировать "каждый шаг" нашего типичного дня, то, скорее всего, все обстоит с "точностью до наоборот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1905120"/>
            <a:ext cx="9143640" cy="5301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амые "экстремалы" утром, еле встав с постели, как биороботы собираются на работу или учебу, днем нервничают по пустякам, объедаются за столом, ссорятся с близкими, завидуют знакомым и коллегам, вкладывают все силы и средства на приобретение очередной модной вещи или "игрушки для взрослых", по вечерам отдыхают на диване у ТВ, а выходной мечтают провести у мангала с шашлыками или заняться "шопингом". Остальные, не все но многие, проводят свой день, дублируя этот образ жизни в большей или меньшей степен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Естественным следствием такого образа жизни являются болезни, нервные расстройства и проблемы на работе и в семье. Болезни мы лечим лекарствами, большинство из которых имеют столько побочных эффектов, что одно лечат, а другое калечат. Проблемы, в зависимости от пола, "заедаем" или "запиваем". Круг замыкается и разорвать его можно только сделав крутой вираж в сторону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304920" y="457200"/>
            <a:ext cx="3962160" cy="667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Здоровый образ жизни предполагает оптимальный режим труда и отдыха, правильное питание, достаточную двигательную активность, личную гигиену, закаливание, искоренение вредных привычек, любовь к близким, позитивное восприятие жизни. Он позволяет до глубокой старости сохранять нравственное, психическое и физическое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290"/>
          <p:cNvPicPr/>
          <p:nvPr/>
        </p:nvPicPr>
        <p:blipFill>
          <a:blip r:embed="rId1"/>
          <a:stretch/>
        </p:blipFill>
        <p:spPr>
          <a:xfrm>
            <a:off x="4448160" y="3666960"/>
            <a:ext cx="4695480" cy="3190680"/>
          </a:xfrm>
          <a:prstGeom prst="rect">
            <a:avLst/>
          </a:prstGeom>
          <a:ln w="9525">
            <a:noFill/>
          </a:ln>
        </p:spPr>
      </p:pic>
      <p:pic>
        <p:nvPicPr>
          <p:cNvPr id="120" name="Picture 6" descr="547187_3"/>
          <p:cNvPicPr/>
          <p:nvPr/>
        </p:nvPicPr>
        <p:blipFill>
          <a:blip r:embed="rId2"/>
          <a:stretch/>
        </p:blipFill>
        <p:spPr>
          <a:xfrm>
            <a:off x="4419720" y="297000"/>
            <a:ext cx="4723920" cy="3207960"/>
          </a:xfrm>
          <a:prstGeom prst="rect">
            <a:avLst/>
          </a:prstGeom>
          <a:ln w="9525">
            <a:noFill/>
          </a:ln>
        </p:spPr>
      </p:pic>
    </p:spTree>
  </p:cSld>
  <p:transition spd="slow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" descr="SW055_L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000000"/>
                </a:solidFill>
                <a:latin typeface="Garamond"/>
              </a:rPr>
              <a:t>Здоровый образ жизни и здоровье</a:t>
            </a:r>
            <a:endParaRPr b="0" lang="ru-RU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304920" y="0"/>
            <a:ext cx="4571640" cy="804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умается, ни у кого нет сомнения в том, что здоровый образ жизни ведет к процветанию. Все мы от рождения получаем определенный генетический набор, который должен обеспечить достижение максимально возможных жизненных целей. Но реализовать эти возможности на практике и достичь своего жизненного потолка даже в идеальных жизненных условиях могут только здоровые люди, которых среди ведущих здоровый образ жизни существенно больш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доровье достаточно многогранная категория. По определению Всемирной   Организации Здравоохранения, под здоровьем понимают  "состояние  полного физического, психического и социального благополучия, а не только отсутствие болезни". Если тело здорово, но нет ощущения радости и полноты жизни, то это уже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Qy"/>
          <p:cNvPicPr/>
          <p:nvPr/>
        </p:nvPicPr>
        <p:blipFill>
          <a:blip r:embed="rId1"/>
          <a:stretch/>
        </p:blipFill>
        <p:spPr>
          <a:xfrm>
            <a:off x="5029200" y="0"/>
            <a:ext cx="4114440" cy="5705280"/>
          </a:xfrm>
          <a:prstGeom prst="rect">
            <a:avLst/>
          </a:prstGeom>
          <a:ln w="9525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2lean-0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000000"/>
                </a:solidFill>
                <a:latin typeface="Garamond"/>
              </a:rPr>
              <a:t>Здоровый образ жизни и физкультура</a:t>
            </a:r>
            <a:endParaRPr b="0" lang="ru-RU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380880"/>
            <a:ext cx="609552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егулярные физические нагрузки и физкультура также важны для здорового образа жизни, как и безупречное питание. Они поддерживают здоровье, предохраняют от заболеваний и, чему масса свидетельств, замедляют процесс старения. Физкультура полезна в любом возрасте, поскольку обычная дневная активность редко может снабдить достаточную физическую нагру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baner_molod"/>
          <p:cNvPicPr/>
          <p:nvPr/>
        </p:nvPicPr>
        <p:blipFill>
          <a:blip r:embed="rId1"/>
          <a:stretch/>
        </p:blipFill>
        <p:spPr>
          <a:xfrm>
            <a:off x="6019920" y="228600"/>
            <a:ext cx="2771280" cy="2266560"/>
          </a:xfrm>
          <a:prstGeom prst="rect">
            <a:avLst/>
          </a:prstGeom>
          <a:ln w="9525">
            <a:noFill/>
          </a:ln>
        </p:spPr>
      </p:pic>
      <p:pic>
        <p:nvPicPr>
          <p:cNvPr id="129" name="Picture 6" descr="1243850222_lifestyle"/>
          <p:cNvPicPr/>
          <p:nvPr/>
        </p:nvPicPr>
        <p:blipFill>
          <a:blip r:embed="rId2"/>
          <a:stretch/>
        </p:blipFill>
        <p:spPr>
          <a:xfrm>
            <a:off x="5943600" y="3657600"/>
            <a:ext cx="2776320" cy="2636640"/>
          </a:xfrm>
          <a:prstGeom prst="rect">
            <a:avLst/>
          </a:prstGeom>
          <a:ln w="9525">
            <a:noFill/>
          </a:ln>
        </p:spPr>
      </p:pic>
      <p:sp>
        <p:nvSpPr>
          <p:cNvPr id="130" name="Rectangle 9"/>
          <p:cNvSpPr/>
          <p:nvPr/>
        </p:nvSpPr>
        <p:spPr>
          <a:xfrm>
            <a:off x="0" y="2833560"/>
            <a:ext cx="5866920" cy="420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Физкультура имеет два облика влияния на организм человека - всеобщий и дополнительный. Всеобщий эффект физкультуры заключается в расходе активности, прямо пропорциональном длительности и интенсивности мышечной деятельности, что позволяет компенсировать дефицит энергозатрат. Важное значение имеет также повышение устойчивости организма к действию неблагоприятных факторов окружающей среды. В результате укрепления иммунитета повышается также устойчивость к простудным заболеваниям, что зачастую обеспечивает саму вероятность вести здоровый образ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380880"/>
            <a:ext cx="5181120" cy="5578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ополнительный эффект физкультуры связан с повышением функциональной устойчивости  сердечно-сосудистой системы. Он заключается в оптимизации сердечной деятельности и формированию более низкой потребности сердца в кислороде. Адекватная физическая нагрузка и физкультура способна в значительной стадии приостановить возрастные изменения различных миссий организма. В любом возрасте с помощью занятий физкультурой можно повысить вероятность быть здоровым и уровень выносливости - показатели биологического возраста организма и его жизнеспосо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341_big"/>
          <p:cNvPicPr/>
          <p:nvPr/>
        </p:nvPicPr>
        <p:blipFill>
          <a:blip r:embed="rId1"/>
          <a:stretch/>
        </p:blipFill>
        <p:spPr>
          <a:xfrm>
            <a:off x="5056200" y="4133880"/>
            <a:ext cx="4087440" cy="2723760"/>
          </a:xfrm>
          <a:prstGeom prst="rect">
            <a:avLst/>
          </a:prstGeom>
          <a:ln w="9525">
            <a:noFill/>
          </a:ln>
        </p:spPr>
      </p:pic>
      <p:pic>
        <p:nvPicPr>
          <p:cNvPr id="133" name="Picture 6" descr="319747"/>
          <p:cNvPicPr/>
          <p:nvPr/>
        </p:nvPicPr>
        <p:blipFill>
          <a:blip r:embed="rId2"/>
          <a:stretch/>
        </p:blipFill>
        <p:spPr>
          <a:xfrm>
            <a:off x="5257800" y="380880"/>
            <a:ext cx="3657240" cy="3504960"/>
          </a:xfrm>
          <a:prstGeom prst="rect">
            <a:avLst/>
          </a:prstGeom>
          <a:ln w="9525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img--i-17640-w-640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000000"/>
                </a:solidFill>
                <a:latin typeface="Garamond"/>
              </a:rPr>
              <a:t>Здоровый образ жизни и правильное питание</a:t>
            </a:r>
            <a:endParaRPr b="0" lang="ru-RU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отрудничество">
  <a:themeElements>
    <a:clrScheme name="Сотрудничество 4">
      <a:dk1>
        <a:srgbClr val="006e6b"/>
      </a:dk1>
      <a:lt1>
        <a:srgbClr val="ffffff"/>
      </a:lt1>
      <a:dk2>
        <a:srgbClr val="006666"/>
      </a:dk2>
      <a:lt2>
        <a:srgbClr val="b9efee"/>
      </a:lt2>
      <a:accent1>
        <a:srgbClr val="33cccc"/>
      </a:accent1>
      <a:accent2>
        <a:srgbClr val="6ab475"/>
      </a:accent2>
      <a:accent3>
        <a:srgbClr val="aab8b8"/>
      </a:accent3>
      <a:accent4>
        <a:srgbClr val="dadada"/>
      </a:accent4>
      <a:accent5>
        <a:srgbClr val="ade2e2"/>
      </a:accent5>
      <a:accent6>
        <a:srgbClr val="5fa369"/>
      </a:accent6>
      <a:hlink>
        <a:srgbClr val="00ff99"/>
      </a:hlink>
      <a:folHlink>
        <a:srgbClr val="ccff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трудничество">
  <a:themeElements>
    <a:clrScheme name="Сотрудничество 4">
      <a:dk1>
        <a:srgbClr val="006e6b"/>
      </a:dk1>
      <a:lt1>
        <a:srgbClr val="ffffff"/>
      </a:lt1>
      <a:dk2>
        <a:srgbClr val="006666"/>
      </a:dk2>
      <a:lt2>
        <a:srgbClr val="b9efee"/>
      </a:lt2>
      <a:accent1>
        <a:srgbClr val="33cccc"/>
      </a:accent1>
      <a:accent2>
        <a:srgbClr val="6ab475"/>
      </a:accent2>
      <a:accent3>
        <a:srgbClr val="aab8b8"/>
      </a:accent3>
      <a:accent4>
        <a:srgbClr val="dadada"/>
      </a:accent4>
      <a:accent5>
        <a:srgbClr val="ade2e2"/>
      </a:accent5>
      <a:accent6>
        <a:srgbClr val="5fa369"/>
      </a:accent6>
      <a:hlink>
        <a:srgbClr val="00ff99"/>
      </a:hlink>
      <a:folHlink>
        <a:srgbClr val="ccff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  <Words>913</Words>
  <Paragraphs>3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>Светлана</dc:creator>
  <dc:description/>
  <dc:language>en-US</dc:language>
  <cp:lastModifiedBy>User</cp:lastModifiedBy>
  <cp:lastPrinted>1601-01-01T00:00:00Z</cp:lastPrinted>
  <dcterms:modified xsi:type="dcterms:W3CDTF">2014-03-23T09:30:0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  <property fmtid="{D5CDD505-2E9C-101B-9397-08002B2CF9AE}" pid="4" name="Version">
    <vt:r8>1</vt:r8>
  </property>
</Properties>
</file>