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EBC-C9FF-4A82-B909-08B5AFA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B5E-9EF2-46D7-95EB-9CD65A50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E92-9AAF-4BA8-8112-DF7AAA6A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7D1-154E-4CA0-9B60-8EF15837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FEB-C4D2-48A6-979C-592FCC08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027-D9D3-43B9-B1D2-6A580F82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409-7A57-42E4-9358-2D7C7260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BC8-9537-4A4F-99A6-359991F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462-D3D4-4B08-A8FA-00CCDC5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0B55-EA55-49AB-9D78-E6FEE9A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CD6F-046D-4F61-A72D-95A60E0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D0F-C21A-4C8C-8CDC-10BF082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C4A-210C-4D55-84DD-01F4B19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E22-04C5-4B45-9EEA-880BE35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7722-FFE4-4442-9536-F839014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6C2-C2BE-4D87-817A-3C8278DD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A11F-30DF-4AC3-B504-2EA99B22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F2-DD68-41CA-BEBD-AE40D53C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BD2-DB64-4032-A528-F56FA36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C4D-39A8-454D-9DB9-1F12522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5D6-34B2-4B91-B7D8-1FF1E8F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361-7FCC-46B1-84B6-9D2A89B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184-81BE-4F39-8AC2-630E89E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BA8-8302-44C4-841A-A0A638B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86BA-CB65-403E-B97F-7C6DAC6540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5F6-9753-47D2-A043-20F6B5F1B6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e welfare state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                         in 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           Britain and  Russ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язрова Н.М. МБОУ СОШ №1 ст. Архо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102600" rIns="102600" tIns="59400" bIns="5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557360"/>
            <a:ext cx="266364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eorgia"/>
              </a:rPr>
              <a:t>single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292640"/>
            <a:ext cx="287964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eorgia"/>
              </a:rPr>
              <a:t>some pens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1557360"/>
            <a:ext cx="273528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Georgia"/>
              </a:rPr>
              <a:t>the long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Georgia"/>
              </a:rPr>
              <a:t>un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4365720"/>
            <a:ext cx="316872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eorgia"/>
              </a:rPr>
              <a:t>some people in fu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6633"/>
                </a:solidFill>
                <a:latin typeface="Georgia"/>
              </a:rPr>
              <a:t>tim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637000"/>
            <a:ext cx="302400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eorgia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89000"/>
            <a:ext cx="820728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Read a short article    about an unemployment benefit in Britain and answer the ques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yone below the retirement age of 65 who has previously worked for a certain minimum period of time can receive unemployment benefit  (known colloquially as the dole ). This is organized by the Department of  Employ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ceiving unemployment benefit is known as being on the dole and this money itself is often referred to as dole money. In order to get this money , people have to regularly present their UB40s ( the name of the government form on which their lack of employment is recorded) at the local social security office and sign on ( to prove that they don’t have work). They will then get (either directly or through the post )a cheque which they can cash at a post office. This cheque is often referred to as a gi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1.What is the unemployment benefit</a:t>
            </a:r>
            <a:r>
              <a:rPr b="1" lang="ru-RU" sz="2000" spc="-1" strike="noStrike">
                <a:solidFill>
                  <a:srgbClr val="006633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known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olloquially</a:t>
            </a: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2.What must people do in order to get this money?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eorgia"/>
              </a:rPr>
              <a:t>3.What is the UB40s?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eorgia"/>
              </a:rPr>
              <a:t>Englis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eorgia"/>
              </a:rPr>
              <a:t>Women 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eorgia"/>
              </a:rPr>
              <a:t>Men   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2920" y="1052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eorgia"/>
              </a:rPr>
              <a:t>Women 5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eorgia"/>
              </a:rPr>
              <a:t>Men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486320" cy="341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705200" cy="440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2853000" cy="515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260280"/>
          <a:ext cx="532908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53290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348000" y="2349360"/>
          <a:ext cx="5796000" cy="410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349360"/>
                    <a:ext cx="57960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Health care Syst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2590920" cy="3598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432240" cy="209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163960" cy="341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 elderly peo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Рисунок 1" descr="PPT4B.tmp"/>
          <p:cNvPicPr/>
          <p:nvPr/>
        </p:nvPicPr>
        <p:blipFill>
          <a:blip r:embed="rId1"/>
          <a:stretch/>
        </p:blipFill>
        <p:spPr>
          <a:xfrm>
            <a:off x="4716360" y="3284640"/>
            <a:ext cx="4105440" cy="3009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4537080" cy="3394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The scheme of the ideal welfare state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Organs of responsibility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Прямая соединительная линия 3"/>
          <p:cNvSpPr/>
          <p:nvPr/>
        </p:nvSpPr>
        <p:spPr>
          <a:xfrm>
            <a:off x="5651640" y="765000"/>
            <a:ext cx="360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826920" y="1557360"/>
            <a:ext cx="302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5435640" y="1484280"/>
            <a:ext cx="3024000" cy="649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local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468360" y="3213000"/>
            <a:ext cx="3313080" cy="505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ta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5292720" y="3213000"/>
            <a:ext cx="3527280" cy="505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o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2411280" y="3860640"/>
            <a:ext cx="4967280" cy="720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Expenditure  by 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1"/>
          <p:cNvSpPr/>
          <p:nvPr/>
        </p:nvSpPr>
        <p:spPr>
          <a:xfrm flipV="1">
            <a:off x="1692360" y="4279680"/>
            <a:ext cx="8506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7308720" y="4352760"/>
            <a:ext cx="49068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179280" y="4076640"/>
            <a:ext cx="1513080" cy="2376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Insuran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14"/>
          <p:cNvSpPr/>
          <p:nvPr/>
        </p:nvSpPr>
        <p:spPr>
          <a:xfrm>
            <a:off x="7812000" y="4005360"/>
            <a:ext cx="1116000" cy="2520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2340000" y="5084640"/>
            <a:ext cx="4824360" cy="1081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                   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Financial help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for all people who need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16"/>
          <p:cNvSpPr/>
          <p:nvPr/>
        </p:nvSpPr>
        <p:spPr>
          <a:xfrm flipH="1">
            <a:off x="4775040" y="4581360"/>
            <a:ext cx="1296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17"/>
          <p:cNvSpPr/>
          <p:nvPr/>
        </p:nvSpPr>
        <p:spPr>
          <a:xfrm flipV="1">
            <a:off x="1692360" y="5576760"/>
            <a:ext cx="635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18"/>
          <p:cNvSpPr/>
          <p:nvPr/>
        </p:nvSpPr>
        <p:spPr>
          <a:xfrm flipV="1">
            <a:off x="7164360" y="5503680"/>
            <a:ext cx="63504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00440" y="2276640"/>
            <a:ext cx="403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eorgia"/>
              </a:rPr>
              <a:t>The sources of provision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843280" y="836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76280"/>
            <a:ext cx="8569440" cy="58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In Britain, an unemployment benefit is known colloquially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       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The welfare     b) the dole       c) a g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2.In Britain, private medical insurance scheme is call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a) Medicare            b) Medicaid     c) B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3.In Britain, the exceptions to free medical care are: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        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a) teeth       b) teeth and eyes       c) 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4. In Russia the war veterans hav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a) ordinary invalidity 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b) retirement pension + invalidity 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c) no special  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5.In Russia the war veterans have the right to reduced payment for 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Georgia"/>
              </a:rPr>
              <a:t>a) 50 %       b) 60%      c)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1B    2C  3B 4B 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7051680" y="3168720"/>
            <a:ext cx="16462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5405400" y="3168720"/>
            <a:ext cx="16462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3760920" y="3168720"/>
            <a:ext cx="16444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2495520" y="3168720"/>
            <a:ext cx="126540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468360" y="3168720"/>
            <a:ext cx="202716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Your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7051680" y="2865600"/>
            <a:ext cx="16462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5405400" y="2865600"/>
            <a:ext cx="16462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9"/>
          <p:cNvSpPr/>
          <p:nvPr/>
        </p:nvSpPr>
        <p:spPr>
          <a:xfrm>
            <a:off x="3760920" y="2865600"/>
            <a:ext cx="164448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2495520" y="2865600"/>
            <a:ext cx="126540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468360" y="2865600"/>
            <a:ext cx="2027160" cy="3031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Your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12"/>
          <p:cNvSpPr/>
          <p:nvPr/>
        </p:nvSpPr>
        <p:spPr>
          <a:xfrm>
            <a:off x="468360" y="2852640"/>
            <a:ext cx="821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13"/>
          <p:cNvSpPr/>
          <p:nvPr/>
        </p:nvSpPr>
        <p:spPr>
          <a:xfrm flipV="1">
            <a:off x="468360" y="3155760"/>
            <a:ext cx="82170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14"/>
          <p:cNvSpPr/>
          <p:nvPr/>
        </p:nvSpPr>
        <p:spPr>
          <a:xfrm flipV="1">
            <a:off x="468360" y="3458880"/>
            <a:ext cx="82170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15"/>
          <p:cNvSpPr/>
          <p:nvPr/>
        </p:nvSpPr>
        <p:spPr>
          <a:xfrm flipH="1">
            <a:off x="468000" y="2865600"/>
            <a:ext cx="1260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16"/>
          <p:cNvSpPr/>
          <p:nvPr/>
        </p:nvSpPr>
        <p:spPr>
          <a:xfrm flipH="1">
            <a:off x="2482560" y="2865600"/>
            <a:ext cx="126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ая соединительная линия 17"/>
          <p:cNvSpPr/>
          <p:nvPr/>
        </p:nvSpPr>
        <p:spPr>
          <a:xfrm flipH="1">
            <a:off x="3747960" y="2865600"/>
            <a:ext cx="1296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18"/>
          <p:cNvSpPr/>
          <p:nvPr/>
        </p:nvSpPr>
        <p:spPr>
          <a:xfrm flipH="1">
            <a:off x="5392440" y="2865600"/>
            <a:ext cx="126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19"/>
          <p:cNvSpPr/>
          <p:nvPr/>
        </p:nvSpPr>
        <p:spPr>
          <a:xfrm flipH="1">
            <a:off x="7038720" y="2865600"/>
            <a:ext cx="1260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20"/>
          <p:cNvSpPr/>
          <p:nvPr/>
        </p:nvSpPr>
        <p:spPr>
          <a:xfrm flipH="1">
            <a:off x="8685000" y="2865600"/>
            <a:ext cx="1260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845400" cy="26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28620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323064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My opinion about the less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!!! –   I liked the lesson very mu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!! – I liked the les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! – I  liked the lesson but I have a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? – I have many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11280" y="1052640"/>
            <a:ext cx="4419720" cy="43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you ver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uch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32"/>
                </a:solidFill>
                <a:latin typeface="Garamond"/>
              </a:rPr>
              <a:t>Read and translate the words into Englis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sur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loy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lf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re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ntit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et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id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spite of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страх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работода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из-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социальное обеспе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доступ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уходить на пенс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предоставлять, обеспечив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давать право на что –либ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пенсион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вд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несмотря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инвали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ranslate the words into Engli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Ощущать финансовую нехва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Получать окл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аловой национальный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За чертой бе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Нехватка дене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Жить достой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Недостаток, ну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anslate the sentences into English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се люди нашей страны должны жить достой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енсионеры России ощущают финансовую нехва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ой брат получает пенсию по инвали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Женщины, которые уходят в декретный отпуск, имеют право на пособ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 сожалению, многие люди нашей страны живут за чертой бе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з – за нехватки денег пенсионеры не могут купить то, что х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Британия и Россия тратят 7% валового национального дохода на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eorgia"/>
              </a:rPr>
              <a:t>Community care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eorgia"/>
              </a:rPr>
              <a:t>Social security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eorgia"/>
              </a:rPr>
              <a:t>Welfare St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006633"/>
                </a:solidFill>
                <a:latin typeface="Georgia"/>
              </a:rPr>
              <a:t>Housing       Health     Edu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6633"/>
                </a:solidFill>
                <a:latin typeface="Garamond"/>
              </a:rPr>
              <a:t>The central government</a:t>
            </a:r>
            <a:endParaRPr b="0" lang="en-US" sz="5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eorgia"/>
              </a:rPr>
              <a:t>National Insur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eorgia"/>
              </a:rPr>
              <a:t>            </a:t>
            </a:r>
            <a:r>
              <a:rPr b="1" lang="en-US" sz="3600" spc="-1" strike="noStrike">
                <a:solidFill>
                  <a:srgbClr val="006633"/>
                </a:solidFill>
                <a:latin typeface="Georgia"/>
              </a:rPr>
              <a:t>National Health Serv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eorgia"/>
              </a:rPr>
              <a:t>                                      </a:t>
            </a:r>
            <a:r>
              <a:rPr b="1" lang="en-US" sz="3600" spc="-1" strike="noStrike">
                <a:solidFill>
                  <a:srgbClr val="006633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6633"/>
                </a:solidFill>
                <a:latin typeface="Georgia"/>
              </a:rPr>
              <a:t>Social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e local governme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Plan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Public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Social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Hou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50920" y="2133720"/>
            <a:ext cx="3168720" cy="1511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33"/>
                </a:solidFill>
                <a:latin typeface="Garamond"/>
              </a:rPr>
              <a:t>Natio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33"/>
                </a:solidFill>
                <a:latin typeface="Garamond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unemplo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924360" y="1125360"/>
            <a:ext cx="475308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140360" y="1916280"/>
            <a:ext cx="446544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reti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140360" y="2997360"/>
            <a:ext cx="453528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924360" y="4221000"/>
            <a:ext cx="4535280" cy="648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wid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340000" y="5229360"/>
            <a:ext cx="4464000" cy="576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1"/>
          <p:cNvSpPr/>
          <p:nvPr/>
        </p:nvSpPr>
        <p:spPr>
          <a:xfrm>
            <a:off x="3419640" y="2997360"/>
            <a:ext cx="7077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>
            <a:off x="3419640" y="2997360"/>
            <a:ext cx="492120" cy="14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19640" y="256536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997360"/>
            <a:ext cx="5047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419640" y="1557360"/>
            <a:ext cx="504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419640" y="907560"/>
            <a:ext cx="28872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7:38:21Z</dcterms:created>
  <dc:creator>net00</dc:creator>
  <dc:description/>
  <dc:language>en-US</dc:language>
  <cp:lastModifiedBy>Бязрова Надежда Михайловна</cp:lastModifiedBy>
  <dcterms:modified xsi:type="dcterms:W3CDTF">2015-02-25T07:04:38Z</dcterms:modified>
  <cp:revision>14</cp:revision>
  <dc:subject/>
  <dc:title>The welfare state                          in             Britain and  Russ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