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19.png" ContentType="image/png"/>
  <Override PartName="/ppt/media/image18.jpeg" ContentType="image/jpe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4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9E4C-F969-4754-A500-DEB56F9D1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C394-2201-4489-8733-D82492F2B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81F641-18E8-485D-83CD-B5228037C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ADFB29-69D5-4DBB-B63E-46A350354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CE0A5E-3E01-4EFF-8D7F-9470F5852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C4EC3B-FE8A-4E12-ADE6-C5AD8107B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583359-C16C-45A7-BC63-42B6A97F2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A80F7B-EDDC-4EFD-962A-79613D4D9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5CA0FF-82FD-4895-B53D-08E8EEFBC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7C44D1-2A71-40A1-B5C0-B26191AF8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6729FF-9B3F-487B-8F79-9F945B5D1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819706-E49C-43B3-B0BE-02422690B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A0C1-0CA1-4D23-BCB7-7B8B20611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500280-21C7-4D1E-BAE4-FB3C03807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74D28E-96E8-4768-8CCE-A77FCEE29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08BFA8-2380-48ED-9925-B61E93A01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20633D-B377-4E49-AF3A-660BD6EAF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9CA5FF-08BD-48B2-9931-9452B0485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74D63C-F14A-4A9B-A7F1-89F79F10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A61C3F-0D50-45CE-AA02-83FAB3D2E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10A057-513C-4288-A4C1-E4E89216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98961D-4728-4C4B-B7F8-D669D7C64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8B1C19-7382-4BFB-AA47-2AFDD8A2E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246C-3CCA-4FBF-956D-61F9F41E4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A6359B-5DE5-4F2F-A298-5E5DD0174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8290E9-2633-49B1-9580-47EC10F3F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705F53-C490-42A2-95D0-4F9D0B604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965FE8-5A1D-425C-A96A-DD55C9FD3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82274F-88A9-4FBC-8165-45B5EEF15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B40A7B-E303-4E4E-8004-4C8AA02A2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FEA841-4870-43F4-82E7-84ABFA98E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14EC34-B787-41C6-8DE0-022C27A78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765B56-32A1-44FB-821D-5C49A14C1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14EE03-CC88-4F3F-BDA4-C2E9BCD53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EAEE9-5D38-43DE-843F-CE0C70689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689D6F-995A-47CB-AD72-0E51E04A6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0858F3-F86B-48C0-9EB9-BB9B5A2BD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1B6A14-EA3A-4D5E-9B47-FDAC1C0C3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BF126-8F85-4467-96B5-000E440DF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94099-5A22-464E-ACB2-749E913CD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4EF18-44F2-4FED-B4DD-C0FB2F00D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F5AC9-0F35-44B5-B750-4A0970422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CACD3-87C1-41D7-B3D5-FF9AB20D7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D8CF0-DA79-4BC8-9E1E-21F5D8A87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4B29-FEEA-45F1-8180-C73CDA020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32AD5-0C88-4BBE-A7F5-36EC8A4C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1E90E-9E01-45A0-9DFE-7178EEE7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29EB9-0FE6-45A4-92BB-093E5A748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9DC21-AD7C-4312-A867-B60E0B2A8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5FFC4-63B2-4053-B454-A5CE6B5FD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B08DE-16EA-49E2-9477-65F69C19A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06A96-C244-4B98-9952-AD8BF7ABD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51550-68DB-4FE5-9D20-1896A50CD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CB052-7BA5-4ACC-BF62-43D6B1192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368E7-2861-4B32-A0BF-0BC8C2253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BE6F-93E2-4AEF-AB91-EE259C96F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2D2D5-C0B2-4EDC-A418-DA00F932B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748C2-B245-4680-B877-822E88FAA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98CD6-E317-4FFA-B837-9D4C0A989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6B53E-5F8A-4035-AD43-A99804AC4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2287A-73A4-4CDB-89F9-18C8B5ED7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CEEA9-0AFB-4A2B-954E-D34BD423D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5A62F-6584-499A-B371-D7785DE5B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18E0B-AE51-4116-AA9E-700FA61F8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C6159-90D0-4B01-9DF2-36D782432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2D4BD-8FAB-4FA0-9BB9-0B842E650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3ED1-8DC0-4DE8-83A0-1E67F6E11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D1358-0939-454D-91AF-F2483C4D8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21DE4-4DC3-43B8-86ED-09850DF07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9EF3B-8405-457E-A2E8-8D5A6A376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C10C5-E72A-4545-91C9-23E201A3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F5221-C0E3-4DAD-8603-F7CD7F163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B6C81-FE2D-4134-A0D8-9187136F4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9B2F5-769C-426B-9C27-4A5D3D35C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D40A9-9BE8-4886-940B-7E2CC4D86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E145C-F87E-451F-8706-C9BB2092C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357B6A-7718-4353-8CB4-55FF3D15B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15C2-C878-4782-8C73-F0938762F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2499C-4D51-4625-98A4-1F5B4CE4B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7E5C9-5408-41CC-929E-8CBDD1172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B18297-45E1-41BC-A79F-FFEDF5076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09EE2B-375C-4148-B0D2-562DEA867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50E04-9A28-4F4B-BD1E-73724D355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8DC66C-E7C1-46B3-B51F-365CB9B7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E526D-C8CC-458E-92E7-F14D5C3AE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08FB6-8EC0-41EA-9BF7-090A81CA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011AA-A2D8-4966-8697-017803018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7CDA5D-1C1C-4177-B130-78BA915C8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7B43-189F-47A1-AED2-714298E93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7AE16-3ADD-4BB6-84C9-040524A4F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A80191-B127-4951-8548-6D79C5CA0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53B843-1279-4328-8138-1FB32CF79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68C9FC-7016-4429-B2EF-8384AD6E0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11687B-09D7-48E4-9146-1C075FEB2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F1ECF8-0A7F-4A26-8FFC-520329C1A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DE7D29-2051-40C3-9934-CB2E4F6D9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1C1A09-913E-448A-8599-D7FA137FF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47571E-A9F5-499E-AD1B-F9D7A4303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32129C-FE65-420E-9CDC-27F6D22F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C597-2384-4D30-85AB-AD449429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4BA722-865B-4662-91DD-F804864ED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B01450-AFCF-42DE-9E0E-5D57C3792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D81E8-8E73-464B-89F8-9B9034D3D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212DEA-AAAC-46F4-93BA-324519CF5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973065-3D5B-4B27-8E4F-0BDACDCB7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BCE681-3ED2-47D6-A221-A61925172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D9134C-1273-4B65-ABB7-C2A0910B4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3D1987-B395-45FD-8C7D-A52D55206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972A34-8BDC-4F6B-9A56-EEC2C1CC4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36F649-85EB-4B06-9AC2-A06451F93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E3FB-09C5-4221-A854-21BCCDB04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C596D8-8501-4E0F-95E7-0D6EF40A5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F83219-B282-46F7-8933-054123FAF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E0E196-7969-4350-A3DE-F409DA621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CCDD54-0B3A-42C8-A095-EC43B8735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3313FC-178F-4B6F-93B6-6CAE940B2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569EB1-34C9-416A-A950-EBB3C7515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D4109B-F165-484F-BFF6-9A41BF3A8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2754DB-6141-483F-8D44-FC0F00385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AEF21D-60A5-4D19-8412-8BDBD834E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7DDCEE-E342-4763-B37C-3053A7594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2182-019C-448C-8A22-F133F831E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DB9C25-9A46-48E2-8696-00142ED91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9BE946-4A02-4F85-B7A4-FDFEE4A1E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EF598D-631E-4D21-9E5B-35218D84B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189252-A141-425E-9571-C7DB901E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F99E51-7244-4184-8D09-17884A063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F716BB-B900-49E7-A5C3-80DAE3CBF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35CA80-1339-4064-93FC-0940A0494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CB8848-BA4D-403F-89A7-12FD24DD7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1CCF27-D571-4687-85C7-868C994A0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0CBDF2-52DE-4E2E-8AD0-C0B4B02B6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BFBC9-358A-4726-95E1-38D8F63A07C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00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02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03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05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406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9490E-6D95-48F7-A716-35EE047B0DA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50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52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53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55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456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0EE84-54B9-418C-A739-CBB085E216A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FC754-48A5-42DC-A127-0EBC81A93C6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0C7FC-324A-4769-BD39-412C45D32C4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EFC44-5CE7-4659-9042-501ADEE8C58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4AAF2-46BD-4614-9AA1-4C74C7AAAD3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B2BD5-CB3D-47A6-A92E-0C443518237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47BA3-9BC4-45B8-9FB8-D7EA5E134AF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9B4F2-C864-4E95-AA6F-2D909BB8D5D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A4B5B-EAB3-4EA0-B474-60D8D8D1CC6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0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Rectangle 2" descr=""/>
          <p:cNvPicPr/>
          <p:nvPr/>
        </p:nvPicPr>
        <p:blipFill>
          <a:blip r:embed="rId1"/>
          <a:stretch/>
        </p:blipFill>
        <p:spPr>
          <a:xfrm>
            <a:off x="225360" y="476280"/>
            <a:ext cx="8669520" cy="333360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15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3329"/>
                </a:solidFill>
                <a:latin typeface="Franklin Gothic Book"/>
              </a:rPr>
              <a:t>Учитель биологии МАОУ Кара-Хольской СОШ,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3329"/>
                </a:solidFill>
                <a:latin typeface="Franklin Gothic Book"/>
              </a:rPr>
              <a:t>Бай-Тайгинского кожууна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3329"/>
                </a:solidFill>
                <a:latin typeface="Franklin Gothic Book"/>
              </a:rPr>
              <a:t>Монгуш Анюта Сергеевна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Rectangle 5" descr=""/>
          <p:cNvPicPr/>
          <p:nvPr/>
        </p:nvPicPr>
        <p:blipFill>
          <a:blip r:embed="rId1"/>
          <a:stretch/>
        </p:blipFill>
        <p:spPr>
          <a:xfrm>
            <a:off x="268200" y="182520"/>
            <a:ext cx="8437680" cy="121284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10" descr="C:\Users\1\Pictures\Рисунок5.jpg"/>
          <p:cNvPicPr/>
          <p:nvPr/>
        </p:nvPicPr>
        <p:blipFill>
          <a:blip r:embed="rId2"/>
          <a:stretch/>
        </p:blipFill>
        <p:spPr>
          <a:xfrm>
            <a:off x="5572080" y="2500200"/>
            <a:ext cx="2852640" cy="3783240"/>
          </a:xfrm>
          <a:prstGeom prst="rect">
            <a:avLst/>
          </a:prstGeom>
          <a:ln w="0">
            <a:noFill/>
          </a:ln>
        </p:spPr>
      </p:pic>
      <p:sp>
        <p:nvSpPr>
          <p:cNvPr id="525" name="TextBox 9"/>
          <p:cNvSpPr/>
          <p:nvPr/>
        </p:nvSpPr>
        <p:spPr>
          <a:xfrm>
            <a:off x="5286240" y="621504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ahoma"/>
              </a:rPr>
              <a:t>В альвеолах происходит газообмен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TextBox 10"/>
          <p:cNvSpPr/>
          <p:nvPr/>
        </p:nvSpPr>
        <p:spPr>
          <a:xfrm>
            <a:off x="4500720" y="1285920"/>
            <a:ext cx="428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Трахея</a:t>
            </a:r>
            <a:r>
              <a:rPr b="0" lang="ru-RU" sz="2400" spc="-1" strike="noStrike">
                <a:solidFill>
                  <a:srgbClr val="002060"/>
                </a:solidFill>
                <a:latin typeface="Tahoma"/>
              </a:rPr>
              <a:t>-широкая трубка, состоящая из хрящевых полуколец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TextBox 11"/>
          <p:cNvSpPr/>
          <p:nvPr/>
        </p:nvSpPr>
        <p:spPr>
          <a:xfrm>
            <a:off x="494280" y="5572080"/>
            <a:ext cx="406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ahoma"/>
              </a:rPr>
              <a:t>Бронхи </a:t>
            </a:r>
            <a:r>
              <a:rPr b="0" lang="ru-RU" sz="1800" spc="-1" strike="noStrike">
                <a:solidFill>
                  <a:srgbClr val="002060"/>
                </a:solidFill>
                <a:latin typeface="Tahoma"/>
              </a:rPr>
              <a:t>имеют хрящевые кольца.</a:t>
            </a:r>
            <a:r>
              <a:rPr b="1" lang="ru-RU" sz="1800" spc="-1" strike="noStrike">
                <a:solidFill>
                  <a:srgbClr val="002060"/>
                </a:solidFill>
                <a:latin typeface="Tahom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ahoma"/>
              </a:rPr>
              <a:t>Бронхи многократно ветвятся,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ahoma"/>
              </a:rPr>
              <a:t>образуя бронхиальное дерево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29" name="Picture 11" descr="C:\Users\1\Pictures\Рисунок6.jpg"/>
          <p:cNvPicPr/>
          <p:nvPr/>
        </p:nvPicPr>
        <p:blipFill>
          <a:blip r:embed="rId3"/>
          <a:stretch/>
        </p:blipFill>
        <p:spPr>
          <a:xfrm>
            <a:off x="285840" y="1285920"/>
            <a:ext cx="42861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Franklin Gothic Book"/>
              </a:rPr>
              <a:t>Грипп, ангина, ОРЗ- </a:t>
            </a: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воспаление слизистой оболочки околоносовых пазух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Franklin Gothic Book"/>
              </a:rPr>
              <a:t>Гайморит</a:t>
            </a: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- воспаление гайморовых пазух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Franklin Gothic Book"/>
              </a:rPr>
              <a:t>Фронтит</a:t>
            </a: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- воспаление лобной пазухи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Franklin Gothic Book"/>
              </a:rPr>
              <a:t>Тонзиллит</a:t>
            </a: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- воспаление миндалин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Franklin Gothic Book"/>
              </a:rPr>
              <a:t>Дифтерия</a:t>
            </a: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- воспаление лимфатических желез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Rectangle 2" descr=""/>
          <p:cNvPicPr/>
          <p:nvPr/>
        </p:nvPicPr>
        <p:blipFill>
          <a:blip r:embed="rId1"/>
          <a:stretch/>
        </p:blipFill>
        <p:spPr>
          <a:xfrm>
            <a:off x="115920" y="414360"/>
            <a:ext cx="8875800" cy="180504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 txBox="1"/>
          <p:nvPr/>
        </p:nvSpPr>
        <p:spPr>
          <a:xfrm>
            <a:off x="214200" y="18572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Этапы дыхания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бмен газов между воздушной средой и легкими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бмен газов между легкими и кровью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Транспортировка газов кровью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Газообмен в тканях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Заголовок 1" descr=""/>
          <p:cNvPicPr/>
          <p:nvPr/>
        </p:nvPicPr>
        <p:blipFill>
          <a:blip r:embed="rId1"/>
          <a:stretch/>
        </p:blipFill>
        <p:spPr>
          <a:xfrm>
            <a:off x="133200" y="268200"/>
            <a:ext cx="8864640" cy="1487520"/>
          </a:xfrm>
          <a:prstGeom prst="rect">
            <a:avLst/>
          </a:prstGeom>
          <a:ln w="0">
            <a:noFill/>
          </a:ln>
        </p:spPr>
      </p:pic>
      <p:pic>
        <p:nvPicPr>
          <p:cNvPr id="504" name="Содержимое 3" descr=""/>
          <p:cNvPicPr/>
          <p:nvPr/>
        </p:nvPicPr>
        <p:blipFill>
          <a:blip r:embed="rId2"/>
          <a:stretch/>
        </p:blipFill>
        <p:spPr>
          <a:xfrm>
            <a:off x="298440" y="1536840"/>
            <a:ext cx="8699400" cy="45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50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Газообмен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Теплорегуляция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Голосообразование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Box 5"/>
          <p:cNvSpPr/>
          <p:nvPr/>
        </p:nvSpPr>
        <p:spPr>
          <a:xfrm>
            <a:off x="2888280" y="500040"/>
            <a:ext cx="33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2. Органы дыхания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08" name="Picture 7" descr="C:\Users\1\Pictures\Новый рисунок.png"/>
          <p:cNvPicPr/>
          <p:nvPr/>
        </p:nvPicPr>
        <p:blipFill>
          <a:blip r:embed="rId1"/>
          <a:stretch/>
        </p:blipFill>
        <p:spPr>
          <a:xfrm>
            <a:off x="4500720" y="1214280"/>
            <a:ext cx="4451040" cy="5214960"/>
          </a:xfrm>
          <a:prstGeom prst="rect">
            <a:avLst/>
          </a:prstGeom>
          <a:ln w="0">
            <a:noFill/>
          </a:ln>
        </p:spPr>
      </p:pic>
      <p:pic>
        <p:nvPicPr>
          <p:cNvPr id="509" name="Схема 18" descr=""/>
          <p:cNvPicPr/>
          <p:nvPr/>
        </p:nvPicPr>
        <p:blipFill>
          <a:blip r:embed="rId2"/>
          <a:stretch/>
        </p:blipFill>
        <p:spPr>
          <a:xfrm>
            <a:off x="268200" y="1279440"/>
            <a:ext cx="4108680" cy="52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Rectangle 2" descr=""/>
          <p:cNvPicPr/>
          <p:nvPr/>
        </p:nvPicPr>
        <p:blipFill>
          <a:blip r:embed="rId1"/>
          <a:stretch/>
        </p:blipFill>
        <p:spPr>
          <a:xfrm>
            <a:off x="255600" y="378000"/>
            <a:ext cx="8437680" cy="1145880"/>
          </a:xfrm>
          <a:prstGeom prst="rect">
            <a:avLst/>
          </a:prstGeom>
          <a:ln w="0">
            <a:noFill/>
          </a:ln>
        </p:spPr>
      </p:pic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428400" y="1499760"/>
            <a:ext cx="4678200" cy="33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24139"/>
                </a:solidFill>
                <a:latin typeface="Franklin Gothic Book"/>
              </a:rPr>
              <a:t>разделена на левую и правую части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24139"/>
                </a:solidFill>
                <a:latin typeface="Franklin Gothic Book"/>
              </a:rPr>
              <a:t>выстлана мерцательным эпителием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24139"/>
                </a:solidFill>
                <a:latin typeface="Franklin Gothic Book"/>
              </a:rPr>
              <a:t> </a:t>
            </a:r>
            <a:r>
              <a:rPr b="0" lang="ru-RU" sz="2200" spc="-1" strike="noStrike">
                <a:solidFill>
                  <a:srgbClr val="624139"/>
                </a:solidFill>
                <a:latin typeface="Franklin Gothic Book"/>
              </a:rPr>
              <a:t>в стенках проходит густая сеть кровеносных сосудов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24139"/>
                </a:solidFill>
                <a:latin typeface="Franklin Gothic Book"/>
              </a:rPr>
              <a:t>на верхней стенке- фагоциты, лимфоциты и антитела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24139"/>
                </a:solidFill>
                <a:latin typeface="Franklin Gothic Book"/>
              </a:rPr>
              <a:t>на задней части- обонятельные клетки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12" name="Picture 6" descr="nasal cavity"/>
          <p:cNvPicPr/>
          <p:nvPr/>
        </p:nvPicPr>
        <p:blipFill>
          <a:blip r:embed="rId2"/>
          <a:srcRect l="28801" t="6354" r="1729" b="15295"/>
          <a:stretch/>
        </p:blipFill>
        <p:spPr>
          <a:xfrm>
            <a:off x="5572080" y="1500120"/>
            <a:ext cx="2928960" cy="2643120"/>
          </a:xfrm>
          <a:prstGeom prst="rect">
            <a:avLst/>
          </a:prstGeom>
          <a:ln w="0">
            <a:noFill/>
          </a:ln>
        </p:spPr>
      </p:pic>
      <p:sp>
        <p:nvSpPr>
          <p:cNvPr id="513" name="TextBox 6"/>
          <p:cNvSpPr/>
          <p:nvPr/>
        </p:nvSpPr>
        <p:spPr>
          <a:xfrm>
            <a:off x="857160" y="5000760"/>
            <a:ext cx="7858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Функции: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согревание, увлажнение и очищение воздуха,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защита  организма от вредных воздействий через воздух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5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Заголовок 1" descr=""/>
          <p:cNvPicPr/>
          <p:nvPr/>
        </p:nvPicPr>
        <p:blipFill>
          <a:blip r:embed="rId1"/>
          <a:stretch/>
        </p:blipFill>
        <p:spPr>
          <a:xfrm>
            <a:off x="255600" y="311040"/>
            <a:ext cx="8437680" cy="1139760"/>
          </a:xfrm>
          <a:prstGeom prst="rect">
            <a:avLst/>
          </a:prstGeom>
          <a:ln w="0">
            <a:noFill/>
          </a:ln>
        </p:spPr>
      </p:pic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28400" y="1500120"/>
            <a:ext cx="442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остоит из хрящей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щитовидный хрящ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(у мужчин образует кадык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 узкой части находятся голосовые связк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16" name="Picture 2" descr="C:\Users\1\Pictures\Рисунок2.jpg"/>
          <p:cNvPicPr/>
          <p:nvPr/>
        </p:nvPicPr>
        <p:blipFill>
          <a:blip r:embed="rId2"/>
          <a:stretch/>
        </p:blipFill>
        <p:spPr>
          <a:xfrm>
            <a:off x="5072040" y="1428840"/>
            <a:ext cx="2951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Rectangle 7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9" descr="respiratory_vocalcords_open_web_thumb"/>
          <p:cNvPicPr/>
          <p:nvPr/>
        </p:nvPicPr>
        <p:blipFill>
          <a:blip r:embed="rId2"/>
          <a:stretch/>
        </p:blipFill>
        <p:spPr>
          <a:xfrm>
            <a:off x="4714920" y="1500120"/>
            <a:ext cx="3744720" cy="264312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6" descr="respiratory_vocalcords_closed_web"/>
          <p:cNvPicPr/>
          <p:nvPr/>
        </p:nvPicPr>
        <p:blipFill>
          <a:blip r:embed="rId3"/>
          <a:srcRect l="0" t="0" r="0" b="8245"/>
          <a:stretch/>
        </p:blipFill>
        <p:spPr>
          <a:xfrm>
            <a:off x="285840" y="1571760"/>
            <a:ext cx="3781440" cy="2571480"/>
          </a:xfrm>
          <a:prstGeom prst="rect">
            <a:avLst/>
          </a:prstGeom>
          <a:ln w="0">
            <a:noFill/>
          </a:ln>
        </p:spPr>
      </p:pic>
      <p:sp>
        <p:nvSpPr>
          <p:cNvPr id="520" name="TextBox 8"/>
          <p:cNvSpPr/>
          <p:nvPr/>
        </p:nvSpPr>
        <p:spPr>
          <a:xfrm>
            <a:off x="571680" y="4572000"/>
            <a:ext cx="84294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и пении и речи голосовые связки смыкаются, остается узкая щель,    края которой вибрируют . Это и есть звуковые колебания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ленораздельные звуки речи формируются в ротовой и носовой полости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авильная артикуляция формируется в возрасте от года до 5лет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Rectangle 2" descr=""/>
          <p:cNvPicPr/>
          <p:nvPr/>
        </p:nvPicPr>
        <p:blipFill>
          <a:blip r:embed="rId1"/>
          <a:stretch/>
        </p:blipFill>
        <p:spPr>
          <a:xfrm>
            <a:off x="255600" y="378000"/>
            <a:ext cx="8437680" cy="114588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6757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5050"/>
                </a:solidFill>
                <a:latin typeface="Franklin Gothic Book"/>
              </a:rPr>
              <a:t>проведение воздуха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5050"/>
                </a:solidFill>
                <a:latin typeface="Franklin Gothic Book"/>
              </a:rPr>
              <a:t>голосообразование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1T09:40:26Z</dcterms:created>
  <dc:creator>белый лукич</dc:creator>
  <dc:description/>
  <dc:language>en-US</dc:language>
  <cp:lastModifiedBy>1</cp:lastModifiedBy>
  <dcterms:modified xsi:type="dcterms:W3CDTF">2015-03-07T01:35:57Z</dcterms:modified>
  <cp:revision>43</cp:revision>
  <dc:subject/>
  <dc:title>Дыхательная система</dc:title>
</cp:coreProperties>
</file>