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88B-6111-4AB5-B9CC-6FBE54E6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71A-CAC5-499B-BFB5-BAD8C191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452DF-DE61-418A-90D7-9F9A455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D223-77C4-42C4-A08C-1D56F3D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56ECF-D58C-4F07-963B-D07FD39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CDE86-6A40-4DCD-86D9-2326DF6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E649-F278-4266-A49D-7241A97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AFEE2-0108-4779-B91F-2C9C771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DFCFF-3AFB-4CA2-91B0-CDD631B3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89D4C-5507-46AA-9C70-AFDFF0CA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24EE8-CC94-4C17-9536-157E5B1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ADAF5-280D-4B0F-B864-C2E065F8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AE0-1B69-4AB7-98E8-7C6BCE07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97BFD-1734-45D3-A785-F2CECE6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5B2DF-96D1-42E3-A110-BA3A56C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16F94-78EE-4A92-8F41-DA9073EC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021FE-E187-4535-AC3A-93EB1F8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EC0D0-54A2-4092-9BAF-7104694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0D08E-52DB-4BEA-9101-17D19F6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0ED9E-52A0-4279-9009-925E6FE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A8C7-11E7-4301-98F7-90A0E8C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BAEAB-1548-487F-9163-1CCC207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69654-E25B-415A-9985-C198180C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ED8-46F6-4794-9F48-1405D60B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96851-1214-4B5F-AADE-076FEBA7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BF978-E50F-4841-8ECE-FD09BBBF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A201C-1BFA-42B5-9429-57FDFE8C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0DD95-15CF-4FC2-8DEC-0B2591E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4D89A-37AE-4BAD-B73A-70E690D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80911-1E4A-42EC-860F-C2F6771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E2981-6465-45AC-ABC2-FD0646F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2C24-94AD-42AC-A8F8-34F10CD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EC26-4B4D-459E-A516-971FE11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6F44-9A84-4C15-9FF4-B8E8814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13B-4F0E-43D8-A1A2-7D472147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939C-E972-4926-BC09-41988E9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FC8A6-25A3-4FEC-AFF1-6C3B7803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C4C4-3E06-46FA-A017-9C301B80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831-E7FE-4269-8749-69E1E2D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4C7-499F-4E1B-8626-71D89D3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5CF5-3001-4930-8B77-C2FF9DD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346-7B7B-48B2-A739-4F476B61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74DC-7180-44C8-B0D2-68E32CE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2EBD-FDC3-4EF5-9778-3AC6721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B69-69ED-42E9-9A15-40BC1BC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A43-1C26-4252-B332-6937943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476-B0AD-4CF1-BAB2-B599DAC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798-5DB1-4C5D-AC75-6B124D1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1AC-0495-4855-B5C5-A73DB5D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B314-8366-4574-9A60-25A1DAF6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D5E2-268A-4A34-9E54-14BDC5FB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0801-1426-459F-8C2A-B269D10A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4B3E-8F04-41B3-B150-EEDD80B1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6FB4-17F3-453F-B0CC-A63B762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9272-9C23-4F1B-8B23-352708D3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C3A-F52E-47F4-8763-445F3156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EF0F-A742-47F7-A31A-9E536CB3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F19E-DD58-4ED1-AB43-8D2A4B0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5E11-1407-475B-B66C-7595B13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E603-EA58-4348-9029-AA12F2D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7353-BFFC-499A-A487-5FA3F61F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B6B2-3929-4877-A430-8EA67F28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CEE2-CEDB-4744-82BF-260A10A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30AC-8741-477B-AAAE-204200CA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BE45-6F9D-4C10-8CE8-558FB986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7FDE-E328-4BCB-916A-B176596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71A-6046-45FE-A834-63873199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17B9-0CF9-4A87-9CED-445D1322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7847-05C5-43F0-B6AB-DEFA4C5E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8A7B-B397-4F48-82F1-317148F8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087C-0C7F-4EBA-B5E7-D247593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C11E-60B9-48E6-AD2B-25C3150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69E5-D7CA-440F-BDB3-9CEA803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F46E-7A1C-466B-8ADD-80B8405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5156-2047-4127-ADCB-042426DA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B4ED-E003-4128-ACE3-82D44BB8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BFDE-942E-4916-AAF1-70E94D8D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110-1616-46A8-9028-216B7AC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8C0B-33C1-4990-B827-CEDD820B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2124-3B60-4385-8F84-2A0473D5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E7E0-5E62-497A-B90B-98BBC4E8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78D5-A6AF-4A40-8382-399C94A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22A9-A90E-4588-9E9A-DAF8AD1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E595-9B8D-4E4B-B601-9D0752C3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E994-B672-4829-BAF7-0E2456D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A17B-C43A-472C-B7DA-79B784D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F46D-7793-4018-9187-75878F97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50EF-B680-4DF9-8325-309B68C7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9E3-ED9B-4588-8F5F-883A550E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50D1-3700-46C8-83FD-5F13AE0B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05D4-F9A2-49B0-8232-C8C4DBD5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AE714-22EE-4159-8137-B8B639AF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BDF0-DECA-44B6-B7B3-0FDBFB6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5140-44C0-4271-A7BD-2408991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0AD2-B94D-44EA-955A-363A12A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56F8F-5210-414B-A50C-C9C3AB4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F29F-5566-407D-8190-F29F8FAD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3EFC-783B-4E08-88FE-C472952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0029-935D-465D-B900-B58F741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8B9-FE0C-48B6-AF8C-7E19699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E28A-E95C-4A10-9D14-E3B3F66B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30B7-8F2C-4725-810B-EF533C9A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17D19-0C8B-48FB-A755-1D69B29C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5FC5-9448-4E65-8259-A84E4494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B802-7136-41D6-99C8-431E35D0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21B8-4403-4DCC-8CA1-A4AF573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8527-B171-4749-B386-BA3AC01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B310-3117-4D7B-9EAE-A69B505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FAAE-456C-4B37-987F-D94DBA6D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DB10-7281-418B-9968-47D7662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16F-D06E-4B3F-99E2-ADDD675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2D51-C3A4-49E0-B481-C788406E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5E8D-789B-4ED1-B562-449FC007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8859-547B-42BC-BD74-5D69062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38C3-2AAC-49CD-94FA-60CC59A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9E56A-0BBF-4065-AC9E-3E7F5350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A454-46D2-4281-9D93-3B19C053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24EC-E8F8-4135-9DC6-91D50DE5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3EDCD-4C66-4C33-BF4B-FB41F8D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E43F-3634-4312-B0F1-C032E23D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7C579-8BAB-495F-92E7-6598EA8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70F-7FC6-4472-9941-8B32979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4A28-4C5C-4C4F-88A9-B41538E6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6F7E-D5F3-48B1-83C1-EB5F5E0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D803-9E9A-4115-A0FF-244C6A36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A1DF-1D9A-4A9D-ABB8-D5AF756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6BED-EA42-43B5-88C7-EA92FCC3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9498-914B-44E5-BFC7-15866A63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383F5-C110-44EE-88C9-7F5C4B34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E4373-D412-4104-9537-1C1D9059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4A1D1-A4DC-435F-8BB0-08CEA0E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76512-9286-422C-86BE-13CF755F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82F-7F5C-452F-8A29-A949A9AF9A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10F7-5609-4D3E-82B0-F21E3A111D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4B91-74D6-4EA9-A909-C348C6D524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DD3-B305-461D-B409-52F84D6274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27D5-C0B6-4E51-8047-7E23451091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CEA-0F04-4AB1-AE73-87C116E207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2B8-81B8-4300-9983-D07A60DED9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548F-B15E-4A64-854E-3D0672E101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C514-A321-440D-97A8-942D50F6BE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FE38-1038-4720-B7AC-770998773D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C4F-904C-48A5-926B-C236437297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8669520" cy="3333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5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биологии МАОУ Кара-Хольской СОШ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Бай-Тайгинского кожуу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онгуш Анюта Серге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5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37680" cy="1212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C:\Users\1\Pictures\Рисунок5.jpg"/>
          <p:cNvPicPr/>
          <p:nvPr/>
        </p:nvPicPr>
        <p:blipFill>
          <a:blip r:embed="rId2"/>
          <a:stretch/>
        </p:blipFill>
        <p:spPr>
          <a:xfrm>
            <a:off x="5572080" y="2500200"/>
            <a:ext cx="2852640" cy="3783240"/>
          </a:xfrm>
          <a:prstGeom prst="rect">
            <a:avLst/>
          </a:prstGeom>
          <a:ln w="0">
            <a:noFill/>
          </a:ln>
        </p:spPr>
      </p:pic>
      <p:sp>
        <p:nvSpPr>
          <p:cNvPr id="525" name="TextBox 9"/>
          <p:cNvSpPr/>
          <p:nvPr/>
        </p:nvSpPr>
        <p:spPr>
          <a:xfrm>
            <a:off x="5286240" y="6215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 альвеолах происходит газообме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Box 10"/>
          <p:cNvSpPr/>
          <p:nvPr/>
        </p:nvSpPr>
        <p:spPr>
          <a:xfrm>
            <a:off x="4500720" y="128592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Трахея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-широкая трубка, состоящая из хрящевых полуколе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494280" y="557208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Бронхи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имеют хрящевые кольца.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Бронхи многократно ветвятся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образуя бронхиальное дерево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9" name="Picture 11" descr="C:\Users\1\Pictures\Рисунок6.jpg"/>
          <p:cNvPicPr/>
          <p:nvPr/>
        </p:nvPicPr>
        <p:blipFill>
          <a:blip r:embed="rId3"/>
          <a:stretch/>
        </p:blipFill>
        <p:spPr>
          <a:xfrm>
            <a:off x="285840" y="12859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рипп, ангина, ОРЗ-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оспаление слизистой оболочки околонос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аймор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гаймор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Фронт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обной пазух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Тонзилл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миндалин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Дифтерия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имфатических желе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15920" y="414360"/>
            <a:ext cx="8875800" cy="18050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214200" y="18572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апы дыхан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воздушной средой и легки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легкими и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портировка газов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 в тканя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еплорегуляц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сообразовани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5"/>
          <p:cNvSpPr/>
          <p:nvPr/>
        </p:nvSpPr>
        <p:spPr>
          <a:xfrm>
            <a:off x="2888280" y="500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Органы дыхания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7" descr="C:\Users\1\Pictures\Новый рисунок.png"/>
          <p:cNvPicPr/>
          <p:nvPr/>
        </p:nvPicPr>
        <p:blipFill>
          <a:blip r:embed="rId1"/>
          <a:stretch/>
        </p:blipFill>
        <p:spPr>
          <a:xfrm>
            <a:off x="4500720" y="1214280"/>
            <a:ext cx="4451040" cy="5214960"/>
          </a:xfrm>
          <a:prstGeom prst="rect">
            <a:avLst/>
          </a:prstGeom>
          <a:ln w="0">
            <a:noFill/>
          </a:ln>
        </p:spPr>
      </p:pic>
      <p:pic>
        <p:nvPicPr>
          <p:cNvPr id="509" name="Схема 18" descr=""/>
          <p:cNvPicPr/>
          <p:nvPr/>
        </p:nvPicPr>
        <p:blipFill>
          <a:blip r:embed="rId2"/>
          <a:stretch/>
        </p:blipFill>
        <p:spPr>
          <a:xfrm>
            <a:off x="268200" y="1279440"/>
            <a:ext cx="41086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28400" y="1499760"/>
            <a:ext cx="46782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разделена на левую и правую част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ыстлана мерцательным эпителие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 стенках проходит густая сеть кровеносных сосудо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верхней стенке- фагоциты, лимфоциты и антител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задней части- обонятельные клет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2" name="Picture 6" descr="nasal cavity"/>
          <p:cNvPicPr/>
          <p:nvPr/>
        </p:nvPicPr>
        <p:blipFill>
          <a:blip r:embed="rId2"/>
          <a:srcRect l="28801" t="6354" r="1729" b="15295"/>
          <a:stretch/>
        </p:blipFill>
        <p:spPr>
          <a:xfrm>
            <a:off x="5572080" y="1500120"/>
            <a:ext cx="2928960" cy="26431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5716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и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гревание, увлажнение и очищение воздуха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защита  организма от вредных воздействий через воздух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44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оит из хрящ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щитовидный хря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у мужчин образует кадык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узкой части находятся голосовые связ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6" name="Picture 2" descr="C:\Users\1\Pictures\Рисунок2.jpg"/>
          <p:cNvPicPr/>
          <p:nvPr/>
        </p:nvPicPr>
        <p:blipFill>
          <a:blip r:embed="rId2"/>
          <a:stretch/>
        </p:blipFill>
        <p:spPr>
          <a:xfrm>
            <a:off x="5072040" y="1428840"/>
            <a:ext cx="295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7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respiratory_vocalcords_open_web_thumb"/>
          <p:cNvPicPr/>
          <p:nvPr/>
        </p:nvPicPr>
        <p:blipFill>
          <a:blip r:embed="rId2"/>
          <a:stretch/>
        </p:blipFill>
        <p:spPr>
          <a:xfrm>
            <a:off x="4714920" y="1500120"/>
            <a:ext cx="3744720" cy="2643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respiratory_vocalcords_closed_web"/>
          <p:cNvPicPr/>
          <p:nvPr/>
        </p:nvPicPr>
        <p:blipFill>
          <a:blip r:embed="rId3"/>
          <a:srcRect l="0" t="0" r="0" b="8245"/>
          <a:stretch/>
        </p:blipFill>
        <p:spPr>
          <a:xfrm>
            <a:off x="285840" y="1571760"/>
            <a:ext cx="3781440" cy="25714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8"/>
          <p:cNvSpPr/>
          <p:nvPr/>
        </p:nvSpPr>
        <p:spPr>
          <a:xfrm>
            <a:off x="571680" y="457200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пении и речи голосовые связки смыкаются, остается узкая щель,    края которой вибрируют . Это и есть звуковые колебания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ленораздельные звуки речи формируются в ротовой и носовой пол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ая артикуляция формируется в возрасте от года до 5ле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75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проведение воздух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голосообразов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9:40:26Z</dcterms:created>
  <dc:creator>белый лукич</dc:creator>
  <dc:description/>
  <dc:language>en-US</dc:language>
  <cp:lastModifiedBy>1</cp:lastModifiedBy>
  <dcterms:modified xsi:type="dcterms:W3CDTF">2015-03-07T01:35:57Z</dcterms:modified>
  <cp:revision>43</cp:revision>
  <dc:subject/>
  <dc:title>Дыхательная система</dc:title>
</cp:coreProperties>
</file>