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155-3DB0-4751-980D-497B1D36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5FF-88DA-48A0-92D4-744557B9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EDBF1-59C9-41AD-97FA-85EB50F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1EFA-12CC-46D4-9E44-90A4CD40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C4E1-8C4D-4965-9472-6CFB8C77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47E5A-6F76-4CD1-87FC-E03207A9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D91F-27A0-40C8-97F8-048073E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36527-D401-416D-B14B-390D1A8F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B7A7-A7BB-492C-B9F9-9AF7BD9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3A02-74A9-448B-B2BF-0B055BEC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22C32-EBB3-42F3-BF5A-C200682B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981E9-2720-4977-82EB-43C186C8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578-BD80-4CB0-8618-8FB0663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E46C-EBAF-4422-9CF0-2BF2368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3C3F-D04C-4BD0-ACBB-A558859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3620F-CA36-42AC-AF18-B3DE1AF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B18F-BE25-4BF4-96FC-F33DA48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C028-E52D-4AD8-844F-F569AE18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745C1-C4B1-471F-B95F-770DD0A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60987-B08A-4C68-93A0-F9F57F0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6236F-FD1B-49CC-A73E-1EC6645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B7BD9-3A05-4559-B425-656D0918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A7266-1C10-4917-93F1-47AEBF8F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2FC-CD00-42F1-B372-D53C4AE5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E150-B4D4-449D-A4EB-E411C0C7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2F3E-CA07-4B95-A651-712FC9F3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7445E-D44C-4A37-B1ED-A5AD33DC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52C4-1B2A-4A29-BDE6-98D969F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E972A-48F5-46A8-8B7F-FB675C7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7D55-8C0B-47BC-9B1D-93D1987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5600-46B9-4D83-90E9-AA07254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CD4A7-0A13-416C-A157-E8BE4F9E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5446-9352-428A-9A1A-23A0B65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E003A-3961-4F4F-9CE8-E189D00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6C54-7B65-4815-A476-1FC708C5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EE92-8A0E-4D21-9314-7596450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08CC2-8CCD-493E-B55F-A5478A98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6E00-948E-4A08-939C-DABF057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429D-2DAE-4DFF-BE58-BED56FC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552C-0D50-453B-A03E-88A4140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533-6F96-48C7-AB0C-885C922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B26B-A4B6-438F-AC0D-4F39F988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276-1564-4ED5-8FB2-E1E8783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650-9A66-4650-BDD5-39E9499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65C-E0EF-4D9C-8AF3-C324380F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8EC-C061-48A3-BE4F-3A9A757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594-E8B2-4DC1-8F02-9AF8C77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19F-2540-4E93-8759-1667D396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1C6-E64B-416A-8204-9AB4C785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ABDF-F08B-42D2-8003-2B4FBDDF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270C-5E9E-4F1C-B2D5-0106A5A0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3AAC-DC4E-45FD-A741-F5D8D24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BD58-9F59-4E43-B872-962E1790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C59A-40AA-44C0-887A-EB2980CD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4D56-FBF4-4F01-A503-F2EBBC2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02E-29FB-4F4E-9CA7-D68B3F8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BCAC-E650-4EA1-B895-C6429A7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4F92-077E-4845-A64C-532A08F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295F-6F75-4BED-ADDB-85ACBA0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8C48-188C-4936-9791-04C94116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CD08-D55C-4FE6-BAEF-358283DF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2B27-015D-4909-85A6-044E8509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8CA6-78B1-4F29-B08C-6AD4F5AB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A858-F4A1-411A-84E5-0566B02B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7DA2-2A77-4B94-9DA6-61A8716E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1639-8650-489E-808B-6E90C07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C5C-CDCE-4FDF-A062-258FF04A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03A2-B481-4EE0-83D9-6A6BF45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FD60-BE5F-42EC-B6E8-3D2906F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2379-8E85-4C7C-8D44-9EC899E9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9745-91AA-4CA4-A13D-D07FC8AA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A7FE-4CD3-4BBD-99B5-478B559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C402-8D87-4C00-8C13-32DA86C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CB781-2170-458C-95B7-09CA4C1F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F77E-17C5-411D-BBF5-D96C6586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B495-5EB7-4630-82CF-EDD3B62F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B7C0-0B36-4FF1-A9AA-436CA996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C8C-DFD6-44C6-ABD3-2B0266E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4400-D274-4BB5-9405-F1CEC80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B17E-A399-4968-A178-AC87A14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CACB-5FBD-417A-88FD-9C01F0AB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6406F-B397-46F4-956C-FAB4FC0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35BA-412E-434D-B690-C371ABD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B11FB-6839-4E59-AA89-0855ADE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8320-23CC-45ED-805A-3E570C1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8F96-45E4-45F7-ADC4-5B01FFE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37A0-6B76-4994-91DC-EBB3819A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CCF2-0189-46E7-8D45-2F410BF1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FBB-2A99-421C-8BE9-2E9C9429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CC14-4E20-4B94-811F-80EB8210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1D06F-1FC4-49C6-AB12-943A997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38B0-0F55-47A8-A78C-34C6FF00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B9495-6255-4648-AB58-6538882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9E68-9DB5-45AA-BF97-C02EE9B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C8B03-2F5A-461B-B78B-52D31CA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818C8-7964-4590-AAF1-C10865B3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EDC1-FFD3-4AC4-8761-E20283F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2DBD-3EC7-4A53-8D45-9B9D1E6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764A-66CB-45E0-B468-58EE379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A82-3B66-46DB-B53E-637CD4B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6ACB-D43C-403F-A72B-7FAAEEC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69469-6F7A-4B95-A013-B27A8FA6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0782-C0F2-4C83-8986-8494C87E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4EE1-FD6C-4294-9EC0-083796AB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AF99-6CDF-4657-81D0-31C69685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7C40-1440-433B-ABED-5C35DF0C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946D-98EB-4F3E-B837-00D83514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E6FF-F617-45DC-AE6A-7EFB62F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0F9F-E665-48BF-81E9-45F0CC7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1106-ECFB-4D64-A45C-B79D01F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E1E-794A-4909-8271-DEDE24B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3EDDE-EB48-4258-BE82-C3E540A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A410-8098-460B-854F-F847984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2E10-AD2E-4BE2-B012-42844B8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F606-2825-4DDC-A166-75A72E3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329D-E7F4-480E-A8BC-64E8AA1F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D4B8-818B-45FB-BE73-DCBD3881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CC903-2876-4E0F-81D9-E3B18E5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D295E-3E09-4D81-B416-E934E122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A751E-099F-4843-991A-FB15787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A71B-D141-48B7-93D1-F7BABBEE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09C-2F73-4DA3-9912-8937CF6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0017-CD0A-47D3-9ED2-E187A9DE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33432-8B41-43E2-9943-5C6096F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A469-2815-456F-B455-52A29DDC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56FB-FC00-4C23-9B41-26E7433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3623-F014-43AF-A1F3-8DA22BF5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E39E-44C2-49F4-AD09-9AD02AA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586E-19F3-484A-9C92-15723E25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53A1-A833-4946-839A-AE3C9D3B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2B8AA-3EE7-45FB-AD20-D53FF16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299C-7E6C-46BB-AFC8-2FAA00A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8B24-8E55-4DA3-80D8-24C4F76E12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B5DC-6F20-4AF9-995D-9DAB8DF97F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3D2-2F34-4269-AD1E-2035C08903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CA7-C538-4A5F-9F12-96792C9178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6111-50C8-4149-822E-0942085696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319-2D77-4C1C-9BC5-9FE3C0F967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7E40-7955-4D4A-9C30-419F462E71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3434-736F-4FB2-99E3-E9F0B474EB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0B4D-A2F0-47EE-993D-49A5B3572E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6BA-B3FC-4539-AF6F-73BB81C436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0403-4B59-4A06-B70A-99A9C3BFEC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8669520" cy="3333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5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биологии МАОУ Кара-Хольской СОШ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Бай-Тайгинского кожуу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онгуш Анюта Серге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5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37680" cy="1212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C:\Users\1\Pictures\Рисунок5.jpg"/>
          <p:cNvPicPr/>
          <p:nvPr/>
        </p:nvPicPr>
        <p:blipFill>
          <a:blip r:embed="rId2"/>
          <a:stretch/>
        </p:blipFill>
        <p:spPr>
          <a:xfrm>
            <a:off x="5572080" y="2500200"/>
            <a:ext cx="2852640" cy="3783240"/>
          </a:xfrm>
          <a:prstGeom prst="rect">
            <a:avLst/>
          </a:prstGeom>
          <a:ln w="0">
            <a:noFill/>
          </a:ln>
        </p:spPr>
      </p:pic>
      <p:sp>
        <p:nvSpPr>
          <p:cNvPr id="525" name="TextBox 9"/>
          <p:cNvSpPr/>
          <p:nvPr/>
        </p:nvSpPr>
        <p:spPr>
          <a:xfrm>
            <a:off x="5286240" y="6215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 альвеолах происходит газообмен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Box 10"/>
          <p:cNvSpPr/>
          <p:nvPr/>
        </p:nvSpPr>
        <p:spPr>
          <a:xfrm>
            <a:off x="4500720" y="128592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Трахея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-широкая трубка, состоящая из хрящевых полуколе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494280" y="557208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Бронхи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имеют хрящевые кольца.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Бронхи многократно ветвятся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образуя бронхиальное дерево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9" name="Picture 11" descr="C:\Users\1\Pictures\Рисунок6.jpg"/>
          <p:cNvPicPr/>
          <p:nvPr/>
        </p:nvPicPr>
        <p:blipFill>
          <a:blip r:embed="rId3"/>
          <a:stretch/>
        </p:blipFill>
        <p:spPr>
          <a:xfrm>
            <a:off x="285840" y="12859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рипп, ангина, ОРЗ- 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воспаление слизистой оболочки околонос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Гаймор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гайморовых пазу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Фронт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обной пазух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Тонзиллит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миндалин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Дифтерия</a:t>
            </a:r>
            <a:r>
              <a:rPr b="0" lang="ru-RU" sz="3200" spc="-1" strike="noStrike">
                <a:solidFill>
                  <a:srgbClr val="002060"/>
                </a:solidFill>
                <a:latin typeface="Franklin Gothic Book"/>
              </a:rPr>
              <a:t>- воспаление лимфатических желе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15920" y="414360"/>
            <a:ext cx="8875800" cy="18050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214200" y="18572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апы дыхан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воздушной средой и легки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мен газов между легкими и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портировка газов кровью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 в тканя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азообме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еплорегуляц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сообразовани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5"/>
          <p:cNvSpPr/>
          <p:nvPr/>
        </p:nvSpPr>
        <p:spPr>
          <a:xfrm>
            <a:off x="2888280" y="50004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Органы дыхания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7" descr="C:\Users\1\Pictures\Новый рисунок.png"/>
          <p:cNvPicPr/>
          <p:nvPr/>
        </p:nvPicPr>
        <p:blipFill>
          <a:blip r:embed="rId1"/>
          <a:stretch/>
        </p:blipFill>
        <p:spPr>
          <a:xfrm>
            <a:off x="4500720" y="1214280"/>
            <a:ext cx="4451040" cy="5214960"/>
          </a:xfrm>
          <a:prstGeom prst="rect">
            <a:avLst/>
          </a:prstGeom>
          <a:ln w="0">
            <a:noFill/>
          </a:ln>
        </p:spPr>
      </p:pic>
      <p:pic>
        <p:nvPicPr>
          <p:cNvPr id="509" name="Схема 18" descr=""/>
          <p:cNvPicPr/>
          <p:nvPr/>
        </p:nvPicPr>
        <p:blipFill>
          <a:blip r:embed="rId2"/>
          <a:stretch/>
        </p:blipFill>
        <p:spPr>
          <a:xfrm>
            <a:off x="268200" y="1279440"/>
            <a:ext cx="41086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28400" y="1499760"/>
            <a:ext cx="46782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разделена на левую и правую част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ыстлана мерцательным эпителием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в стенках проходит густая сеть кровеносных сосудо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верхней стенке- фагоциты, лимфоциты и антител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24139"/>
                </a:solidFill>
                <a:latin typeface="Franklin Gothic Book"/>
              </a:rPr>
              <a:t>на задней части- обонятельные клет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2" name="Picture 6" descr="nasal cavity"/>
          <p:cNvPicPr/>
          <p:nvPr/>
        </p:nvPicPr>
        <p:blipFill>
          <a:blip r:embed="rId2"/>
          <a:srcRect l="28801" t="6354" r="1729" b="15295"/>
          <a:stretch/>
        </p:blipFill>
        <p:spPr>
          <a:xfrm>
            <a:off x="5572080" y="1500120"/>
            <a:ext cx="2928960" cy="264312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85716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и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огревание, увлажнение и очищение воздуха,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защита  организма от вредных воздействий через воздух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255600" y="31104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44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оит из хрящ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щитовидный хря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у мужчин образует кадык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узкой части находятся голосовые связ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6" name="Picture 2" descr="C:\Users\1\Pictures\Рисунок2.jpg"/>
          <p:cNvPicPr/>
          <p:nvPr/>
        </p:nvPicPr>
        <p:blipFill>
          <a:blip r:embed="rId2"/>
          <a:stretch/>
        </p:blipFill>
        <p:spPr>
          <a:xfrm>
            <a:off x="5072040" y="1428840"/>
            <a:ext cx="295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7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respiratory_vocalcords_open_web_thumb"/>
          <p:cNvPicPr/>
          <p:nvPr/>
        </p:nvPicPr>
        <p:blipFill>
          <a:blip r:embed="rId2"/>
          <a:stretch/>
        </p:blipFill>
        <p:spPr>
          <a:xfrm>
            <a:off x="4714920" y="1500120"/>
            <a:ext cx="3744720" cy="2643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respiratory_vocalcords_closed_web"/>
          <p:cNvPicPr/>
          <p:nvPr/>
        </p:nvPicPr>
        <p:blipFill>
          <a:blip r:embed="rId3"/>
          <a:srcRect l="0" t="0" r="0" b="8245"/>
          <a:stretch/>
        </p:blipFill>
        <p:spPr>
          <a:xfrm>
            <a:off x="285840" y="1571760"/>
            <a:ext cx="3781440" cy="25714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8"/>
          <p:cNvSpPr/>
          <p:nvPr/>
        </p:nvSpPr>
        <p:spPr>
          <a:xfrm>
            <a:off x="571680" y="457200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пении и речи голосовые связки смыкаются, остается узкая щель,    края которой вибрируют . Это и есть звуковые колебания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ленораздельные звуки речи формируются в ротовой и носовой пол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ая артикуляция формируется в возрасте от года до 5ле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255600" y="378000"/>
            <a:ext cx="8437680" cy="1145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75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проведение воздух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Franklin Gothic Book"/>
              </a:rPr>
              <a:t>голосообразов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9:40:26Z</dcterms:created>
  <dc:creator>белый лукич</dc:creator>
  <dc:description/>
  <dc:language>en-US</dc:language>
  <cp:lastModifiedBy>1</cp:lastModifiedBy>
  <dcterms:modified xsi:type="dcterms:W3CDTF">2015-03-07T01:35:57Z</dcterms:modified>
  <cp:revision>43</cp:revision>
  <dc:subject/>
  <dc:title>Дыхательная система</dc:title>
</cp:coreProperties>
</file>