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3F8-BBE3-48EF-99B1-2C4853F3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8F8-F0C1-4FA8-B2B1-8FA11CB4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911-D2F6-46C7-882D-4BAEB1C0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9F2-1FBF-4D09-9481-6D4F496C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637-EE23-4FA8-8200-1BC62610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181-E50F-477E-A142-D91CCE95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941-993A-4762-8AB6-B38EAB88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F9F-2ECA-4AD8-9F5E-49B5213B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85D-481A-42DE-889B-58F3719A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874-88D0-4B72-AF32-87C40279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E11-A7E3-4276-92EF-CDA9621D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BA5-335E-4EAA-9CAA-DCF80294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20C9-50BD-491D-A280-E5E0FAE133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hyperlink" Target="http://www.azara.ru/uploads/posts/thumbs/1175420439_a59a92a50f3d002458e75f05b9ef56f0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azara.ru/uploads/posts/thumbs/1175420439_a59a92a50f3d002458e75f05b9ef56f0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447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Общение педагога с родителями в ДОУ: методический аспект» 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Авторы: Зверева О.Л., Кротова Т.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методическом пособии раскрываются новые подходы в общении с родителями на современном этапе. Авторами пособия подробно освещаются основные этапы оказания методической помощи: раскрывается содержание работы, определяются ее формы и методы; представлена краткая история взаимодействия ДОУ с семьей ребенка. В пособии представлены анкеты для родителей и педагогов, сценарии мероприятий, программа оказания методической помощи воспитател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дательство Сфера, 2005 г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1000688527"/>
          <p:cNvPicPr/>
          <p:nvPr/>
        </p:nvPicPr>
        <p:blipFill>
          <a:blip r:embed="rId1"/>
          <a:stretch/>
        </p:blipFill>
        <p:spPr>
          <a:xfrm>
            <a:off x="5059440" y="1773360"/>
            <a:ext cx="2984400" cy="45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Схема преимуществ и недостатков семьи и детского са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работы Ивановой В.М., 1993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4360" y="1039680"/>
          <a:ext cx="7772400" cy="5077080"/>
        </p:xfrm>
        <a:graphic>
          <a:graphicData uri="http://schemas.openxmlformats.org/drawingml/2006/table">
            <a:tbl>
              <a:tblPr/>
              <a:tblGrid>
                <a:gridCol w="4101840"/>
                <a:gridCol w="367056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ский сад- недост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ья-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ая форма общения воспитателей с детьми, сниженные интимность и эмоциональная включ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анальная насыщенность отношенний между родителем и ребйнком, «общение ради общения», кровнородственные близость и теп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сменяющих друг друга воспитателей с разными программами поведения, методами воздействий на ребё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оянство и длительность общения, переплетение частных жизней, сопричастность ребенка с общими планами отца и матери, других членов семь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щение воспитателя ко всем детям, дозированность индивидуального общения с каждым ребён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 обращённость педагогических воздействий на ребё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ая регламентированность режима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й режим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имущественное общение с детьми од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 общаться с родсвенниками разных возрастов: детьми, родными разных поко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Семейный вернисаж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этом разделе могут быть представлены рисунки, поделки и др., выполненные родителями вместе со своими деть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Игра-это серьезно!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дел содержит информацию о значении детской игры, даются советы по организации детских игр дома, а также предлагаются варианты досуговых игр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Скоро в школу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этом разделе содержится информация о подготовке детей к школе; советы, рекомендации по успешному вхождению ребенка в школьную жизнь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Внимание! Конкурс!», «Спешите участвовать!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нформация о предстоящих в ДОУ конкурс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Учусь играя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этом разделе содержатся сведения о развивающих играх для дошкольников, советы и рекомендации по их проведению, варианты игровых упражнений, направленные на развитие определенных способнос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16" dur="indefinite" restart="never" nodeType="tmRoot">
          <p:childTnLst>
            <p:seq>
              <p:cTn id="2317" dur="indefinite" nodeType="mainSeq">
                <p:childTnLst>
                  <p:par>
                    <p:cTn id="2318" fill="hold">
                      <p:stCondLst>
                        <p:cond delay="0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6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2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8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Специалисты советуют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атериалы этого раздела готовят специалисты ДОУ: педагог-психолог, учитель-логопед, музыкальный руководитель, инструктор по физической культуре по актуальным тем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Наша жизнь день за днем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дел представляет материалы о минувшем дне: какие проходили занятия, что читали детям, какие песни выучили на музыкальном занятии, куда ходили на экскурсию, какой смотрели спектакль и мн. др. Материал постоянно обновляется. На нем могут быть такие обращения: « Мама, выучи со мной скороговорку: (текст скороговорки)»; «Папа, загадай мне загадку: (текст загадки)» и т.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ен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нформация о том, какими блюдами будут сегодня кормить детей. Можно использовать для индивидуальной работы с родителями. Например, завтрак: « Любимая каша» (Миши К., Даши С., Оли Р.)- манна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ъявл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этом разделе помещается только официальная информация: когда будет собрание, уплата долга, принести краски и т.д. (если есть об этом решение родительского собрания, на которое нужно обязательно сделать ссылку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удрые мысли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сказывания известных педагогов, писателей, философов о воспитании подрастающего поколения, народная мудрость о семье и семейном воспитан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fill="hold">
                      <p:stCondLst>
                        <p:cond delay="0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7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3. Папки-передвиж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4. Фотовыстав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5. Рекламно-информационные букл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6. Информационные письма, корзины, проспекты, памятки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7. Выставки детских раб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тематические выставк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Примечани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весь информационный материал должен быть кратким, доступным, эстетично оформленным и соответствовать годовым задачам дошкольного образовательного учрежд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fill="hold">
                      <p:stCondLst>
                        <p:cond delay="0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898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98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898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98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898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98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98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изитная карточка групп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педагогических кадрах, работающих в группе, в том числе о специалистах: педагоге- психологе, учителе-логопеде, преподавателях по изобразительной деятельности, хореографии, иностранному язы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программах, реализуемых в группах (полное название, автор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руководстве ДОУ: ф.и.о. руководителя (звание, номера контактных телефонов, время приема по личным вопросам), ф.и.о. старшего воспита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медицинской, психологической службе ДОУ ЦРР: ф.и.о. медицинской сестры, педагога – психолога, номера телефонов, время приема родителей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аглядно-информационные фо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Информационно-ознакомительная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комление родителей с самим дошкольным учреждением, особенностями его работы, с педагогами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этой группе относится такая форма к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«День открытых дверей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ни открытых дверей» дают возможность родителям увидеть стиль общения педагогов с детьми, самим включиться в общение и деятельность детей и воспит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йчас актуально не просто продемонстрировать родителям педагогический процесс, но и вовлечь их  в него. В этот деть родители, а также близкие родственники ребенка имеют возможность свободно посетить дошкольное учреждение, пройти по всем помещениям, увидеть, как ребенок занимается, играет, отдых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34" dur="indefinite" restart="never" nodeType="tmRoot">
          <p:childTnLst>
            <p:seq>
              <p:cTn id="2435" dur="indefinite" nodeType="mainSeq">
                <p:childTnLst>
                  <p:par>
                    <p:cTn id="2436" fill="hold">
                      <p:stCondLst>
                        <p:cond delay="0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8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етоды активизации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ы активизации – это методы, активизирующие мышление родителей, побуждающие его к размышлени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кетиров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ью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куссионны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пеляция к авторитетному мнению из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ые просмотры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 творческой деятельности деетй и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мотр виде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лушивание аудиозапи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ые задания для домашнего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49" dur="indefinite" restart="never" nodeType="tmRoot">
          <p:childTnLst>
            <p:seq>
              <p:cTn id="2450" dur="indefinite" nodeType="mainSeq">
                <p:childTnLst>
                  <p:par>
                    <p:cTn id="2451" fill="hold">
                      <p:stCondLst>
                        <p:cond delay="0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9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898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98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7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898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898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3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98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898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898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898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898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3" dur="10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898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1" dur="1000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898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етоды развития педагогической рефлексии родител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4240" y="131436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флексия – «заглядывание внутрь себя», умение родителей анализировать собственную воспитательную деятельность, критически ее оцени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педагогических ситу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проблем педагогически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яемое игровое взаимодействие родителей и де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нтанное игровое взаимодействие взрослых и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ое моделирование способов родительского повед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ые задания и упраж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гательные упраж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уночные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упраж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45" dur="indefinite" restart="never" nodeType="tmRoot">
          <p:childTnLst>
            <p:seq>
              <p:cTn id="2546" dur="indefinite" nodeType="mainSeq">
                <p:childTnLst>
                  <p:par>
                    <p:cTn id="2547" fill="hold">
                      <p:stCondLst>
                        <p:cond delay="0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98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98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898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898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898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898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898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5" dur="1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98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898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898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898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1000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898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Секреты общ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Картинка 6 из 368"/>
          <p:cNvPicPr/>
          <p:nvPr/>
        </p:nvPicPr>
        <p:blipFill>
          <a:blip r:embed="rId2"/>
          <a:stretch/>
        </p:blipFill>
        <p:spPr>
          <a:xfrm>
            <a:off x="1476360" y="1484280"/>
            <a:ext cx="640872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РАСПОЛОЖИТЕ ЛЮДЕЙ К СЕБ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люди, умеющие отлично располагать к себе других, завоевывать симпатию. Они используют приемы, владеть которыми необходимо всем, кто работает в системе «человек-человек»: руководителям, педагогам, врачам, работникам торговли, сферы обслуживания и т.д. Они общедоступны и не требуют никаких особых усил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4" descr="32"/>
          <p:cNvPicPr/>
          <p:nvPr/>
        </p:nvPicPr>
        <p:blipFill>
          <a:blip r:embed="rId1"/>
          <a:stretch/>
        </p:blipFill>
        <p:spPr>
          <a:xfrm>
            <a:off x="4859280" y="2060640"/>
            <a:ext cx="38894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0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реимуществ и недостатков семьи и детского сада 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из работы Ивановой В.М., 1993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26920" y="692280"/>
          <a:ext cx="7772400" cy="6054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ский сад-пре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ья- недоста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и использование программ воспитания и обучения дошкольников, научно- методических знаний у педагогов, методических пособ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программы воспитания, наличие отрывочных представлений о воспитании, использование случайной педагогической литерату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направленный характер воспитания и обучени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ийный характер воспитания и обучения ребёнка, использование отдельных традиций и элементов целенаправленного воспит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жизни, быта, воспитания и обучения научно разработаны для детей, их потреб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я создавать условия доя себя, напоминание их важности для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лое применение оценки деятельности и поведения детей как стимула их разви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нимание роли оценки в воспитании и обучении ребёнка, стремление оценивать не поведение и деятельность ребёнка, а его л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нообразная содержательная деятельность детей в обществе сверстников, возможность играть и общаться с широким кругом ровес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образие и малосодержательность деятельности ребёнка; недостаток игрового общения взрослого и детей в сем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профессиональных умений для изучения личности ребёнка в процессе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мение дать своему ребёнку объективную характеристику, проанализировать свои методы воспит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щённость ребёнка от травмирующей стороны личной жизни взрослых, их плохого настр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защитность ребёнка перед травмирующимися фактами личной жизни родителей, перед их плохим настро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 методов воспитания, обучения, адекватных возрастным особенностям дошк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нимание возрастных особенностей дошкольников, стремление воспитывать как получиться, не понимание духовных  потребностей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Первы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произнесение вслух имени или имени и отчества человека, с которым разговариваете. Это не только из чувства вежливости, но, как сказал американский психолог Д.Карнеги: «Звучание собственного имени для человека — самая приятная мелод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Второ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контролирование выражения лица. В народе говорят: «Лицо — зеркало отношений». Следует исключить выражение лица сфинкса. Улыбка — это пароль для друз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Трети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«золотые слова». Умейте говорить комплименты. Статистика показывает, что более 90% людей улучшают свою деятельность, если им говорить комплименты. В основе механизма комплимента лежит эффект внушения и, как следствие его, потребность выглядеть лучше. Выражая комплименты, необходимо учитывать ряд прави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-первых, комплимент должен отражать только положительное качество данного человека. Нужно избегать двойного смысла: «Слушая ваши беседы с людьми, удивляюсь способности тонко и остроумно уходить от ответа». Во-вторых, быть без гипербол: комплимент должен иметь небольшое преувеличение. Например, исключить: «Я всегда поражаюсь вашей пунктуальности и аккуратности» (а за человеком этих качеств не водится). В-третьих, «без дидактики»: комплимент должен утверждать наличие данной характеристики, а не содержать рекомендацию по ее улучшению. Имеется в виду: «Тебе следует быть активнее», «Твердость убеждений украшает мужчину». В-четвертых, «без приправ»: к комплименту недопустимы язвительные добавки: «Руки у тебя действительно золотые, а вот язык — твой враг». Удержитесь от ложки дегт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0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9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Четверты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учитывать технику разговора. Любой контакт с людьми не следует начинать с образования у них отрицательных эмоций. Если совещание начинают с нравоучений, анализа упущений — происходит блокирование слов руководителя, создается отрицательный эмоциональный фон у людей. Лучше начинать со слов: «Рад вас приветствовать» и т.д. Когда у людей положительный эмоциональный фон, то, во-первых, работается лучше, а во-вторых, легче принять высказываемое мнение, суждение. Нельзя не учитывать психологический феномен: люди лучше запоминают начало и конец разговора. Начало создает фон для основной части, а конец — отношение к этому разговор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Пятый прием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воспитывать в себе терпеливого слушателя. Банальная ситуация, которая может произойти с каждым руководителем: вас срочно вызывают, а ваша сотрудница хочет сообщить вам что-то важное. Вы знаете, что информация, которую она приносит, рациональности содержит процентов на 30. Уместна такая позиция: «М.И., нет никакого сомнения, что вы хотите сообщить что-то важное. Но говорить о серьезных вещах не стоит на ходу, ведь вы искренне болеете за дело. До встречи через 2 час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Шестой прием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использовать тягу людей поговорить о личном. Необходимо знать интерес каждого сотрудника, работающего в вашем коллективе. И, обращаясь с любым вопросом по работе, не забывайте спросить его о личн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заключение нужно сказать, что необходимо иметь огромное желание применить подобные приемы. Пусть поначалу у вас будет натянутая улыбка, неуклюжий комплимент, повышенный интерес к личным делам — со временем это отшлифуется и станет выглядеть естествен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МАЙКОВА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сихолог, г. Ярослав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2" dur="indefinite" restart="never" nodeType="tmRoot">
          <p:childTnLst>
            <p:seq>
              <p:cTn id="2683" dur="indefinite" nodeType="mainSeq">
                <p:childTnLst>
                  <p:par>
                    <p:cTn id="2684" fill="hold">
                      <p:stCondLst>
                        <p:cond delay="0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3960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я и ДОУ  обладают достоинствами и недостат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бусловлено спецификой воспитательно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по отдельности способны влиять на развитие ребёнка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но только совместные усилия могут привести к положительным результатом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Картинка 37 из 1144"/>
          <p:cNvPicPr/>
          <p:nvPr/>
        </p:nvPicPr>
        <p:blipFill>
          <a:blip r:embed="rId2"/>
          <a:stretch/>
        </p:blipFill>
        <p:spPr>
          <a:xfrm>
            <a:off x="4500720" y="1989000"/>
            <a:ext cx="4319280" cy="386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Картинка 78 из 3061"/>
          <p:cNvPicPr/>
          <p:nvPr/>
        </p:nvPicPr>
        <p:blipFill>
          <a:blip r:embed="rId2"/>
          <a:stretch/>
        </p:blipFill>
        <p:spPr>
          <a:xfrm>
            <a:off x="5003640" y="549360"/>
            <a:ext cx="3672000" cy="261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Картинка 59 из 479749"/>
          <p:cNvPicPr/>
          <p:nvPr/>
        </p:nvPicPr>
        <p:blipFill>
          <a:blip r:embed="rId3"/>
          <a:stretch/>
        </p:blipFill>
        <p:spPr>
          <a:xfrm>
            <a:off x="755640" y="3357720"/>
            <a:ext cx="3809880" cy="2746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539640" y="1433520"/>
            <a:ext cx="37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Взаимодейств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5634720" y="416412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б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Для налаживания сотрудничества следует пересмотреть свои позиции и перейти от профессиональной обязанности вести работу с родителями к желанию сотрудничать, а значит, отказаться от традиционной роли воспитателя в пользу партнёрск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981000"/>
          <a:ext cx="7772400" cy="5184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 роль педаг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 партнё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ет ребёнка и предоставляет родителям информацию о его развит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шивает родителей о ребёнке и вместе с ними оценивает его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на все вопросы знает са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щет решение проблем вмест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ит цели развития для ребёнка и группы в це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ет цели и пожелания родителей в отношении их ребёнка и группы в целом и добавляет к ним свои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ёт родителям  задания на 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 с родителями обсуждает и находит те виды деятельности, которые подходят по домашним условиям и стилю жиз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 применяет специальные слова (термины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 так, чтобы родителям было поня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т, что родители будут относиться к нему как знатоку- специа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родителям оценить свои силы и знания, убедиться в правильности своих действий. Готов не только учить, но и учиться у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96"/>
          <p:cNvSpPr/>
          <p:nvPr/>
        </p:nvSpPr>
        <p:spPr>
          <a:xfrm>
            <a:off x="684360" y="6108840"/>
            <a:ext cx="758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Для успешного взаимодействия с семьей необходимо также изучить международные стандарты, касающиеся организации работы с родител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ждународные стандарты ISSA,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определяющие стиль работы персонала с родителями и детьми в детском саду и начальной шк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райтесь проанализировать, соответствует ли работа детского сада, данным стандар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едагоги взаимодействуют с родителями как партнёры, чтобы обеспечить максимальную поддержку в удовлетворении потребностей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агоги приглашают родителей и других членов семей в группу для участия в учебном процесс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шивают плакаты, приветствующие приход родителей в групп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гают пришедшим родителям включаться в игры и занят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18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8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8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8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8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8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015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025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регулярно общаются с родителями и членами семей, обсуждают с ними способы поддержки развития ребён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уждают прогресс и достижения ребёнка, возникающие у него труд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уждают и находят возможные способы поддержки развития ребё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елефону сообщают информацию о повседневных событиях и изменениях в физическом или эмоциональном состоянии ребё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собирают информацию об интересах, увлечениях, культурных особенностях и профессиях членов семьи, а также поощряют любое участие в деятельности групп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ют различные виды письменной информации( например объявления, личные приглашения, бюллетени, информационные листовки и т.п.) для того, чтобы сообщить родителям о проектах и мероприятиях, проводимых в группе, и пригласить принять участие в ни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яют участие семей в организации походов, экскурсий, семейных вечеров, спортивных мероприятий, спектаклей, лагерей, а также летних или зимних канику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niyniy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404640"/>
            <a:ext cx="80629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разделяют с семьёй ответственность за принятие решений относительно обучения их дет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лях обеспечения последовательности в работе с детьми обсуждают с родителями практические вопросы воспитания и развития ребёнка, включая влияние культурной сред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яют информацию о развитии и обучении ребёнка, которую родители могут использовать дом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вают ресурсы, которые родители могут использовать для развития и дополнения занятий, проводимых в детском са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едагоги используют свои знания относительно развития детей  и учитывают уникальные потребности и потенциальные возможности каждого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агоги способствуют развитию положительной самооценки дошк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действуют с каждым ребёнком, проявляя любовь, заинтересованность и уваж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детей по именам, говорят  с ними  дружелюбно, вежливо, на уровне глаз ребё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действуют не только вербально, но и посредством улыбок, прикосновений, держания на рук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ют сильные стороны личности каждого ребенка и его достижения, ежедневно хвалят каждого ребенка за индивидуальные навыки и успе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ают семьям об успехах их де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100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одительские собрания в ДОУ: методическое пособие»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ы: Зверева О.Л., Кротова Т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 представлен обширный практический материал для работы с родителями в виде сценариев родительских собраний. Сюда входят как традиционные формы, так и нетрадиционные. Все сценарии неоднократно апробированы в практике работы ДОУ. Материал легко использовать творчески: приводить собственные примеры, дополнять, привлекать родителей к обсуждению проблем, приглашать различных специалис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дательство Айрис-Пресс, 2007 г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" descr="1000413757"/>
          <p:cNvPicPr/>
          <p:nvPr/>
        </p:nvPicPr>
        <p:blipFill>
          <a:blip r:embed="rId1"/>
          <a:stretch/>
        </p:blipFill>
        <p:spPr>
          <a:xfrm>
            <a:off x="5103720" y="1628640"/>
            <a:ext cx="313236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1175420439_a59a92a50f3d002458e75f05b9ef56f0"/>
          <p:cNvPicPr/>
          <p:nvPr/>
        </p:nvPicPr>
        <p:blipFill>
          <a:blip r:embed="rId2"/>
          <a:stretch/>
        </p:blipFill>
        <p:spPr>
          <a:xfrm>
            <a:off x="168120" y="46080"/>
            <a:ext cx="8975880" cy="6622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понимают, что между детьми существуют различия в характере и темпе развития, мышления, языке и социальных возможностя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ствуют индивидуальному росту, соответствующему темпам разви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щаются с детьми любой расы, этнической группы, религии, социальной принадлежности, культуры, пола с равным уважением и внимани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ют детям равные возможности принимать участие во всех видах занят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нают индивидуальные потребности детей, включая детей с проблемами, обеспечивают условия для удовлетворения различных нуж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ют детям право выбора видов деятельности и время для игр и самостоятельной рабо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Картинка 31 из 1902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7484240" y="-144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Картинка 31 из 1902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47484240" y="-1440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знакомятся с культурой, историей, ценностями и особенностями семей и отдельных воспитанник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едуют с каждым ребенком о людях, местах и вещах, которые для нег значим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оставляют возможность обмениваться идеями с другими деть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ют материалы и оборудование, отражающие многообразие детей и семей, представленных в групп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Картинка 32 из 241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415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Уважаемые педагог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Родители вправе ожидать от вас и других сотрудников детского сада именно такого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равовой аспек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я взаимосвязи общественного и семейного воспитания, а также взаимной ответственности педагогов, родителей и общественности нашла свое отражение в ряд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рмативно-правовых документов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цепция дошкольного вос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«Об образован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емейный кодек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ложение о дошкольном образовательном учреждении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руг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артинка 15 из 1213"/>
          <p:cNvPicPr/>
          <p:nvPr/>
        </p:nvPicPr>
        <p:blipFill>
          <a:blip r:embed="rId2"/>
          <a:stretch/>
        </p:blipFill>
        <p:spPr>
          <a:xfrm>
            <a:off x="214200" y="0"/>
            <a:ext cx="8713800" cy="6626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2214360"/>
            <a:ext cx="50403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тели являются первыми педагогами. Они обязаны заложить основы физического, нравственного и интеллектуального развития личности ребенка в раннем возрасте.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.18 Закона «Об Образовании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В Семейном кодексе РФ подробно прописаны права и обязанности родителей, в т.ч. по воспитанию и образованию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одители имеют равные права и равные обязанности. Родители имеют преимущественное право на воспитание своих дет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значит, что при воспитании детей родительское мнение считается первоочередным. То есть педагоги, отвечающие за воспитание детей, должны при проведении воспитательного процесса принимать во внимание мнение родителей и в меру необходимости и возможностей следовать их рекомендация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раво родителей на воспитание своих детей – одно из основных родительских прав, которое одновременно является их обязан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Право на воспитание родителями своих детей дает им возможность воспитывать своих детей лично с помощью любых средств и методов по усмотрению родителей, но эти все средства и методы должны быть приемлемы с точки зрения морали и закона, и отвечать интересам ребе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Картинка 28 из 7288"/>
          <p:cNvPicPr/>
          <p:nvPr/>
        </p:nvPicPr>
        <p:blipFill>
          <a:blip r:embed="rId2"/>
          <a:stretch/>
        </p:blipFill>
        <p:spPr>
          <a:xfrm>
            <a:off x="179280" y="115920"/>
            <a:ext cx="8713800" cy="6553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73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Семейный кодекс конкретизирует те действия, которые родители и педагоги не вправе осуществлять при воспитании детей. Э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небрежение его разумными запросами и потребностями (еда, прогулка, одежда, вода, спальное место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убое обращение с ребен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стокие методы вос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жение ребенка как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корбление словом и действ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сплуатация (использование труда, выходящее за рамки семейной педагог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жестоким методам обращения с ребенком относится физическое 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сихологическ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силие (повышение голоса на ребенка, изолирование ребенка в отдельное помещение и т.д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Права несовершеннолетних дете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ный кодекс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а 11. Права несовершеннолетних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54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аво ребенка жить и воспитываться в семье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ебенком признается лицо, не достигшее возраста восемнадцати лет (совершеннолетия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аждый ребенок имеет право жить и воспитываться в семье, насколько это возможно, право знать своих родителей, право на их заботу, право на совместное с ними проживание, за исключением случаев, когда это противоречит его интерес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имеет права на воспитание своими родителями, обеспечение его интересов, всестороннее развитие, уважение его человеческого достоинст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тсутствии родителей, при лишении их родительских прав и в других случаях утраты родительского попечения право ребенка на воспитание в семье обеспечивается органом опеки и попечительства в порядке, установленном главой 18 настоящего Кодекс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7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5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5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Право ребенка на общение с родителями и другими родственниками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имеет право на общение с обоими родителями, дедушкой, бабушкой, братьями, сестрами и другими родственниками. Расторжение брака родителей, признание его недействительным или раздельное проживание родителей не влияют на права ребенка. В случае раздельного проживания родителей ребенок имеет право на общение с каждым из них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имеет право на общение со своими родителями также в случае их проживания в разных государств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ебенок, находящийся в экстремальной ситуации (задержание, арест, заключение под стражу, нахождение в лечебном учреждении и другое), имеет право на общение со своими родителями и другими родственниками в порядке, установленном зако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4244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абота ДОУ с семьей: диагностика, планирование, конспекты лекций, консультации, мониторинг»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ы: А.В.Козлова, Р.П. Дешеу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собии раскрывается необходимость саморазвития воспитателей детского сада и родителей, чьи дети посещают ДОУ, как участников педагогического процесса. Пособие содержит материалы по диагностике, тематические планы, конспекты лекций, консультации, мониторинг – все, что может пригодится воспитателям и специалистам ДОУ при работе с семь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121362"/>
          <p:cNvPicPr/>
          <p:nvPr/>
        </p:nvPicPr>
        <p:blipFill>
          <a:blip r:embed="rId1"/>
          <a:stretch/>
        </p:blipFill>
        <p:spPr>
          <a:xfrm>
            <a:off x="5148360" y="1844640"/>
            <a:ext cx="3012840" cy="44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15560"/>
            <a:ext cx="77724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6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аво ребенка на защиту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Ребенок имеет право на защиту своих прав и законных интерес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та прав и законных интересов ребенка осуществляется родителями (лицами, их заменяющими), а в случаях, предусмотренных настоящим Кодексом, органом опеки и попечительства, прокурором и суд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овершеннолетний, признанный в соответствии с законом полностью дееспособным до достижения совершеннолетия, имеет право самостоятельно осуществлять свои права и обязанности, в том числе право на защит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Ребенок имеет право на защиту от злоупотреблений со стороны родителей (лиц, их заменяющих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нарушении прав и законных интересов ребенка, в том числе при невыполнении или при ненадлежащем выполнении родителями (одним из них) обязанностей по воспитанию, образованию ребенка либо при злоупотреблении родительскими правами, ребенок вправе самостоятельно обращаться за их защитой в орган опеки и попечительства, а по достижении возраста четырнадцати лет в су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Должностные лица организаций и иные граждане, которым станет известно об угрозе жизни или здоровью ребенка, о нарушении его прав и законных интересов, обязаны сообщить об этом в орган опеки и попечительства по месту фактического нахождения ребенка. При получении таких сведений орган опеки и попечительства обязан принять необходимые меры по защите прав и законных интересов ребен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9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7724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7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аво ребенка выражать свое м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вправе выражать свое мнение при решении в семье любого вопроса, затрагивающего его интересы, а также быть заслушанным в ходе любого судебного или административного разбирательств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мнения ребенка, достигшего возраста десяти лет, обязателен, за исключением случаев, когда это противоречит его интерес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ях, предусмотренных настоящим Кодексом (статьи 59, 72, 132, 134, 136, 143, 154), органы опеки и попечительства или суд могут принять решение только с согласия ребенка, достигшего возраста десяти л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8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аво ребенка на имя, отчество и фамилию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ебенок имеет право на имя, отчество и фамил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мя ребенку дается по соглашению родителей, отчество присваивается по имени отца, если иное не предусмотрено законами субъектов Российской Федерации или не основано на национальном обыча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Фамилия ребенка определяется фамилией родителей. При разных фамилиях родителей ребенку присваивается фамилия отца или фамилия матери по соглашению родителей, если иное не предусмотрено законами субъектов Российской Федер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 отсутствии соглашения между родителями относительно имени и(или) фамилии ребенка возникшие разногласия разрешаются органом опеки и попечитель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Если отцовство не установлено, имя ребенку дается по указанию матери, отчество присваивается по имени лица, записанного в качестве отца ребенка, фамилия - по фамилии матер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5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60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9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зменение имени и фамилии ребе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 совместной просьбе родителей до достижения ребенком возраста четырнадцати лет орган опеки и попечительства исходя из интересов ребенка вправе разрешить изменить имя ребенку, а также изменить присвоенную ему фамилию на фамилию другого родител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сли родители проживают раздельно и родитель, с которым проживает ребенок, желает присвоить ему свою фамилию, орган опеки и попечительства разрешает этот вопрос в зависимости от интересов ребенка и с учетом мнения другого родителя. Учет мнения родителя не обязателен при невозможности установления его места нахождения, лишении его родительских прав, признании недееспособным, а также в случаях уклонения родителя без уважительных причин от воспитания и содержания ребен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Если ребенок рожден от лиц, не состоящих в браке между собой, и отцовство в законном порядке не установлено, орган опеки и попечительства исходя из интересов ребенка вправе разрешить изменить его фамилию на фамилию матери, которую она носит в момент обращения с такой просьб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зменение имени и(или) фамилии ребенка, достигшего возраста десяти лет, может быть произведено только с его соглас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РАЖЕНИЕ В ФЕДЕРАЛЬНЫХ ОБРАЗОВАТЕЛЬНЫХ ПРОГРАММАХ ВЗАИМОДЕЙСТВИЯ С СЕМЬЯМИ ВОСПИТАН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341360"/>
          <a:ext cx="7772400" cy="5351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комплексные программы с грифом Министерства образования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ие в программах требований к взаимодействию с семьями до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тский сад – дом радости». (1) 1996г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дуга». (2) 1997г.; «Детство». (3) 1997г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витие» (4) 1999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раздел «Организация уголка для родителей» (1); отражены задачи расширения представлений детей о семье и родственных связях (2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2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армония развития» (1). «Кроха» (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отой ключик» (3). «Преемственность» (4); «Программа для групп кратковременного пребывания» (5), «Программа воспитания и обучения в детском саду» (6). 200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ы варианты занятий с ребёнком в семье (4); задачи семейного воспитания ребёнка от рождения до 3 лет (2); задачи по формированию у родителей положительного отношения к ДОУ (3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детства в отрочество». 200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рики «В семье», где отражены задачи и содержание воспитания и обучения в семье по линиям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токи». 2003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 «Сотрудничество педагога с семьёй» отражены задачи сотрудничества. Содержание и условия сотрудничества, формы и методы общ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мерная общеобразовательная программа обучения, воспитания и развития детей раннего и дошкольного возраста». 200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 «Организация жизни и деятельности детей» выделены линии сотрудничества с родител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775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арианты взаимодействия с семьям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Times New Roman"/>
              </a:rPr>
              <a:t>Первый вари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заимодействия отражается через задачу расширения представлений дошкольников о семье, родственных связях, истории семьи. Например, это программы: «Радуга»/ Под ред. Т.Н. Дороновой и др. – М., 1996; «Детство»/под ред. В.И.Логиновой и др. – СПб., 19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Times New Roman"/>
              </a:rPr>
              <a:t>Второй вари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ключает описание содержания домашнего воспитания по линиям развития ребёнка. Это, например, программы: «Кроха»/Под ред. Г.Г Григорьевой и др. – М., 1998; «Из детства в отрочество»: Программа для родителей и воспитателей по формированию здоровья и развитию детей 4-7 лет. /Т.Н. Доронова, Л.Г. Голубева, Н.А. Гордова и др.  – М., 2004; программа «Преемственность» /Под ред. Н.А. Федосовой, Т.С. Комаровой и др.- 1999, в котором отражены варианты занятий с ребёнком в семь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Times New Roman"/>
              </a:rPr>
              <a:t>Третий вари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фокусируется  на описании задач, условий, содержания, форм и методов сотрудничества с семьями воспитанников. Это, например, программы: «Истоки»: Базис развития ребёнка-дошкольника /Науч. Ред. Л.А. Парамонова и др. –М., 2003; Примерная общеобразовательная программа воспитания, обучения и развития детей раннего и дошкольного возраста. /Под ред. Л.А. Парамоновой.- М., 2004; «Золотой ключик» /Под ред. Г.Г.Кравцова, Е.Е.Кравцовой.- М.,1996, в которой представлены задачи по формированию у родителей положительного отношения к ДО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5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ограммны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названных программ, где в разных вариантах отражается взаимодействие с семьями, имеющими детей от года до семи лет, позволяет суммировать ряд базисных (программных) задач, связанных с повышением воспитательной культуры родител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ть диалогические и партнёрские отношения с семьями воспитанников, создавать атмосферу общности интересов на основе коммуникативной культуры об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гащать воспитательные умения родителей быть с ребёнком в контакте, развивать его физическую, духовно-нравственную, интеллектуальную компетентность, опираясь на педагогику иг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ть эффективные методы включения родителей в жизнь ребёнка в детском сад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ть родителям осознавать собственный воспитательный опыт, его границы и возмо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Основные линии  взаимодействия с родител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78469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           родитель (родители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132000" y="1844640"/>
            <a:ext cx="649440" cy="71640"/>
          </a:xfrm>
          <a:prstGeom prst="rightArrow">
            <a:avLst>
              <a:gd name="adj1" fmla="val 50000"/>
              <a:gd name="adj2" fmla="val 2266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r_7"/>
          <p:cNvPicPr/>
          <p:nvPr/>
        </p:nvPicPr>
        <p:blipFill>
          <a:blip r:embed="rId1"/>
          <a:stretch/>
        </p:blipFill>
        <p:spPr>
          <a:xfrm>
            <a:off x="2700360" y="2637000"/>
            <a:ext cx="3887640" cy="36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гог         родители          род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700360" y="836640"/>
            <a:ext cx="649440" cy="71280"/>
          </a:xfrm>
          <a:prstGeom prst="rightArrow">
            <a:avLst>
              <a:gd name="adj1" fmla="val 50000"/>
              <a:gd name="adj2" fmla="val 227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80000" y="836640"/>
            <a:ext cx="649440" cy="71280"/>
          </a:xfrm>
          <a:prstGeom prst="rightArrow">
            <a:avLst>
              <a:gd name="adj1" fmla="val 50000"/>
              <a:gd name="adj2" fmla="val 227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2" descr="andriyash"/>
          <p:cNvPicPr/>
          <p:nvPr/>
        </p:nvPicPr>
        <p:blipFill>
          <a:blip r:embed="rId1"/>
          <a:stretch/>
        </p:blipFill>
        <p:spPr>
          <a:xfrm>
            <a:off x="1619280" y="1557360"/>
            <a:ext cx="597708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68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гог         ребенок         родитель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771640" y="476280"/>
            <a:ext cx="649440" cy="71280"/>
          </a:xfrm>
          <a:prstGeom prst="rightArrow">
            <a:avLst>
              <a:gd name="adj1" fmla="val 50000"/>
              <a:gd name="adj2" fmla="val 227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435640" y="476280"/>
            <a:ext cx="649080" cy="71280"/>
          </a:xfrm>
          <a:prstGeom prst="rightArrow">
            <a:avLst>
              <a:gd name="adj1" fmla="val 50000"/>
              <a:gd name="adj2" fmla="val 227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0_541b_102c0445_XL"/>
          <p:cNvPicPr/>
          <p:nvPr/>
        </p:nvPicPr>
        <p:blipFill>
          <a:blip r:embed="rId1"/>
          <a:stretch/>
        </p:blipFill>
        <p:spPr>
          <a:xfrm>
            <a:off x="324000" y="1197000"/>
            <a:ext cx="431928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0"/>
          <p:cNvSpPr/>
          <p:nvPr/>
        </p:nvSpPr>
        <p:spPr>
          <a:xfrm>
            <a:off x="5076720" y="220500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линия используется, если нужно привлечь родителя к воспитательно-образовательной работе д/с (участие в праздниках, помощь и.т.д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71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Педагогическая поддержка семьи в воспитании дошкольника»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: Е.С.Евдокимо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ига посвящена проблеме педагогической поддержке семьи в воспитании детей дошкольного возраста. В ней раскрываются сущность, значение педагогической помощи и поддержки современной семье в новой социокультурной ситуации; представлены результаты исследований и практического опыта взаимодействия с семьей педагогов детского сада. В пособии содержится большой практический материал, необходимый для успешного взаимодействия специалистов ДОУ с семь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Педагогическая поддержка семьи в воспитании дошкольника. Евдокимова Елена. Купить книгу. Издательство Сфера."/>
          <p:cNvPicPr/>
          <p:nvPr/>
        </p:nvPicPr>
        <p:blipFill>
          <a:blip r:embed="rId1"/>
          <a:stretch/>
        </p:blipFill>
        <p:spPr>
          <a:xfrm>
            <a:off x="5219640" y="1628640"/>
            <a:ext cx="293544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Основные принципы, на которых должно строиться общение с родител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 и педагоги являются партнерами в воспитании и обучении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ое понимание и принятие педагогами и родителями целей и задач воспитания и обучен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ание помощи, уважения и доверия к ребенку, как со стороны воспитателей, так и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е педагогами и родителями воспитательных возможностей коллектива и семьи, максимальное использование воспитательного потенциала в совместной работе с дет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оянный анализ взаимодействия семьи и дошкольного учреждения, его промежуточных и конечных результа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ка </a:t>
            </a:r>
            <a:br>
              <a:rPr sz="32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лгоритм толерантного отношения к родите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2960" y="135684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ите чужое мнение как свое собственное, попытайтесь усвоить его логику и исходные основания, на которых оно строит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члените положительные моменты чужого мнения, осознайте несоответствие их собственным взгляда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ректируйте свое мнение, утверждая его сильные сторо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общее в своем и чужом мнении, признайте невозможность согласия с некоторыми положениями позиции другого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ка </a:t>
            </a:r>
            <a:br>
              <a:rPr sz="32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лгоритм толерантного отношения к родите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2960" y="135684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 Попытайтесь все это высказать оппоненту, сделав акценты на том, в чем вы с ним не соглас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Попросите оппонента более вескими доводами переубедить ва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Попробуйте, используя доказательства и факты, переубедить оппонента; если не то, ни другое не удается, признайте право на существование некоторых положений чуждого мнения, с которым вы не могли согласиться, откажитесь от внутреннего, а значит и внешнего сопроти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пражнение – иг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Angel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85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bya"/>
          <p:cNvPicPr/>
          <p:nvPr/>
        </p:nvPicPr>
        <p:blipFill>
          <a:blip r:embed="rId2"/>
          <a:stretch/>
        </p:blipFill>
        <p:spPr>
          <a:xfrm>
            <a:off x="5003640" y="3645000"/>
            <a:ext cx="3810240" cy="2987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468360" y="510552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деальный род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932360" y="2152800"/>
            <a:ext cx="40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удный род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Доверие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ние педагога с родителями и сила взаимодействия зависит 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ии довери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82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верие родителей к воспитателям и ДОУ складывается из многих факторов, главные из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воспитателя к семье и ребен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ребенка к воспит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ованность в действиях педагогов и админист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верие легко разрушить, если воспита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гативно относится к ребен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трицательно высказывается о ребен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ворит родителям «ваш» ребе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Доверие."/>
          <p:cNvPicPr/>
          <p:nvPr/>
        </p:nvPicPr>
        <p:blipFill>
          <a:blip r:embed="rId2"/>
          <a:stretch/>
        </p:blipFill>
        <p:spPr>
          <a:xfrm>
            <a:off x="5148360" y="2060640"/>
            <a:ext cx="3259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направления организации взаимодействия воспитателей с родите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семей, составление характеристик (состав семьи, сфера занятости родителей, образование и социальный уровень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оптимальных форм и методов в дифференцированной групповой и индивидуальной работе с семь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психолого-педагогического просвещения родител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массовых мероприятий с родителями, работа по организации совместной деятельности и досуга родителей и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явление и использование в практической деятельности опыта семейного воспит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в семейное воспитание традиций народной педагог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сотрудничества с родителями – отц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обеспечения прав родителей на участие в управлении образовательным учр. (Попечительский совет, Совет учреждения, родительский комитет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ное включение в работу с семьей педагога-психолога, социальных педагогов, педагогов дополнительного образования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ка тематического оформления (Уголка для родителе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80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9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Примерный перечень тематических встреч с родителями. 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(Арнаутова Е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0920" y="1022040"/>
            <a:ext cx="85690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юбая инициатива педагога, обращенная к семье, должна быть нацелена на укрепление, обогащение и оздоровление эмоциональных связей и отношений ребёнка со значимыми взрослыми (матерью, отцом, бабушками, дедушками, сестрами, братьями)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Все содержание общения с родителями подчинено, единственной теме- как достичь взаимно счастливых и эмоциональн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о эдоровых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отношений взрослых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и детей в семь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групп раннего возрас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к подготовить малыша к посещению детского са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ы дома, улучшающие адаптацию ребёнка к условиям семейно - общественного воспитани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ганизация здорового образа жизни ребёнка в семье: закаливании и домашнем питании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о обеспечивает малышу ощущение безопасности и эмоционального уюта в семь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запугивании в семье, приводящем к психической травме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 можно избаловать ребёнк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 реагировать на детские истери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младшей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навыках доверительного общения с ребёнком в семь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ценности диалога с ребёнко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ушевный покой ребёнка связан со стилем семейных отнош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дать ребёнку возможность активно двигаться по кварти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Если ребёнок жалуется на сверстник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елевизор входит в жизнь малы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5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000"/>
                            </p:stCondLst>
                            <p:childTnLst>
                              <p:par>
                                <p:cTn id="84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средней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ненасильственных методах воздействия на ребёнка или как «спасаться» игрой, когда я сержусь на ребён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емейный этикет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манере говорить с ребёнко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слушать ребёнка, чтобы слышать его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Бабушки и дедушки в семье как носители культурных и духовных ценносте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ие игры, развивающие реч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отные в дом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пользе домашнего чт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омпьютер в жизни современной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9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000"/>
                            </p:stCondLst>
                            <p:childTnLst>
                              <p:par>
                                <p:cTn id="87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8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898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7500"/>
                            </p:stCondLst>
                            <p:childTnLst>
                              <p:par>
                                <p:cTn id="89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898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9000"/>
                            </p:stCondLst>
                            <p:childTnLst>
                              <p:par>
                                <p:cTn id="89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98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98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98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3500"/>
                            </p:stCondLst>
                            <p:childTnLst>
                              <p:par>
                                <p:cTn id="91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98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старшей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очему дети играют во взрослую жизнь или о пользе игры для социального взросления ребё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с помощью игры помогать ребёнку выражать «запретные» чувст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ошкольник и семейный туриз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ы на даче и во дворе, на природе, в машине и поезд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имся с семейными национальными традициям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иобретение книг для детской домашней библиоте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9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98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898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500"/>
                            </p:stCondLst>
                            <p:childTnLst>
                              <p:par>
                                <p:cTn id="95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898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98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7500"/>
                            </p:stCondLst>
                            <p:childTnLst>
                              <p:par>
                                <p:cTn id="96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98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9000"/>
                            </p:stCondLst>
                            <p:childTnLst>
                              <p:par>
                                <p:cTn id="97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98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1716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Дошкольное учреждение и семья – единое пространство детского развития: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етодическое руководство для работников ДОУ»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ы: Т.Н. Доронова, Е.В.Соловьева, А.Е. Жички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пособия – помочь сотрудникам ДОУ установить равноправное творческое взаимодействие с семьями своих воспитанников, которое является залогом полноценного развития ребенка. В руководстве представлены содержание, формы и методы, обеспечивающие преемственность воспитания и обучения в условиях ДОУ и семь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55062872&amp;tov=5"/>
          <p:cNvPicPr/>
          <p:nvPr/>
        </p:nvPicPr>
        <p:blipFill>
          <a:blip r:embed="rId1"/>
          <a:stretch/>
        </p:blipFill>
        <p:spPr>
          <a:xfrm>
            <a:off x="5364000" y="1916280"/>
            <a:ext cx="2808360" cy="388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подготовительной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Зачем играть с ребёнком в школ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не брать ответственность за дела ребён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достоинстве и самоуважении ребён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оспитательный потенциал книг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воспитывать у ребёнка критичное выборочное отношение к телевизионным передача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увлечь себя и ребёнка спортивными играми и игрушкам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Игра вместо наказ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98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воей работе воспитатель использует разнообразные формы, главная цель которых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установление доверительных отношений между детьми, родителями и педагогами, объединение их в одну коман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79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е 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лек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ивиду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о-информ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8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тельские собр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глые ст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фе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ганизация совместной деятельность родителей и детей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атические к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очные» консультации (по анонимному заказу родителе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озапись бесед 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офраг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ставки детских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ки-передвижки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55"/>
          <p:cNvSpPr/>
          <p:nvPr/>
        </p:nvSpPr>
        <p:spPr>
          <a:xfrm>
            <a:off x="250920" y="11426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ествуют традиционные и нетрадиционные формы общения педагога с родител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692280"/>
          <a:ext cx="7772400" cy="5403600"/>
        </p:xfrm>
        <a:graphic>
          <a:graphicData uri="http://schemas.openxmlformats.org/drawingml/2006/table">
            <a:tbl>
              <a:tblPr/>
              <a:tblGrid>
                <a:gridCol w="2044800"/>
                <a:gridCol w="1773000"/>
                <a:gridCol w="1909800"/>
                <a:gridCol w="2044800"/>
              </a:tblGrid>
              <a:tr h="833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радиционные форм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 Кротовой Т.В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анали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г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ва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о-инфор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1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едение социологических сре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ке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товый ящи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местные дос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е в выстав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ы-практику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ая гости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открытых две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е просмотры занятий и других видов деят-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газет и т.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пулярные формы общения с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1424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лый ст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уссионная встре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чер вопросов и отв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ая конфер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уль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«гостина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о-игровой тренин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умы в форме деловой иг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пулярные формы общения с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уговые формы общения детей и взросл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семейного ч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ефон дове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открытых двер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ейные маршруты выходного д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ции с участием детей и взросл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6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нформационно-аналитическая фор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дготовительном этап работы с родителями –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1. Изучение семей по ти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о зн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ы семей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торые классифициру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количеству детей: многодетные, малодетные, однодетные, бездет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оставу: однопоколенные, двухпоколенные, межпоколенные (дети, родители и родители родителей), неполная сем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0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зучение родителей по образовательному уровн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образовательные уровн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педагог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техн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лное высш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. Изучение родителей по социальному уровн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ащ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и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женерно-технические работ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охозяйки (безработны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4. Изучение семьи по характеру отно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полу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льно благополучные (благополучность носит видимый характер, семьи не занимаются воспитанием дет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благополучные (явно просматриваются дефекты воспит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овые русские» семьи (высоко-сверхобеспеченные, в которых часто наблюдается кризис семейных отношений и воспитания дет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5. Изучение удовлетворенности родителей работой дошкольного учрежд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89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898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абота с семьей: необязательные инструкции: методическое пособие для работников ДОУ»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: Л.Свирск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привлечь семьи к участию в жизни детского сада? Как сделать так, чтобы от этого процесса получали удовольствие и дети, и педагоги, и сами родители? Как научиться слушать родителей и помочь им стать партнерами и единомышленниками? В пособии можно найти не только ответы на все эти вопросы, но и получить конкретные практические рекомендации по проблемам семьи и ДОУ, в том числе оригинальные, нестандартные способы информирования родителей и изучения их запросов. В пособие включены готовые бланки, примеры объявлений, писем и т.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дательство  Линка-Пресс, 2007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298788"/>
          <p:cNvPicPr/>
          <p:nvPr/>
        </p:nvPicPr>
        <p:blipFill>
          <a:blip r:embed="rId1"/>
          <a:stretch/>
        </p:blipFill>
        <p:spPr>
          <a:xfrm>
            <a:off x="5219640" y="1700280"/>
            <a:ext cx="3130560" cy="446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пределение уровня включения родителей в деятельность дошкольного учреж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дители делятся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аблюдателей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ктивно не участвуют в деятельности ДОУ, но выполняют отдельные поруч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аказчиков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заказывают, просят, требуют, чтобы детей воспитывали в соответствии с их (родителей) потребностя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Участников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носят свои предложения по совершенствованию образовательного процесса, совместно с педагогами разрабатывают планы по воспитанию и обучению детей (активис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898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898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Выявление проблем родителей в воспитании и обучении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 у родителей очень много, можно сгруппировать их та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общения родителей с деть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создания дома развивающей ср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общения детей в сем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игр с детьми д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все данные выясняются методами опроса и анкетир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МЕРНЫЕ АНКЕ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Общие рекомендации по составлению анк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кета должна быть краткой и ем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возможно - использовать открытую ф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кается анонимность (где возможн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Родительские собр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" descr="Картинка 15 из 1625"/>
          <p:cNvPicPr/>
          <p:nvPr/>
        </p:nvPicPr>
        <p:blipFill>
          <a:blip r:embed="rId1"/>
          <a:stretch/>
        </p:blipFill>
        <p:spPr>
          <a:xfrm>
            <a:off x="611280" y="981000"/>
            <a:ext cx="7777080" cy="5703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Ясельные групп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дети до 3 ле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ние с детьми в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тие любви и уважения к старш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должен уметь ребёнок эт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е игры, обучение общ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ец и ребён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речи у ребёнка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нравственном воспитании ребёнка, о самосто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9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98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98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898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98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898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98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98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редние групп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ти 4-5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воздействия на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личных трудностях в обучении, поведении, усвоении знаний, програм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физическом развит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5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98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98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898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таршие групп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ти 6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физическом развитии ребё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ок и психология семь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развитии речи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взаимоотношениях детей в коллективе, о контактности, как избежать конфли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98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98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898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898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дготовительные групп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ети 7 л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успехах или пробелах в учёбе детей и об отношениях между дет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лучше преподносить материал для восприятия его ребён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преодолении детских капризов, противостояния, о воспитании ответственности и аккурат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обучающих иг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воспитании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дисциплины, подготовка к школ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ит ли наказывать детей: о взаимоотношениях в семье ребёнка с родител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899640" y="333360"/>
            <a:ext cx="75582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89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98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98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98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98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898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898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 предлагаемые родителями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одготовительные групп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ети 7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правильно оценить способности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оспитание самостоятельности у детей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Роль родителя в подготовке к школе и как вести себя на первых порах школьного об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а воспитания в семье двоих (нескольких)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коммуникабельности и о том, как воспитывать трудолюб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культуре поведения. Культура поведения ребёнка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должен знать и уметь ребёнок при поступлении в 1-й 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здоровье ребёнка и подготовке к школ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0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89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898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898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898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898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898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898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2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898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898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4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898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ьское собрание должно просвещать родителей, а не констатировать ошибки и неудачи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собрания должна учитывать интересы родителей и возрастные особенности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ние должно носить как теоретический, так и практический характер (разбор ситуаций, тренинги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комендуется проводить собрание на высокой эмоциональной и дружелюбной но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 в коем случае нельзя сводить собрание к организационным вопросам и решению финансовых пробле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Некоторые общие рекомендации проведения родительских собра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Создание условий эффективного взаимодействия с семье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втор: Н.В. Микляе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собии представлена комплексная методика диагностики условий и функций сотрудничества родителей и педагогов в процессе развития, воспитания и обучения детей дошкольного возраста. Книга содержит разнообразный практический материал: анкеты, конспекты консультаций, конспекты занятий по программе семинара-практикума. Пособие рекомендовано воспитателям и другим специалистам ДОУ, а также учащимся колледжей и студентам ВУЗов педагогического профи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ательство Айрис-Пресс, 2006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1000413766"/>
          <p:cNvPicPr/>
          <p:nvPr/>
        </p:nvPicPr>
        <p:blipFill>
          <a:blip r:embed="rId1"/>
          <a:stretch/>
        </p:blipFill>
        <p:spPr>
          <a:xfrm>
            <a:off x="5148360" y="1484280"/>
            <a:ext cx="3095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ЭТАПЫ ПОДГОТОВКИ РОДИТЕЛЬСКОГО СОБРА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Метенова Н.М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кетирование родителей по теме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кеты заполняются дома, до собрания и их результаты используются в ходе его провед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готовление приглашений каждой семье в виде аппликаций, конструкций с учётом теме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но, чтобы в изготовлении приглашений- секретов для родителей принимали участие де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глашения раздаются за неделю до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готовление оригинальных памяток с советами на тему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держание памяток должно быть кратким, текст напечатан крупным шрифт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готовка конкурсов, выставок по теме собр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онкурсах учувствуют дети и родите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 знакомит родителей с образцами раб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ты выставляются до начала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учшую работу выбирают родители. Победителю вручается при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ись ответов детей по теме собрания на магнитофо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глашение сказочного героя на собра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ние плакатов по теме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ение заседания родительского комитета за месяц до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ЭТАПЫ ПРОВЕДЕНИЯ РОДИТЕЛЬСКОГО СОБ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туп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ыкальный фон: звуки гитары, фортепиано, магнитофонной записи сопровождают  слова ведуще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упление короткое, эмоциональное, настраивающее на тему предстоящего разгов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скусс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о, чтобы ведущий не затягивал беседу, не рассматривал большое количество вопросов и ситуаций, не просил обязательно всех присутствующих высказать своё мнение по вопросу, а спрашивал не более 3-4 челов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ледует упрекать и поучать род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ще нужно использовать в качестве примеров моменты из жизни детей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казывая о нежелательных поступках детей, не надо называть их фамил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офонные запи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аются на разных этапах собр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анали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 зачитывает пункты из общеобразовательных правил воспит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ЭТАПЫ ПРОВЕДЕНИЯ РОДИТЕЛЬСКОГО СОБ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ая ча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ение практических заданий всеми родителями (складывание одежды, изготовление гирлянд, игрушек, сервировка стола, разучивание точечного массажа, гимнастика для глаз и др.) соответственно теме собр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строе блюд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учение призов, грамот, медалей за активное участие родителей в жизни группы, успехи в воспитании де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Бесе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43876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для успешной беседы необходимо соблюдать определенные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накапливать проблемы, а решать их по мере возникнов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инать беседу с хороше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употреблять психологические и педагогические тер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ть выслушать (поэтому организовывать беседу не утром из-за насыщенности работо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ять активное слушание («Я вас правильно поняла? Вы хотите сказать то-то…» или  «Вы считаете, что то-то..», а не «угу», «ну надо же»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употреблять слова «ясно», «я все проняла» и т.д. (человека такие слова наталкивают на мысль, что его не хотят дальше слушать, не углубляются в проблем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Картинка 187 из 22674"/>
          <p:cNvPicPr/>
          <p:nvPr/>
        </p:nvPicPr>
        <p:blipFill>
          <a:blip r:embed="rId2"/>
          <a:stretch/>
        </p:blipFill>
        <p:spPr>
          <a:xfrm>
            <a:off x="4648320" y="1557360"/>
            <a:ext cx="4316400" cy="41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овместная деятельность 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родителей и дет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ормы познавательной деятельност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ормы трудов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ормы проведения досу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методические рекомендации по взаимодействию  семьями воспитанников. Опыт работы ДОУ ЦАО. Стр. 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0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овлечение родителей в жизнь груп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ять уровней участия семей в жизни ДО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разовой помо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организации образовательной работы с детьми на занятиях, в деятельности кружков и т.п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качестве постоянных добровольных помощник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принятии решений относительно своего ребёнка или группы, которую он посещает, инициирование действий и проектов «для своих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обсуждении вопросов и принятие решений, касающихся деятельности ДОУ в це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деление уровней не означает, что каждая семья в процессе взаимодействия с детским садом будет продвигаться от одного уровня к другому. Это значит только то, что строить взаимоотношения с семьями нужно на основе индивидуализации, признания за семьей права выбора характера и степени своего участия в совместной с педагогами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0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е присутствия родителей в группе для самих родител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могут наблюдать за своими детьми на фоне их сверстников, что дает возможность лучше разобраться в вопросах развития ребёнка, научиться и дома применять подходящие методы воспит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родителей формируется более высокая оценка достижений своих детей и гордость за ни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является возможность поработать в профессиональной среде, что может побудить к получению дополнительного  образования, поступлению на какие-либо курсы или даже превратиться в постоянную работу;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ется более глубокое понимание процесса обучения детей дошкольного возрас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уется правильное понимание  возможностей обучения и сложностей, которые с этим связан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никает доверие к воспитателям и другим сотрудникам детского са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ается выбор детского сада для второго ребё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и обучаются видам деятельности, которыми можно с удовольствием заниматься с детьми дом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рослые знакомятся с друзьями своих детей, о которых знают из рассказов сына или дочер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авливаются длительные дружеские связи с другими родител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0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8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2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8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2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е присутствия  родителей в группе для дет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х сознании возникает позитивная связь между семьей и детским садом: если дети чувствуют, что членов их семьи принимают в саду с открытым сердцем, то у них возникает более доверительное отношение к работящим в группе взрослы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сутствие и участие родителей в занятиях доставляет детям особое удовольствие, благоприятствует их успех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ребёнка наблюдается буквально взлёт чувства собственного достоинства , даже если участие членов семьи носит редкий и непродолжительный характе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с другими взрослыми расширяет социальный опыт и даёт положительные модели для подраж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начинают признавать полномочия других взрослых (помимо воспитателей) и относятся к ним как к источнику знаний и опы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е с семьями детей, которые представляли разнообразные культурные традиции, создаёт возможность для формирования толерант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из неполных семей смогут частично реализовать свою потребность в общении, внимании, лас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fill="hold">
                      <p:stCondLst>
                        <p:cond delay="0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е присутствия  родителей в группе для педагог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соотношения «взрослый-ребёнок» в группе. Воспитатели получают возможность проводить больше времени с отдельными детьми и работать с малыми групп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использования увлечений, талантов, знаний и интересов родителей в процессе занятий с деть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закрепления знаний, получаемых детьми в ДОУ , с помощью занятий до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дит более тесное общение между роди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становятся участниками процесса принятия решений по вопросам жизни детского са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ясь представителями различных культур, родители вносят особый вклад в процесс обуч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понять, как мамы и папы помогают своим малышам решать задач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узнать, какие занятия и увлечения взрослые члены семьи разделяют со своими детьми( например, приготовление пищи, игра на музыкальных инструментах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9 ИД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ДЛЯ ВОВЛЕЧЕНИЯ РОДИТЕЛЕЙ ВО ВЗАИМОДЕЙСТВИЕ С ДЕТСКИМ САДОМ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здавайте и используйте возможности для непосредственного об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йте разнообразные виды деятельности, которые создают возможности для сотрудничества родителей и воспитателей, и делитесь информацией друг с другом. Создавайте возможности и отводите время для дискуссий с семьями, всегда оставляя достаточно времени для вопросов родителей. Научитесь хорошо слушать. Ниже приведены некоторые мероприятия, которые успешно используются в программе «Шаг за шагом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0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одительские собрания в детском саду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втор: Т.Н Зен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педагогов с семьями воспитанников является одним из важнейших условий развития личности ребенка и его социализации в условиях общественного и домашнего воспитания. В пособии представлены конспекты родительских собраний в детском саду, как одной из форм повышения педагогической компетентности родителей. Книга адресована воспитателям, старшим воспитателям, социальным педагогам дошкольных образовательных учрежд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ательство «Педагогическое общество России2, 2007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1000398396"/>
          <p:cNvPicPr/>
          <p:nvPr/>
        </p:nvPicPr>
        <p:blipFill>
          <a:blip r:embed="rId1"/>
          <a:stretch/>
        </p:blipFill>
        <p:spPr>
          <a:xfrm>
            <a:off x="5148360" y="1628640"/>
            <a:ext cx="318924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98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1. Первые визиты в детский с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тем как ребенок начнет посещать детский сад, родители должны прийти на занятия и познакомиться с педагогами, другими детьми и вообще с детским са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. Вводные собр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того как ребенок записан в детский сад, вводные собрания для родителей помогают им встретиться с воспитателями и другими родителями, узнать о ежедневных мероприятиях и другую полезную информ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. Посещения на д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может посетить ребенка на дому, чтобы узнать и ребенка, и его семью в домашней обстанов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4. Когда приводить и забирать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исание может быть составлено так, чтобы время, когда детей приводят в детский сад и забирают домой, использовалось для общения с семь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5. Телефонные зво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ные звонки делаются в особых случаях или раз в месяц всем родителям, чтобы поддерживать неформальное общение с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6. Конференции родителей и воспит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еренции — это формальные собрания, предназначенные для того, чтобы обсуждать успехи детей и давать возможность родителям делиться своими идеями и проблемами. Конференции можно использовать для совместного планирования индивидуализированных програ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 u="sng">
                <a:solidFill>
                  <a:srgbClr val="008000"/>
                </a:solidFill>
                <a:uFillTx/>
                <a:latin typeface="Times New Roman"/>
              </a:rPr>
              <a:t>Используйте письменные формы 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нехватка времени или сложности с расписанием мешают вам встретиться с родителями лично или если у вас нет телефона, поддерживать контакт с родителями вам помогут некоторые формы письменного общ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7. Брошю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ошюры помогают родителям узнать о детском саде. Брошюры могут описать концепцию детского сада и дать общую информацию о н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8. Пособ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обия содержат подробную информацию о детском саде. Семьи могут обращаться к пособиям в течение всего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9. Бюллете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ллетень можно выпускать раз или два в месяц, чтобы постоянно обеспечивать семьи информацией об особых мероприятиях, изменениях в программе и д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0. Еженедельные записки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недельная записка, адресованная непосредственно родителям, сообщает семье о здоровье, настроении, поведении ребенка в детском саду, о его любимых занятиях и друг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1. Неформальные запи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и могут посылать с ребенком короткие записки домой, чтобы информировать семью о новом достижении ребенка или о только что освоенном навыке, поблагодарить семью за оказанную помощь; здесь могут быть записи детской речи, интересные высказывания ребенка и др. Семьи также могут посылать в детский сад записки, выражающие благодарность или содержащие просьб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2. Личные блокн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блокноты могут каждый день курсировать между детским садом и семьей, чтобы делиться информацией о том, что происходит дома и в детском саду. Семьи могут извещать воспитателей об особых семейных событиях, таких, как дни рождения, новая работа, поездки, г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0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327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8000"/>
                </a:solidFill>
                <a:latin typeface="Times New Roman"/>
              </a:rPr>
              <a:t>13. Доска объяв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ка объявлений — это настенный экран, который информирует родителей о собраниях, мероприятиях детского сада, расписании на день и др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Картинка 5 из 116"/>
          <p:cNvPicPr/>
          <p:nvPr/>
        </p:nvPicPr>
        <p:blipFill>
          <a:blip r:embed="rId2"/>
          <a:stretch/>
        </p:blipFill>
        <p:spPr>
          <a:xfrm>
            <a:off x="1076400" y="785880"/>
            <a:ext cx="6991200" cy="51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0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14. Ящик для предлож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коробка, в которую родители могут класть записки со своими идеями и предложениями, что позволяет им делиться своими мыслями с группой воспит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15. Отч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сьменные отчеты о развитии ребенка — это одна из форм общения с семьями, которая может быть полезна при условии, чтобы она не заменяла личных конта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0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бъявления для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Дорогие мамы и папы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Мы так стараемся быть аккуратными, что душистое мыло опять кончилось, а от туалетной бумаги скоро останутся одни воспоми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ыручайте срочно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аши сыночки и доч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 нашей группе ситуация ЧС – Чрезвычайной Сопливост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Ранние холода мешают нашему сча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Мы очень хотим, чтобы наши носики дышали легко и свобод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ожалуйста, помогите нам экстренно заклеить окна.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Мы ждём вашей помощи в среду и четверг в любое удобное для вас врем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Не забудьте положить нам в кармашки запасные плат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Ваши любимые дет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0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Пап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Мы с мальчишками знаем названия многих автомобилей - «КАМаз», «Хонда», «Мерседес», «БМВ». Мы любим поговорить о машинах, о том, как мы вырастем и станем сами водить автомобили. У нас в группе только одна книжка про маш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Давай, принесём в группу старые журналы «За рулём»? Все мальчишки будут рады, и я больше все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вой сы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оздавайте множество ролей для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могут играть разные формальные и неформальные роли в программе. Ниже приведены некоторые из н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6. Гость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поощрять приход родителей в группу для наблюдения за детьми и игры с н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7. Доброволе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родителей и детей могут быть общие интересы или умения. Взрослые могут помогать воспитателям , принимать участие в спектаклях, помогать в организации мероприятий, обеспечивать транспортом, помогать убирать, обустраивать и украшать групповые помещения и п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8. Оплачиваемая долж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е родители могут занять оплачиваемую должность  в качестве члена воспитательного коллекти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9. Член родительского сов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ьский совет — это группа родителей, которая регулярно собирается для того, чтобы давать рекомендации воспитателям по поводу их теории и практ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3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Дискуссия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«Семейное и общественное воспитание: единство и различия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ыявление сильных и слабых сторон двух социальных институ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ыявление особенностей семейного и общественного вос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Развивайте работу, направленную на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0. Сотрудничество родителей друг с друг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помощь более опытных родителей начинающим. Групповая деятельность может включать в себя собрания для общения или оказания поддер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1. Информация для родителей и их обучен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ий сад предоставляет родителям информацию на интересующую их тему о развитии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2. Неформальные встречи родителей и воспитател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ематические встречи, вечера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3. Использование коммуникативных ресур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е родителей по вопросам, связанным с трудоустройством, здоровьем, жильем, уходом за детьми, образованием и другими нуждами сем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24. Обмен литератур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ий сад может создать библиотеку интересных книг, статей, буклетов, видео- и аудиокассет, которыми родители могли бы пользова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4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дложения для работы с родите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ты, предлагаемые ниже, могут помочь активизировать участие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5. Уважение к роли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епляйте взаимное уважение между воспитателями и родител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6. Поощряйте участие родителей, содействуйте им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казывайте родителям, как они могут участвовать в программе детского са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7. Старайтесь разнообразить виды участия родителей, проявляйте гибкость и творчество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разных семей разные интересы, ресурсы и образ жизни. Что подходит одной семье, не подходит друг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5" dur="indefinite" restart="never" nodeType="tmRoot">
          <p:childTnLst>
            <p:seq>
              <p:cTn id="2066" dur="indefinite" nodeType="mainSeq">
                <p:childTnLst>
                  <p:par>
                    <p:cTn id="2067" fill="hold">
                      <p:stCondLst>
                        <p:cond delay="0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8. Позволяйте семьям самим решать, как они могут помогать детскому саду наилучшим обр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бейтесь того, чтобы семьи понимали, что их участие в программе ценится и что любой вклад с их стороны приветству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9. Говорите с семьями о надеждах воспитателей и родител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дите, как вы будете поддерживать контакты с самого начала посещения ребенком детского са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30. Будьте терпелив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родителей — возможно, новая область для воспитателей и семей, а на развитие новых контактов требуется время. Программа, в которой активно участвуют родители, строится на маленьких поэтапных достиж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31. Делайте акцент на сильных сторонах ребенка, семьи и давайте положительное подкреп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и воспитатели ждут друг от друга взаимного одобрения и признания, что они хорошо делают свое дело. Сосредоточьте внимание и подчеркивайте сильные стороны ребенка и семьи. Даже опытные родители и воспитатели нуждаются в подтверждении их уникального вклада в развитие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6" dur="indefinite" restart="never" nodeType="tmRoot">
          <p:childTnLst>
            <p:seq>
              <p:cTn id="2097" dur="indefinite" nodeType="mainSeq">
                <p:childTnLst>
                  <p:par>
                    <p:cTn id="2098" fill="hold">
                      <p:stCondLst>
                        <p:cond delay="0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2. Поддерживайте тесные контак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воспитатель должен разговаривать с родителями каждого ребенка по крайней мере раз в недел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3. Выражайте свою признатель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айте родителям знать, что вы цените их участие в програм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4. Постарайтесь вовлекать всю сем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цы часто исключаются из дошкольных программ. Подумайте о том, как творчески привлекать отцов, братьев, сестер и других членов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5. Поощряйте посещаемость родительских собр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е собрания в удобное для родителей время. Помогайте семьям найти дополнительные ресурсы для воспитан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0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3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6. Сохраняйте конфиденциаль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ерие — неотъемлемая часть контактов, основанных на сотрудничестве. Обеспечивайте полную конфиденциальность информации о каждой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7. Учитесь навыкам сотрудни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е совместные обучающие 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ей и воспитателей для укрепления их сотрудни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8. Сотрудничайте с другими партнерами в вашем рай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ычно семьи рассчитывают на разные службы и услуги. Дошкольная программа не может предоставить семьям всего спектра услуг, но может сотрудничать с другими программами, которые обеспечат детей и родителей необходимыми услугами (например, со школой и службой здравоохране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9. Создайте консультационную группу по проблемам семьи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fill="hold">
                      <p:stCondLst>
                        <p:cond delay="0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ЧТО МОГУТ ДЕЛАТЬ РОДИТЕЛИ В ДЕТСКОМ САД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тать детям рассказы, сказки, истор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приносить различные игрушки для общих игр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собирать природные материалы для деятельности детей: камешки, семена, раковины и т.п.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участвовать в праздниках (например, к празднику «День моей семьи» принести альбомы, семейные реликвии, рассказать детям о себе, своей семье и т.д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0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3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аглядно-информационные фо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Информационно-просветительская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направлена на обогащение знаний родителей через организацию выставок, выпуск газет, папок – передвижек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Картинка 13 из 66"/>
          <p:cNvPicPr/>
          <p:nvPr/>
        </p:nvPicPr>
        <p:blipFill>
          <a:blip r:embed="rId2"/>
          <a:stretch/>
        </p:blipFill>
        <p:spPr>
          <a:xfrm>
            <a:off x="3995640" y="1989000"/>
            <a:ext cx="4824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4" dur="indefinite" restart="never" nodeType="tmRoot">
          <p:childTnLst>
            <p:seq>
              <p:cTn id="2205" dur="indefinite" nodeType="mainSeq">
                <p:childTnLst>
                  <p:par>
                    <p:cTn id="2206" fill="hold">
                      <p:stCondLst>
                        <p:cond delay="0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Методические рекомендации по организации и оформлению уголка для родителей в группах детского с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ребования к оформлению уголка для родител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я, размещенная на стенде для родителей должна быть динамичной. Минимум раз в две-три недели материал должен обновлять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размещении любого печатного материала на стенде ссылка на издание, включая авторство и год публикации, обязатель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нд должен быть красочно оформлен. При оформлении стенда следует использовать не только рисунки, но и фотографии (лучше детей группы и родителей). При оформлении стендов не нужно злоупотреблять декоративными элементами, наивными изображениями матрешек, игрушек. Соотношение текста и иллюстраций должно быть 2:6 (2 части – текст, 6- иллюстрации), они должны в первую очередь привлечь внимание родителей, затем донести до них нужную информаци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3" dur="2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7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Формы подачи наглядного материала для родител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1. Постоянный информационный стен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одержани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зитная карточка груп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 возрастных психологических особенностей детей групп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ня групп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ание занятий на учебный го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ание дополнительных занят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а для родител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мероприятий для родителей на учебный год (в соответствие с планом работы ДОУ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2. Стенды со сменяемым материа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одержание: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Права детей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дел для родителей, в который помещается разнообразная информация по соблюдению прав детства в дошкольном учреждении и семье, адреса и телефоны организаций, куда можно обратиться за помощью, официальные докумен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Советы врач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Медицинская страни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Материалы готовят медицинские работники по наиболее актуальным темам: профилактика инфекционных заболеваний, оказание первой медицинской помощи, вредные привычки, их профилактика и коррекция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Азбука безопасности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т раздел представляет материалы по обучению дошкольников правилам безопасного поведения в быту и экстремальных условия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3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na_av</cp:lastModifiedBy>
  <dcterms:modified xsi:type="dcterms:W3CDTF">2010-10-19T06:06:32Z</dcterms:modified>
  <cp:revision>48</cp:revision>
  <dc:subject/>
  <dc:title>PowerPoint Presentation</dc:title>
</cp:coreProperties>
</file>