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88D0-0348-4A4E-A11D-D18747464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72BB-2A1C-426C-9794-23220857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D461-5A2C-4F85-92C7-101EFB091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E202-08CB-43B1-8B71-8B7716494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A5DF-FF80-4C00-B2FE-90E998CC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F1E9-0D74-4055-98B1-A6592C64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9D10-2025-4998-9803-B14A97D0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A4AC-5C5B-42FA-AA6F-57F72DD4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8239-3E42-449D-B17A-F1DAEC94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FE3C-1ADF-404F-BD0A-5CDD4AC6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D593-730A-4C64-A1DE-46F01584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7239-0515-431D-BA67-97B5CAC4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3A22-4FDD-4456-A242-F24AA095E0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hyperlink" Target="http://www.azara.ru/uploads/posts/thumbs/1175420439_a59a92a50f3d002458e75f05b9ef56f0.jpg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www.azara.ru/uploads/posts/thumbs/1175420439_a59a92a50f3d002458e75f05b9ef56f0.jpg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Современные методики, педагогические технологии взаимодействия ДОУ и семьи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2447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«Общение педагога с родителями в ДОУ: методический аспект» </a:t>
            </a:r>
            <a:br>
              <a:rPr sz="2000"/>
            </a:b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Авторы: Зверева О.Л., Кротова Т.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методическом пособии раскрываются новые подходы в общении с родителями на современном этапе. Авторами пособия подробно освещаются основные этапы оказания методической помощи: раскрывается содержание работы, определяются ее формы и методы; представлена краткая история взаимодействия ДОУ с семьей ребенка. В пособии представлены анкеты для родителей и педагогов, сценарии мероприятий, программа оказания методической помощи воспитателя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дательство Сфера, 2005 го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1000688527"/>
          <p:cNvPicPr/>
          <p:nvPr/>
        </p:nvPicPr>
        <p:blipFill>
          <a:blip r:embed="rId1"/>
          <a:stretch/>
        </p:blipFill>
        <p:spPr>
          <a:xfrm>
            <a:off x="5059440" y="1773360"/>
            <a:ext cx="2984400" cy="453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Схема преимуществ и недостатков семьи и детского сад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работы Ивановой В.М., 1993г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4360" y="1039680"/>
          <a:ext cx="7772400" cy="5077080"/>
        </p:xfrm>
        <a:graphic>
          <a:graphicData uri="http://schemas.openxmlformats.org/drawingml/2006/table">
            <a:tbl>
              <a:tblPr/>
              <a:tblGrid>
                <a:gridCol w="4101840"/>
                <a:gridCol w="3670560"/>
              </a:tblGrid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ский сад- недоста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мья- преимущ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ловая форма общения воспитателей с детьми, сниженные интимность и эмоциональная включ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моцианальная насыщенность отношенний между родителем и ребйнком, «общение ради общения», кровнородственные близость и тепл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ичие сменяющих друг друга воспитателей с разными программами поведения, методами воздействий на ребё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тоянство и длительность общения, переплетение частных жизней, сопричастность ребенка с общими планами отца и матери, других членов семь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щение воспитателя ко всем детям, дозированность индивидуального общения с каждым ребён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видуальная обращённость педагогических воздействий на ребё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носительная регламентированность режима д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вижный режим д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имущественное общение с детьми одного возра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можность общаться с родсвенниками разных возрастов: детьми, родными разных покол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98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«Семейный вернисаж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этом разделе могут быть представлены рисунки, поделки и др., выполненные родителями вместе со своими деть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«Игра-это серьезно!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аздел содержит информацию о значении детской игры, даются советы по организации детских игр дома, а также предлагаются варианты досуговых игр и д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«Скоро в школу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этом разделе содержится информация о подготовке детей к школе; советы, рекомендации по успешному вхождению ребенка в школьную жизнь и д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«Внимание! Конкурс!», «Спешите участвовать!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нформация о предстоящих в ДОУ конкурса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«Учусь играя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этом разделе содержатся сведения о развивающих играх для дошкольников, советы и рекомендации по их проведению, варианты игровых упражнений, направленные на развитие определенных способносте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16" dur="indefinite" restart="never" nodeType="tmRoot">
          <p:childTnLst>
            <p:seq>
              <p:cTn id="2317" dur="indefinite" nodeType="mainSeq">
                <p:childTnLst>
                  <p:par>
                    <p:cTn id="2318" fill="hold">
                      <p:stCondLst>
                        <p:cond delay="0"/>
                      </p:stCondLst>
                      <p:childTnLst>
                        <p:par>
                          <p:cTn id="2319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2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6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8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9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2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4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5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8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0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1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2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4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6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7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5800" y="25992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«Специалисты советуют»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атериалы этого раздела готовят специалисты ДОУ: педагог-психолог, учитель-логопед, музыкальный руководитель, инструктор по физической культуре по актуальным тема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«Наша жизнь день за днем»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аздел представляет материалы о минувшем дне: какие проходили занятия, что читали детям, какие песни выучили на музыкальном занятии, куда ходили на экскурсию, какой смотрели спектакль и мн. др. Материал постоянно обновляется. На нем могут быть такие обращения: « Мама, выучи со мной скороговорку: (текст скороговорки)»; «Папа, загадай мне загадку: (текст загадки)» и т.д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Меню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нформация о том, какими блюдами будут сегодня кормить детей. Можно использовать для индивидуальной работы с родителями. Например, завтрак: « Любимая каша» (Миши К., Даши С., Оли Р.)- манна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Объявления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этом разделе помещается только официальная информация: когда будет собрание, уплата долга, принести краски и т.д. (если есть об этом решение родительского собрания, на которое нужно обязательно сделать ссылку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Мудрые мысли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ысказывания известных педагогов, писателей, философов о воспитании подрастающего поколения, народная мудрость о семье и семейном воспитани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49" dur="indefinite" restart="never" nodeType="tmRoot">
          <p:childTnLst>
            <p:seq>
              <p:cTn id="2350" dur="indefinite" nodeType="mainSeq">
                <p:childTnLst>
                  <p:par>
                    <p:cTn id="2351" fill="hold">
                      <p:stCondLst>
                        <p:cond delay="0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5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9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1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2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3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5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7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8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9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1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3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4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7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9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0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1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3. Папки-передвиж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4. Фотовыстав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5. Рекламно-информационные букле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6. Информационные письма, корзины, проспекты, памятки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7. Выставки детских рабо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тематические выставк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Примечание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весь информационный материал должен быть кратким, доступным, эстетично оформленным и соответствовать годовым задачам дошкольного образовательного учрежд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382" dur="indefinite" restart="never" nodeType="tmRoot">
          <p:childTnLst>
            <p:seq>
              <p:cTn id="2383" dur="indefinite" nodeType="mainSeq">
                <p:childTnLst>
                  <p:par>
                    <p:cTn id="2384" fill="hold">
                      <p:stCondLst>
                        <p:cond delay="0"/>
                      </p:stCondLst>
                      <p:childTnLst>
                        <p:par>
                          <p:cTn id="2385" fill="hold">
                            <p:stCondLst>
                              <p:cond delay="0"/>
                            </p:stCondLst>
                            <p:childTnLst>
                              <p:par>
                                <p:cTn id="2386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8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9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0" dur="898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3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5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6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898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0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2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3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898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6" fill="hold">
                            <p:stCondLst>
                              <p:cond delay="4500"/>
                            </p:stCondLst>
                            <p:childTnLst>
                              <p:par>
                                <p:cTn id="2407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9" dur="1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0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1" dur="898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4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6" dur="1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7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898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0" fill="hold">
                            <p:stCondLst>
                              <p:cond delay="7500"/>
                            </p:stCondLst>
                            <p:childTnLst>
                              <p:par>
                                <p:cTn id="2421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3" dur="10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4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5" dur="898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fill="hold">
                            <p:stCondLst>
                              <p:cond delay="9000"/>
                            </p:stCondLst>
                            <p:childTnLst>
                              <p:par>
                                <p:cTn id="2428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0" dur="10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1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898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Визитная карточка групп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вание групп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дения о педагогических кадрах, работающих в группе, в том числе о специалистах: педагоге- психологе, учителе-логопеде, преподавателях по изобразительной деятельности, хореографии, иностранному язы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дения о программах, реализуемых в группах (полное название, авторы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дения о руководстве ДОУ: ф.и.о. руководителя (звание, номера контактных телефонов, время приема по личным вопросам), ф.и.о. старшего воспитател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дения о медицинской, психологической службе ДОУ ЦРР: ф.и.о. медицинской сестры, педагога – психолога, номера телефонов, время приема родителей и д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Наглядно-информационные фор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Информационно-ознакомительная 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знакомление родителей с самим дошкольным учреждением, особенностями его работы, с педагогами и т.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этой группе относится такая форма к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«День открытых дверей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Дни открытых дверей» дают возможность родителям увидеть стиль общения педагогов с детьми, самим включиться в общение и деятельность детей и воспитател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йчас актуально не просто продемонстрировать родителям педагогический процесс, но и вовлечь их  в него. В этот деть родители, а также близкие родственники ребенка имеют возможность свободно посетить дошкольное учреждение, пройти по всем помещениям, увидеть, как ребенок занимается, играет, отдыха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434" dur="indefinite" restart="never" nodeType="tmRoot">
          <p:childTnLst>
            <p:seq>
              <p:cTn id="2435" dur="indefinite" nodeType="mainSeq">
                <p:childTnLst>
                  <p:par>
                    <p:cTn id="2436" fill="hold">
                      <p:stCondLst>
                        <p:cond delay="0"/>
                      </p:stCondLst>
                      <p:childTnLst>
                        <p:par>
                          <p:cTn id="2437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2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6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8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Методы активизации родител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тоды активизации – это методы, активизирующие мышление родителей, побуждающие его к размышлению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кетирова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ст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рвью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скуссионные вопро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ппеляция к авторитетному мнению из литерат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рытые просмотры детской 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ализ результатов творческой деятельности деетй и родит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смотр виде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слушивание аудиозапис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гровые задания для домашнего об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449" dur="indefinite" restart="never" nodeType="tmRoot">
          <p:childTnLst>
            <p:seq>
              <p:cTn id="2450" dur="indefinite" nodeType="mainSeq">
                <p:childTnLst>
                  <p:par>
                    <p:cTn id="2451" fill="hold">
                      <p:stCondLst>
                        <p:cond delay="0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7" dur="898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0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2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3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4" dur="898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7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9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0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898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7" dur="1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8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9" dur="898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1" fill="hold">
                      <p:stCondLst>
                        <p:cond delay="indefinite"/>
                      </p:stCondLst>
                      <p:childTnLst>
                        <p:par>
                          <p:cTn id="2482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5" dur="1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6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898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3" dur="10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4" dur="1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5" dur="898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1" dur="10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2" dur="10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3" dur="898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5" fill="hold">
                      <p:stCondLst>
                        <p:cond delay="indefinite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9" dur="10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0" dur="1000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898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3" fill="hold">
                      <p:stCondLst>
                        <p:cond delay="indefinite"/>
                      </p:stCondLst>
                      <p:childTnLst>
                        <p:par>
                          <p:cTn id="2514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7" dur="100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8" dur="10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898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1" fill="hold">
                      <p:stCondLst>
                        <p:cond delay="indefinite"/>
                      </p:stCondLst>
                      <p:childTnLst>
                        <p:par>
                          <p:cTn id="2522" fill="hold">
                            <p:stCondLst>
                              <p:cond delay="0"/>
                            </p:stCondLst>
                            <p:childTnLst>
                              <p:par>
                                <p:cTn id="25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5" dur="1000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6" dur="1000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7" dur="898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3" dur="1000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4" dur="10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898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7" fill="hold">
                      <p:stCondLst>
                        <p:cond delay="indefinite"/>
                      </p:stCondLst>
                      <p:childTnLst>
                        <p:par>
                          <p:cTn id="2538" fill="hold">
                            <p:stCondLst>
                              <p:cond delay="0"/>
                            </p:stCondLst>
                            <p:childTnLst>
                              <p:par>
                                <p:cTn id="25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1" dur="1000"/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2" dur="1000" fill="hold"/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3" dur="898" fill="hold"/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Методы развития педагогической рефлексии родителе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14240" y="1314360"/>
            <a:ext cx="77724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флексия – «заглядывание внутрь себя», умение родителей анализировать собственную воспитательную деятельность, критически ее оценивать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ализ педагогических ситу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 проблем педагогических зада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правляемое игровое взаимодействие родителей и дет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нтанное игровое взаимодействие взрослых и де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гровое моделирование способов родительского повед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гровые задания и упражн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игательные упражн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исуночные зад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сихологические упражн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545" dur="indefinite" restart="never" nodeType="tmRoot">
          <p:childTnLst>
            <p:seq>
              <p:cTn id="2546" dur="indefinite" nodeType="mainSeq">
                <p:childTnLst>
                  <p:par>
                    <p:cTn id="2547" fill="hold">
                      <p:stCondLst>
                        <p:cond delay="0"/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3" dur="898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6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8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9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0" dur="898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3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5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6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7" dur="898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9" fill="hold">
                      <p:stCondLst>
                        <p:cond delay="indefinite"/>
                      </p:stCondLst>
                      <p:childTnLst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3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898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fill="hold">
                      <p:stCondLst>
                        <p:cond delay="indefinite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1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2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3" dur="898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5" fill="hold">
                      <p:stCondLst>
                        <p:cond delay="indefinite"/>
                      </p:stCondLst>
                      <p:childTnLst>
                        <p:par>
                          <p:cTn id="2586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9" dur="1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0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898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3" fill="hold">
                      <p:stCondLst>
                        <p:cond delay="indefinite"/>
                      </p:stCondLst>
                      <p:childTnLst>
                        <p:par>
                          <p:cTn id="2594" fill="hold">
                            <p:stCondLst>
                              <p:cond delay="0"/>
                            </p:stCondLst>
                            <p:childTnLst>
                              <p:par>
                                <p:cTn id="25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7" dur="10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8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9" dur="898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1" fill="hold">
                      <p:stCondLst>
                        <p:cond delay="indefinite"/>
                      </p:stCondLst>
                      <p:childTnLst>
                        <p:par>
                          <p:cTn id="2602" fill="hold">
                            <p:stCondLst>
                              <p:cond delay="0"/>
                            </p:stCondLst>
                            <p:childTnLst>
                              <p:par>
                                <p:cTn id="26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5" dur="100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6" dur="10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7" dur="898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fill="hold">
                      <p:stCondLst>
                        <p:cond delay="indefinite"/>
                      </p:stCondLst>
                      <p:childTnLst>
                        <p:par>
                          <p:cTn id="2610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3" dur="1000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4" dur="10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5" dur="898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7" fill="hold">
                      <p:stCondLst>
                        <p:cond delay="indefinite"/>
                      </p:stCondLst>
                      <p:childTnLst>
                        <p:par>
                          <p:cTn id="2618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1" dur="1000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2" dur="10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898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fill="hold">
                      <p:stCondLst>
                        <p:cond delay="indefinite"/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9" dur="1000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0" dur="1000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1" dur="898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7" dur="1000"/>
                                        <p:tgtEl>
                                          <p:spTgt spid="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8" dur="1000" fill="hold"/>
                                        <p:tgtEl>
                                          <p:spTgt spid="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9" dur="898" fill="hold"/>
                                        <p:tgtEl>
                                          <p:spTgt spid="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Секреты общ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5" descr="Картинка 6 из 368"/>
          <p:cNvPicPr/>
          <p:nvPr/>
        </p:nvPicPr>
        <p:blipFill>
          <a:blip r:embed="rId2"/>
          <a:stretch/>
        </p:blipFill>
        <p:spPr>
          <a:xfrm>
            <a:off x="1476360" y="1484280"/>
            <a:ext cx="6408720" cy="4537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641" dur="indefinite" restart="never" nodeType="tmRoot">
          <p:childTnLst>
            <p:seq>
              <p:cTn id="2642" dur="indefinite" nodeType="mainSeq">
                <p:childTnLst>
                  <p:par>
                    <p:cTn id="2643" fill="hold">
                      <p:stCondLst>
                        <p:cond delay="0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РАСПОЛОЖИТЕ ЛЮДЕЙ К СЕБ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ть люди, умеющие отлично располагать к себе других, завоевывать симпатию. Они используют приемы, владеть которыми необходимо всем, кто работает в системе «человек-человек»: руководителям, педагогам, врачам, работникам торговли, сферы обслуживания и т.д. Они общедоступны и не требуют никаких особых усил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4" descr="32"/>
          <p:cNvPicPr/>
          <p:nvPr/>
        </p:nvPicPr>
        <p:blipFill>
          <a:blip r:embed="rId1"/>
          <a:stretch/>
        </p:blipFill>
        <p:spPr>
          <a:xfrm>
            <a:off x="4859280" y="2060640"/>
            <a:ext cx="388944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8" dur="indefinite" restart="never" nodeType="tmRoot">
          <p:childTnLst>
            <p:seq>
              <p:cTn id="2649" dur="indefinite" nodeType="mainSeq">
                <p:childTnLst>
                  <p:par>
                    <p:cTn id="2650" fill="hold">
                      <p:stCondLst>
                        <p:cond delay="0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хема преимуществ и недостатков семьи и детского сада 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из работы Ивановой В.М., 1993г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826920" y="692280"/>
          <a:ext cx="7772400" cy="60544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ский сад-преимущ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мья- недоста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ичие и использование программ воспитания и обучения дошкольников, научно- методических знаний у педагогов, методических пособ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сутствие программы воспитания, наличие отрывочных представлений о воспитании, использование случайной педагогической литератур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енаправленный характер воспитания и обучения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ихийный характер воспитания и обучения ребёнка, использование отдельных традиций и элементов целенаправленного воспитания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ловия жизни, быта, воспитания и обучения научно разработаны для детей, их потреб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нденция создавать условия доя себя, напоминание их важности для ребё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елое применение оценки деятельности и поведения детей как стимула их развит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онимание роли оценки в воспитании и обучении ребёнка, стремление оценивать не поведение и деятельность ребёнка, а его лич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нообразная содержательная деятельность детей в обществе сверстников, возможность играть и общаться с широким кругом ровес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нообразие и малосодержательность деятельности ребёнка; недостаток игрового общения взрослого и детей в семь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ичие профессиональных умений для изучения личности ребёнка в процессе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умение дать своему ребёнку объективную характеристику, проанализировать свои методы воспит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щищённость ребёнка от травмирующей стороны личной жизни взрослых, их плохого настро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защитность ребёнка перед травмирующимися фактами личной жизни родителей, перед их плохим настрое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нение методов воспитания, обучения, адекватных возрастным особенностям дошколь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онимание возрастных особенностей дошкольников, стремление воспитывать как получиться, не понимание духовных  потребностей ребё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8000"/>
                </a:solidFill>
                <a:latin typeface="Times New Roman"/>
              </a:rPr>
              <a:t>Первый прие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— произнесение вслух имени или имени и отчества человека, с которым разговариваете. Это не только из чувства вежливости, но, как сказал американский психолог Д.Карнеги: «Звучание собственного имени для человека — самая приятная мелодия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8000"/>
                </a:solidFill>
                <a:latin typeface="Times New Roman"/>
              </a:rPr>
              <a:t>Второй прие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— контролирование выражения лица. В народе говорят: «Лицо — зеркало отношений». Следует исключить выражение лица сфинкса. Улыбка — это пароль для друзе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8000"/>
                </a:solidFill>
                <a:latin typeface="Times New Roman"/>
              </a:rPr>
              <a:t>Третий прие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— «золотые слова». Умейте говорить комплименты. Статистика показывает, что более 90% людей улучшают свою деятельность, если им говорить комплименты. В основе механизма комплимента лежит эффект внушения и, как следствие его, потребность выглядеть лучше. Выражая комплименты, необходимо учитывать ряд прави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-первых, комплимент должен отражать только положительное качество данного человека. Нужно избегать двойного смысла: «Слушая ваши беседы с людьми, удивляюсь способности тонко и остроумно уходить от ответа». Во-вторых, быть без гипербол: комплимент должен иметь небольшое преувеличение. Например, исключить: «Я всегда поражаюсь вашей пунктуальности и аккуратности» (а за человеком этих качеств не водится). В-третьих, «без дидактики»: комплимент должен утверждать наличие данной характеристики, а не содержать рекомендацию по ее улучшению. Имеется в виду: «Тебе следует быть активнее», «Твердость убеждений украшает мужчину». В-четвертых, «без приправ»: к комплименту недопустимы язвительные добавки: «Руки у тебя действительно золотые, а вот язык — твой враг». Удержитесь от ложки дегт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55" dur="indefinite" restart="never" nodeType="tmRoot">
          <p:childTnLst>
            <p:seq>
              <p:cTn id="2656" dur="indefinite" nodeType="mainSeq">
                <p:childTnLst>
                  <p:par>
                    <p:cTn id="2657" fill="hold">
                      <p:stCondLst>
                        <p:cond delay="0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1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2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3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7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8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9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3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4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5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9" dur="10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0" dur="1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1" dur="1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85800" y="404640"/>
            <a:ext cx="77724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8000"/>
                </a:solidFill>
                <a:latin typeface="Times New Roman"/>
              </a:rPr>
              <a:t>Четвертый прие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— учитывать технику разговора. Любой контакт с людьми не следует начинать с образования у них отрицательных эмоций. Если совещание начинают с нравоучений, анализа упущений — происходит блокирование слов руководителя, создается отрицательный эмоциональный фон у людей. Лучше начинать со слов: «Рад вас приветствовать» и т.д. Когда у людей положительный эмоциональный фон, то, во-первых, работается лучше, а во-вторых, легче принять высказываемое мнение, суждение. Нельзя не учитывать психологический феномен: люди лучше запоминают начало и конец разговора. Начало создает фон для основной части, а конец — отношение к этому разговор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8000"/>
                </a:solidFill>
                <a:latin typeface="Times New Roman"/>
              </a:rPr>
              <a:t>Пятый прием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— воспитывать в себе терпеливого слушателя. Банальная ситуация, которая может произойти с каждым руководителем: вас срочно вызывают, а ваша сотрудница хочет сообщить вам что-то важное. Вы знаете, что информация, которую она приносит, рациональности содержит процентов на 30. Уместна такая позиция: «М.И., нет никакого сомнения, что вы хотите сообщить что-то важное. Но говорить о серьезных вещах не стоит на ходу, ведь вы искренне болеете за дело. До встречи через 2 часа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8000"/>
                </a:solidFill>
                <a:latin typeface="Times New Roman"/>
              </a:rPr>
              <a:t>Шестой прием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— использовать тягу людей поговорить о личном. Необходимо знать интерес каждого сотрудника, работающего в вашем коллективе. И, обращаясь с любым вопросом по работе, не забывайте спросить его о лично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заключение нужно сказать, что необходимо иметь огромное желание применить подобные приемы. Пусть поначалу у вас будет натянутая улыбка, неуклюжий комплимент, повышенный интерес к личным делам — со временем это отшлифуется и станет выглядеть естественн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.МАЙКОВА,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сихолог, г. Ярославл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82" dur="indefinite" restart="never" nodeType="tmRoot">
          <p:childTnLst>
            <p:seq>
              <p:cTn id="2683" dur="indefinite" nodeType="mainSeq">
                <p:childTnLst>
                  <p:par>
                    <p:cTn id="2684" fill="hold">
                      <p:stCondLst>
                        <p:cond delay="0"/>
                      </p:stCondLst>
                      <p:childTnLst>
                        <p:par>
                          <p:cTn id="2685" fill="hold">
                            <p:stCondLst>
                              <p:cond delay="0"/>
                            </p:stCondLst>
                            <p:childTnLst>
                              <p:par>
                                <p:cTn id="268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8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9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0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2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4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5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6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8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0" dur="10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1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2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3" fill="hold">
                            <p:stCondLst>
                              <p:cond delay="4500"/>
                            </p:stCondLst>
                            <p:childTnLst>
                              <p:par>
                                <p:cTn id="2704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6" dur="10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7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8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9" fill="hold">
                            <p:stCondLst>
                              <p:cond delay="6000"/>
                            </p:stCondLst>
                            <p:childTnLst>
                              <p:par>
                                <p:cTn id="2710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2" dur="1000"/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3" dur="1000" fill="hold"/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4" dur="1000" fill="hold"/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Выво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396072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я и ДОУ  обладают достоинствами и недостатк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обусловлено спецификой воспитательной сред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и по отдельности способны влиять на развитие ребёнка,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но только совместные усилия могут привести к положительным результатом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Картинка 37 из 1144"/>
          <p:cNvPicPr/>
          <p:nvPr/>
        </p:nvPicPr>
        <p:blipFill>
          <a:blip r:embed="rId2"/>
          <a:stretch/>
        </p:blipFill>
        <p:spPr>
          <a:xfrm>
            <a:off x="4500720" y="1989000"/>
            <a:ext cx="4319280" cy="3868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500"/>
                            </p:stCondLst>
                            <p:childTnLst>
                              <p:par>
                                <p:cTn id="280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Картинка 78 из 3061"/>
          <p:cNvPicPr/>
          <p:nvPr/>
        </p:nvPicPr>
        <p:blipFill>
          <a:blip r:embed="rId2"/>
          <a:stretch/>
        </p:blipFill>
        <p:spPr>
          <a:xfrm>
            <a:off x="5003640" y="549360"/>
            <a:ext cx="3672000" cy="2619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8" descr="Картинка 59 из 479749"/>
          <p:cNvPicPr/>
          <p:nvPr/>
        </p:nvPicPr>
        <p:blipFill>
          <a:blip r:embed="rId3"/>
          <a:stretch/>
        </p:blipFill>
        <p:spPr>
          <a:xfrm>
            <a:off x="755640" y="3357720"/>
            <a:ext cx="3809880" cy="27460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539640" y="1433520"/>
            <a:ext cx="374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Взаимодействи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5634720" y="4164120"/>
            <a:ext cx="16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бот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500"/>
                            </p:stCondLst>
                            <p:childTnLst>
                              <p:par>
                                <p:cTn id="303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Для налаживания сотрудничества следует пересмотреть свои позиции и перейти от профессиональной обязанности вести работу с родителями к желанию сотрудничать, а значит, отказаться от традиционной роли воспитателя в пользу партнёрско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11280" y="981000"/>
          <a:ext cx="7772400" cy="51847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диционная роль педаго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- партнё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ет ребёнка и предоставляет родителям информацию о его развит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шивает родителей о ребёнке и вместе с ними оценивает его разви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ы на все вопросы знает са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щет решение проблем вместе с родите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ит цели развития для ребёнка и группы в цел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знает цели и пожелания родителей в отношении их ребёнка и группы в целом и добавляет к ним свои предло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ёт родителям  задания на д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месте с родителями обсуждает и находит те виды деятельности, которые подходят по домашним условиям и стилю жизн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о применяет специальные слова (термины)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т так, чтобы родителям было понят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дает, что родители будут относиться к нему как знатоку- специалис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гает родителям оценить свои силы и знания, убедиться в правильности своих действий. Готов не только учить, но и учиться у род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sp>
        <p:nvSpPr>
          <p:cNvPr id="80" name="Rectangle 96"/>
          <p:cNvSpPr/>
          <p:nvPr/>
        </p:nvSpPr>
        <p:spPr>
          <a:xfrm>
            <a:off x="684360" y="6108840"/>
            <a:ext cx="758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Для успешного взаимодействия с семьей необходимо также изучить международные стандарты, касающиеся организации работы с родителя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Международные стандарты ISSA,</a:t>
            </a:r>
            <a:br>
              <a:rPr sz="2400"/>
            </a:b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 определяющие стиль работы персонала с родителями и детьми в детском саду и начальной школ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арайтесь проанализировать, соответствует ли работа детского сада, данным стандарт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едагоги взаимодействуют с родителями как партнёры, чтобы обеспечить максимальную поддержку в удовлетворении потребностей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дагоги приглашают родителей и других членов семей в группу для участия в учебном процесс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вешивают плакаты, приветствующие приход родителей в групп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могают пришедшим родителям включаться в игры и занятия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mph" presetID="18">
                                  <p:stCondLst>
                                    <p:cond delay="5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080"/>
                            </p:stCondLst>
                            <p:childTnLst>
                              <p:par>
                                <p:cTn id="313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080"/>
                            </p:stCondLst>
                            <p:childTnLst>
                              <p:par>
                                <p:cTn id="317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80"/>
                            </p:stCondLst>
                            <p:childTnLst>
                              <p:par>
                                <p:cTn id="321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080"/>
                            </p:stCondLst>
                            <p:childTnLst>
                              <p:par>
                                <p:cTn id="325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080"/>
                            </p:stCondLst>
                            <p:childTnLst>
                              <p:par>
                                <p:cTn id="329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015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66261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7025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агоги регулярно общаются с родителями и членами семей, обсуждают с ними способы поддержки развития ребёнк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суждают прогресс и достижения ребёнка, возникающие у него трудно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суждают и находят возможные способы поддержки развития ребён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телефону сообщают информацию о повседневных событиях и изменениях в физическом или эмоциональном состоянии ребё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89000"/>
            <a:ext cx="77724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агоги собирают информацию об интересах, увлечениях, культурных особенностях и профессиях членов семьи, а также поощряют любое участие в деятельности групп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уют различные виды письменной информации( например объявления, личные приглашения, бюллетени, информационные листовки и т.п.) для того, чтобы сообщить родителям о проектах и мероприятиях, проводимых в группе, и пригласить принять участие в ни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ощряют участие семей в организации походов, экскурсий, семейных вечеров, спортивных мероприятий, спектаклей, лагерей, а также летних или зимних канику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niyniy1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480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440" y="404640"/>
            <a:ext cx="80629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агоги разделяют с семьёй ответственность за принятие решений относительно обучения их дете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целях обеспечения последовательности в работе с детьми обсуждают с родителями практические вопросы воспитания и развития ребёнка, включая влияние культурной сред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ставляют информацию о развитии и обучении ребёнка, которую родители могут использовать дом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еспечивают ресурсы, которые родители могут использовать для развития и дополнения занятий, проводимых в детском сад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500"/>
                            </p:stCondLst>
                            <p:childTnLst>
                              <p:par>
                                <p:cTn id="402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едагоги используют свои знания относительно развития детей  и учитывают уникальные потребности и потенциальные возможности каждого ребё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дагоги способствуют развитию положительной самооценки дошкольн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действуют с каждым ребёнком, проявляя любовь, заинтересованность и уважен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ывают детей по именам, говорят  с ними  дружелюбно, вежливо, на уровне глаз ребён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действуют не только вербально, но и посредством улыбок, прикосновений, держания на руках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ют сильные стороны личности каждого ребенка и его достижения, ежедневно хвалят каждого ребенка за индивидуальные навыки и успех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общают семьям об успехах их дете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Современные методики, педагогические технологии взаимодействия ДОУ и семьи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4100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«Родительские собрания в ДОУ: методическое пособие»</a:t>
            </a:r>
            <a:br>
              <a:rPr sz="1800"/>
            </a:b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Авторы: Зверева О.Л., Кротова Т.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пособии представлен обширный практический материал для работы с родителями в виде сценариев родительских собраний. Сюда входят как традиционные формы, так и нетрадиционные. Все сценарии неоднократно апробированы в практике работы ДОУ. Материал легко использовать творчески: приводить собственные примеры, дополнять, привлекать родителей к обсуждению проблем, приглашать различных специалист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дательство Айрис-Пресс, 2007 год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" descr="1000413757"/>
          <p:cNvPicPr/>
          <p:nvPr/>
        </p:nvPicPr>
        <p:blipFill>
          <a:blip r:embed="rId1"/>
          <a:stretch/>
        </p:blipFill>
        <p:spPr>
          <a:xfrm>
            <a:off x="5103720" y="1628640"/>
            <a:ext cx="3132360" cy="43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9" descr="1175420439_a59a92a50f3d002458e75f05b9ef56f0"/>
          <p:cNvPicPr/>
          <p:nvPr/>
        </p:nvPicPr>
        <p:blipFill>
          <a:blip r:embed="rId2"/>
          <a:stretch/>
        </p:blipFill>
        <p:spPr>
          <a:xfrm>
            <a:off x="168120" y="46080"/>
            <a:ext cx="8975880" cy="6622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26028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агоги понимают, что между детьми существуют различия в характере и темпе развития, мышления, языке и социальных возможностя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собствуют индивидуальному росту, соответствующему темпам развит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щаются с детьми любой расы, этнической группы, религии, социальной принадлежности, культуры, пола с равным уважением и внимание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оставляют детям равные возможности принимать участие во всех видах занят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знают индивидуальные потребности детей, включая детей с проблемами, обеспечивают условия для удовлетворения различных нужд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оставляют детям право выбора видов деятельности и время для игр и самостоятельной рабо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Картинка 31 из 19023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47484240" y="-14400"/>
            <a:ext cx="5076720" cy="3381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Картинка 31 из 19023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47484240" y="-14400"/>
            <a:ext cx="5076720" cy="33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8864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агоги знакомятся с культурой, историей, ценностями и особенностями семей и отдельных воспитанник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седуют с каждым ребенком о людях, местах и вещах, которые для нег значим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оставляют возможность обмениваться идеями с другими детьм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уют материалы и оборудование, отражающие многообразие детей и семей, представленных в групп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Картинка 32 из 241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620640"/>
            <a:ext cx="74152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Уважаемые педагоги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Родители вправе ожидать от вас и других сотрудников детского сада именно такого повед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Правовой аспек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8760" y="128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дея взаимосвязи общественного и семейного воспитания, а также взаимной ответственности педагогов, родителей и общественности нашла свое отражение в ряд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рмативно-правовых документов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цепция дошкольного воспит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он «Об образовани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емейный кодекс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Положение о дошкольном образовательном учреждении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други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5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5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5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5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6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Картинка 15 из 1213"/>
          <p:cNvPicPr/>
          <p:nvPr/>
        </p:nvPicPr>
        <p:blipFill>
          <a:blip r:embed="rId2"/>
          <a:stretch/>
        </p:blipFill>
        <p:spPr>
          <a:xfrm>
            <a:off x="214200" y="0"/>
            <a:ext cx="8713800" cy="66261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2214360"/>
            <a:ext cx="504036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дители являются первыми педагогами. Они обязаны заложить основы физического, нравственного и интеллектуального развития личности ребенка в раннем возрасте.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.18 Закона «Об Образовании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98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В Семейном кодексе РФ подробно прописаны права и обязанности родителей, в т.ч. по воспитанию и образованию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Родители имеют равные права и равные обязанности. Родители имеют преимущественное право на воспитание своих детей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значит, что при воспитании детей родительское мнение считается первоочередным. То есть педагоги, отвечающие за воспитание детей, должны при проведении воспитательного процесса принимать во внимание мнение родителей и в меру необходимости и возможностей следовать их рекомендация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Право родителей на воспитание своих детей – одно из основных родительских прав, которое одновременно является их обязанност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Право на воспитание родителями своих детей дает им возможность воспитывать своих детей лично с помощью любых средств и методов по усмотрению родителей, но эти все средства и методы должны быть приемлемы с точки зрения морали и закона, и отвечать интересам ребен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Картинка 28 из 7288"/>
          <p:cNvPicPr/>
          <p:nvPr/>
        </p:nvPicPr>
        <p:blipFill>
          <a:blip r:embed="rId2"/>
          <a:stretch/>
        </p:blipFill>
        <p:spPr>
          <a:xfrm>
            <a:off x="179280" y="115920"/>
            <a:ext cx="8713800" cy="6553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188640"/>
            <a:ext cx="77738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Семейный кодекс конкретизирует те действия, которые родители и педагоги не вправе осуществлять при воспитании детей. Эт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небрежение его разумными запросами и потребностями (еда, прогулка, одежда, вода, спальное место и т.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рубое обращение с ребен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Жестокие методы воспит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нижение ребенка как лич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скорбление словом и действ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ксплуатация (использование труда, выходящее за рамки семейной педагогик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 жестоким методам обращения с ребенком относится физическое и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сихологическо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насилие (повышение голоса на ребенка, изолирование ребенка в отдельное помещение и т.д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3000"/>
                            </p:stCondLst>
                            <p:childTnLst>
                              <p:par>
                                <p:cTn id="48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60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7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Права несовершеннолетних детей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емейный кодекс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лава 11. Права несовершеннолетних дет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тья 54. 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Право ребенка жить и воспитываться в семье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Ребенком признается лицо, не достигшее возраста восемнадцати лет (совершеннолетия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Каждый ребенок имеет право жить и воспитываться в семье, насколько это возможно, право знать своих родителей, право на их заботу, право на совместное с ними проживание, за исключением случаев, когда это противоречит его интереса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бенок имеет права на воспитание своими родителями, обеспечение его интересов, всестороннее развитие, уважение его человеческого достоинств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отсутствии родителей, при лишении их родительских прав и в других случаях утраты родительского попечения право ребенка на воспитание в семье обеспечивается органом опеки и попечительства в порядке, установленном главой 18 настоящего Кодекс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5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400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50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7000"/>
                            </p:stCondLst>
                            <p:childTnLst>
                              <p:par>
                                <p:cTn id="52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850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7724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ья 55. 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Право ребенка на общение с родителями и другими родственниками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бенок имеет право на общение с обоими родителями, дедушкой, бабушкой, братьями, сестрами и другими родственниками. Расторжение брака родителей, признание его недействительным или раздельное проживание родителей не влияют на права ребенка. В случае раздельного проживания родителей ребенок имеет право на общение с каждым из них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бенок имеет право на общение со своими родителями также в случае их проживания в разных государства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Ребенок, находящийся в экстремальной ситуации (задержание, арест, заключение под стражу, нахождение в лечебном учреждении и другое), имеет право на общение со своими родителями и другими родственниками в порядке, установленном закон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5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Современные методики, педагогические технологии взаимодействия ДОУ и семь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42447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«Работа ДОУ с семьей: диагностика, планирование, конспекты лекций, консультации, мониторинг»</a:t>
            </a:r>
            <a:br>
              <a:rPr sz="1800"/>
            </a:b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Авторы: А.В.Козлова, Р.П. Дешеул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особии раскрывается необходимость саморазвития воспитателей детского сада и родителей, чьи дети посещают ДОУ, как участников педагогического процесса. Пособие содержит материалы по диагностике, тематические планы, конспекты лекций, консультации, мониторинг – все, что может пригодится воспитателям и специалистам ДОУ при работе с семье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121362"/>
          <p:cNvPicPr/>
          <p:nvPr/>
        </p:nvPicPr>
        <p:blipFill>
          <a:blip r:embed="rId1"/>
          <a:stretch/>
        </p:blipFill>
        <p:spPr>
          <a:xfrm>
            <a:off x="5148360" y="1844640"/>
            <a:ext cx="3012840" cy="4464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98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98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15560"/>
            <a:ext cx="77724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ья 56.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Право ребенка на защиту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Ребенок имеет право на защиту своих прав и законных интерес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щита прав и законных интересов ребенка осуществляется родителями (лицами, их заменяющими), а в случаях, предусмотренных настоящим Кодексом, органом опеки и попечительства, прокурором и судо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совершеннолетний, признанный в соответствии с законом полностью дееспособным до достижения совершеннолетия, имеет право самостоятельно осуществлять свои права и обязанности, в том числе право на защиту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Ребенок имеет право на защиту от злоупотреблений со стороны родителей (лиц, их заменяющих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нарушении прав и законных интересов ребенка, в том числе при невыполнении или при ненадлежащем выполнении родителями (одним из них) обязанностей по воспитанию, образованию ребенка либо при злоупотреблении родительскими правами, ребенок вправе самостоятельно обращаться за их защитой в орган опеки и попечительства, а по достижении возраста четырнадцати лет в суд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Должностные лица организаций и иные граждане, которым станет известно об угрозе жизни или здоровью ребенка, о нарушении его прав и законных интересов, обязаны сообщить об этом в орган опеки и попечительства по месту фактического нахождения ребенка. При получении таких сведений орган опеки и попечительства обязан принять необходимые меры по защите прав и законных интересов ребенк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3000"/>
                            </p:stCondLst>
                            <p:childTnLst>
                              <p:par>
                                <p:cTn id="56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4500"/>
                            </p:stCondLst>
                            <p:childTnLst>
                              <p:par>
                                <p:cTn id="56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60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75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9000"/>
                            </p:stCondLst>
                            <p:childTnLst>
                              <p:par>
                                <p:cTn id="58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4360" y="188640"/>
            <a:ext cx="777240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ья 57.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Право ребенка выражать свое мн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бенок вправе выражать свое мнение при решении в семье любого вопроса, затрагивающего его интересы, а также быть заслушанным в ходе любого судебного или административного разбирательства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т мнения ребенка, достигшего возраста десяти лет, обязателен, за исключением случаев, когда это противоречит его интерес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лучаях, предусмотренных настоящим Кодексом (статьи 59, 72, 132, 134, 136, 143, 154), органы опеки и попечительства или суд могут принять решение только с согласия ребенка, достигшего возраста десяти ле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59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3000"/>
                            </p:stCondLst>
                            <p:childTnLst>
                              <p:par>
                                <p:cTn id="59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88640"/>
            <a:ext cx="77724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ья 58.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Право ребенка на имя, отчество и фамилию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Ребенок имеет право на имя, отчество и фамили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Имя ребенку дается по соглашению родителей, отчество присваивается по имени отца, если иное не предусмотрено законами субъектов Российской Федерации или не основано на национальном обыча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Фамилия ребенка определяется фамилией родителей. При разных фамилиях родителей ребенку присваивается фамилия отца или фамилия матери по соглашению родителей, если иное не предусмотрено законами субъектов Российской Федерац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При отсутствии соглашения между родителями относительно имени и(или) фамилии ребенка возникшие разногласия разрешаются органом опеки и попечительств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Если отцовство не установлено, имя ребенку дается по указанию матери, отчество присваивается по имени лица, записанного в качестве отца ребенка, фамилия - по фамилии матер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"/>
                            </p:stCondLst>
                            <p:childTnLst>
                              <p:par>
                                <p:cTn id="609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3000"/>
                            </p:stCondLst>
                            <p:childTnLst>
                              <p:par>
                                <p:cTn id="615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4500"/>
                            </p:stCondLst>
                            <p:childTnLst>
                              <p:par>
                                <p:cTn id="621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6000"/>
                            </p:stCondLst>
                            <p:childTnLst>
                              <p:par>
                                <p:cTn id="627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7500"/>
                            </p:stCondLst>
                            <p:childTnLst>
                              <p:par>
                                <p:cTn id="633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7724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ья 59.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Изменение имени и фамилии ребен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По совместной просьбе родителей до достижения ребенком возраста четырнадцати лет орган опеки и попечительства исходя из интересов ребенка вправе разрешить изменить имя ребенку, а также изменить присвоенную ему фамилию на фамилию другого родител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Если родители проживают раздельно и родитель, с которым проживает ребенок, желает присвоить ему свою фамилию, орган опеки и попечительства разрешает этот вопрос в зависимости от интересов ребенка и с учетом мнения другого родителя. Учет мнения родителя не обязателен при невозможности установления его места нахождения, лишении его родительских прав, признании недееспособным, а также в случаях уклонения родителя без уважительных причин от воспитания и содержания ребенк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Если ребенок рожден от лиц, не состоящих в браке между собой, и отцовство в законном порядке не установлено, орган опеки и попечительства исходя из интересов ребенка вправе разрешить изменить его фамилию на фамилию матери, которую она носит в момент обращения с такой просьбо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Изменение имени и(или) фамилии ребенка, достигшего возраста десяти лет, может быть произведено только с его соглас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ТРАЖЕНИЕ В ФЕДЕРАЛЬНЫХ ОБРАЗОВАТЕЛЬНЫХ ПРОГРАММАХ ВЗАИМОДЕЙСТВИЯ С СЕМЬЯМИ ВОСПИТАНН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1341360"/>
          <a:ext cx="7772400" cy="53514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комплексные программы с грифом Министерства образования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жение в программах требований к взаимодействию с семьями дошколь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етский сад – дом радости». (1) 1996г.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адуга». (2) 1997г.; «Детство». (3) 1997г.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азвитие» (4) 1999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раздел «Организация уголка для родителей» (1); отражены задачи расширения представлений детей о семье и родственных связях (2.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2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Гармония развития» (1). «Кроха» (2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олотой ключик» (3). «Преемственность» (4); «Программа для групп кратковременного пребывания» (5), «Программа воспитания и обучения в детском саду» (6). 2004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жены варианты занятий с ребёнком в семье (4); задачи семейного воспитания ребёнка от рождения до 3 лет (2); задачи по формированию у родителей положительного отношения к ДОУ (3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з детства в отрочество». 2004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рики «В семье», где отражены задачи и содержание воспитания и обучения в семье по линиям развит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стоки». 2003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азделе «Сотрудничество педагога с семьёй» отражены задачи сотрудничества. Содержание и условия сотрудничества, формы и методы общ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88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имерная общеобразовательная программа обучения, воспитания и развития детей раннего и дошкольного возраста». 2004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азделе «Организация жизни и деятельности детей» выделены линии сотрудничества с родителя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77756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Варианты взаимодействия с семьями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 u="sng">
                <a:solidFill>
                  <a:srgbClr val="ff0066"/>
                </a:solidFill>
                <a:uFillTx/>
                <a:latin typeface="Times New Roman"/>
              </a:rPr>
              <a:t>Первый вариа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заимодействия отражается через задачу расширения представлений дошкольников о семье, родственных связях, истории семьи. Например, это программы: «Радуга»/ Под ред. Т.Н. Дороновой и др. – М., 1996; «Детство»/под ред. В.И.Логиновой и др. – СПб., 199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 u="sng">
                <a:solidFill>
                  <a:srgbClr val="ff0066"/>
                </a:solidFill>
                <a:uFillTx/>
                <a:latin typeface="Times New Roman"/>
              </a:rPr>
              <a:t>Второй вариа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ключает описание содержания домашнего воспитания по линиям развития ребёнка. Это, например, программы: «Кроха»/Под ред. Г.Г Григорьевой и др. – М., 1998; «Из детства в отрочество»: Программа для родителей и воспитателей по формированию здоровья и развитию детей 4-7 лет. /Т.Н. Доронова, Л.Г. Голубева, Н.А. Гордова и др.  – М., 2004; программа «Преемственность» /Под ред. Н.А. Федосовой, Т.С. Комаровой и др.- 1999, в котором отражены варианты занятий с ребёнком в семь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 u="sng">
                <a:solidFill>
                  <a:srgbClr val="ff0066"/>
                </a:solidFill>
                <a:uFillTx/>
                <a:latin typeface="Times New Roman"/>
              </a:rPr>
              <a:t>Третий вариа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фокусируется  на описании задач, условий, содержания, форм и методов сотрудничества с семьями воспитанников. Это, например, программы: «Истоки»: Базис развития ребёнка-дошкольника /Науч. Ред. Л.А. Парамонова и др. –М., 2003; Примерная общеобразовательная программа воспитания, обучения и развития детей раннего и дошкольного возраста. /Под ред. Л.А. Парамоновой.- М., 2004; «Золотой ключик» /Под ред. Г.Г.Кравцова, Е.Е.Кравцовой.- М.,1996, в которой представлены задачи по формированию у родителей положительного отношения к ДО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000"/>
                            </p:stCondLst>
                            <p:childTnLst>
                              <p:par>
                                <p:cTn id="64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50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4000"/>
                            </p:stCondLst>
                            <p:childTnLst>
                              <p:par>
                                <p:cTn id="65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Программны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ализ названных программ, где в разных вариантах отражается взаимодействие с семьями, имеющими детей от года до семи лет, позволяет суммировать ряд базисных (программных) задач, связанных с повышением воспитательной культуры родителей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анавливать диалогические и партнёрские отношения с семьями воспитанников, создавать атмосферу общности интересов на основе коммуникативной культуры общ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огащать воспитательные умения родителей быть с ребёнком в контакте, развивать его физическую, духовно-нравственную, интеллектуальную компетентность, опираясь на педагогику игр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ьзовать эффективные методы включения родителей в жизнь ребёнка в детском сад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могать родителям осознавать собственный воспитательный опыт, его границы и возмож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Основные линии  взаимодействия с родителям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484280"/>
            <a:ext cx="78469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           родитель (родители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3132000" y="1844640"/>
            <a:ext cx="649440" cy="71640"/>
          </a:xfrm>
          <a:prstGeom prst="rightArrow">
            <a:avLst>
              <a:gd name="adj1" fmla="val 50000"/>
              <a:gd name="adj2" fmla="val 22663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8" descr="r_7"/>
          <p:cNvPicPr/>
          <p:nvPr/>
        </p:nvPicPr>
        <p:blipFill>
          <a:blip r:embed="rId1"/>
          <a:stretch/>
        </p:blipFill>
        <p:spPr>
          <a:xfrm>
            <a:off x="2700360" y="2637000"/>
            <a:ext cx="3887640" cy="367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69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едагог         родители          родите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2700360" y="836640"/>
            <a:ext cx="649440" cy="71280"/>
          </a:xfrm>
          <a:prstGeom prst="rightArrow">
            <a:avLst>
              <a:gd name="adj1" fmla="val 50000"/>
              <a:gd name="adj2" fmla="val 2277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5580000" y="836640"/>
            <a:ext cx="649440" cy="71280"/>
          </a:xfrm>
          <a:prstGeom prst="rightArrow">
            <a:avLst>
              <a:gd name="adj1" fmla="val 50000"/>
              <a:gd name="adj2" fmla="val 2277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2" descr="andriyash"/>
          <p:cNvPicPr/>
          <p:nvPr/>
        </p:nvPicPr>
        <p:blipFill>
          <a:blip r:embed="rId1"/>
          <a:stretch/>
        </p:blipFill>
        <p:spPr>
          <a:xfrm>
            <a:off x="1619280" y="1557360"/>
            <a:ext cx="5977080" cy="439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500"/>
                            </p:stCondLst>
                            <p:childTnLst>
                              <p:par>
                                <p:cTn id="684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едагог         ребенок         родитель</a:t>
            </a:r>
            <a:br>
              <a:rPr sz="36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2771640" y="476280"/>
            <a:ext cx="649440" cy="71280"/>
          </a:xfrm>
          <a:prstGeom prst="rightArrow">
            <a:avLst>
              <a:gd name="adj1" fmla="val 50000"/>
              <a:gd name="adj2" fmla="val 2277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5435640" y="476280"/>
            <a:ext cx="649080" cy="71280"/>
          </a:xfrm>
          <a:prstGeom prst="rightArrow">
            <a:avLst>
              <a:gd name="adj1" fmla="val 50000"/>
              <a:gd name="adj2" fmla="val 22765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8" descr="0_541b_102c0445_XL"/>
          <p:cNvPicPr/>
          <p:nvPr/>
        </p:nvPicPr>
        <p:blipFill>
          <a:blip r:embed="rId1"/>
          <a:stretch/>
        </p:blipFill>
        <p:spPr>
          <a:xfrm>
            <a:off x="324000" y="1197000"/>
            <a:ext cx="4319280" cy="50403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0"/>
          <p:cNvSpPr/>
          <p:nvPr/>
        </p:nvSpPr>
        <p:spPr>
          <a:xfrm>
            <a:off x="5076720" y="2205000"/>
            <a:ext cx="345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а линия используется, если нужно привлечь родителя к воспитательно-образовательной работе д/с (участие в праздниках, помощь и.т.д.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Современные методики, педагогические технологии взаимодействия ДОУ и семь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41716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«Педагогическая поддержка семьи в воспитании дошкольника» </a:t>
            </a:r>
            <a:br>
              <a:rPr sz="1800"/>
            </a:b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Автор: Е.С.Евдокимов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нига посвящена проблеме педагогической поддержке семьи в воспитании детей дошкольного возраста. В ней раскрываются сущность, значение педагогической помощи и поддержки современной семье в новой социокультурной ситуации; представлены результаты исследований и практического опыта взаимодействия с семьей педагогов детского сада. В пособии содержится большой практический материал, необходимый для успешного взаимодействия специалистов ДОУ с семье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Педагогическая поддержка семьи в воспитании дошкольника. Евдокимова Елена. Купить книгу. Издательство Сфера."/>
          <p:cNvPicPr/>
          <p:nvPr/>
        </p:nvPicPr>
        <p:blipFill>
          <a:blip r:embed="rId1"/>
          <a:stretch/>
        </p:blipFill>
        <p:spPr>
          <a:xfrm>
            <a:off x="5219640" y="1628640"/>
            <a:ext cx="2935440" cy="4537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98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Основные принципы, на которых должно строиться общение с родителям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тели и педагоги являются партнерами в воспитании и обучении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диное понимание и принятие педагогами и родителями целей и задач воспитания и обучения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казание помощи, уважения и доверия к ребенку, как со стороны воспитателей, так и родите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ние педагогами и родителями воспитательных возможностей коллектива и семьи, максимальное использование воспитательного потенциала в совместной работе с деть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оянный анализ взаимодействия семьи и дошкольного учреждения, его промежуточных и конечных результа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0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3000"/>
                            </p:stCondLst>
                            <p:childTnLst>
                              <p:par>
                                <p:cTn id="71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4000"/>
                            </p:stCondLst>
                            <p:childTnLst>
                              <p:par>
                                <p:cTn id="71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мятка </a:t>
            </a:r>
            <a:br>
              <a:rPr sz="32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лгоритм толерантного отношения к родителя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42960" y="1356840"/>
            <a:ext cx="77724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ите чужое мнение как свое собственное, попытайтесь усвоить его логику и исходные основания, на которых оно строитс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члените положительные моменты чужого мнения, осознайте несоответствие их собственным взгляда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рректируйте свое мнение, утверждая его сильные сторон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общее в своем и чужом мнении, признайте невозможность согласия с некоторыми положениями позиции другого челове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мятка </a:t>
            </a:r>
            <a:br>
              <a:rPr sz="32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лгоритм толерантного отношения к родителя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42960" y="1356840"/>
            <a:ext cx="77724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 Попытайтесь все это высказать оппоненту, сделав акценты на том, в чем вы с ним не согласн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Попросите оппонента более вескими доводами переубедить вас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7. Попробуйте, используя доказательства и факты, переубедить оппонента; если не то, ни другое не удается, признайте право на существование некоторых положений чуждого мнения, с которым вы не могли согласиться, откажитесь от внутреннего, а значит и внешнего сопротивл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Упражнение – иг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Angel"/>
          <p:cNvPicPr/>
          <p:nvPr/>
        </p:nvPicPr>
        <p:blipFill>
          <a:blip r:embed="rId1"/>
          <a:stretch/>
        </p:blipFill>
        <p:spPr>
          <a:xfrm>
            <a:off x="611280" y="1628640"/>
            <a:ext cx="3809880" cy="2853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bya"/>
          <p:cNvPicPr/>
          <p:nvPr/>
        </p:nvPicPr>
        <p:blipFill>
          <a:blip r:embed="rId2"/>
          <a:stretch/>
        </p:blipFill>
        <p:spPr>
          <a:xfrm>
            <a:off x="5003640" y="3645000"/>
            <a:ext cx="3810240" cy="29876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468360" y="5105520"/>
            <a:ext cx="38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деальный родит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4932360" y="2152800"/>
            <a:ext cx="404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рудный родите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777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Доверие</a:t>
            </a:r>
            <a:br>
              <a:rPr sz="44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ение педагога с родителями и сила взаимодействия зависит от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сихологии доверия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4825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оверие родителей к воспитателям и ДОУ складывается из многих факторов, главные из которы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ношение воспитателя к семье и ребенк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ношение ребенка к воспитател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гласованность в действиях педагогов и администр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верие легко разрушить, если воспитател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негативно относится к ребенк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отрицательно высказывается о ребен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ворит родителям «ваш» ребено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Доверие."/>
          <p:cNvPicPr/>
          <p:nvPr/>
        </p:nvPicPr>
        <p:blipFill>
          <a:blip r:embed="rId2"/>
          <a:stretch/>
        </p:blipFill>
        <p:spPr>
          <a:xfrm>
            <a:off x="5148360" y="2060640"/>
            <a:ext cx="32590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Основные направления организации взаимодействия воспитателей с родител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учение семей, составление характеристик (состав семьи, сфера занятости родителей, образование и социальный уровень и т.д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ользование оптимальных форм и методов в дифференцированной групповой и индивидуальной работе с семь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зация психолого-педагогического просвещения родител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 системы массовых мероприятий с родителями, работа по организации совместной деятельности и досуга родителей и дет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явление и использование в практической деятельности опыта семейного воспита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едрение в семейное воспитание традиций народной педагог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ользование различных форм сотрудничества с родителями – отц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 условий для обеспечения прав родителей на участие в управлении образовательным учр. (Попечительский совет, Совет учреждения, родительский комитет и т.д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ктивное включение в работу с семьей педагога-психолога, социальных педагогов, педагогов дополнительного образования и т.д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работка тематического оформления (Уголка для родителей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000"/>
                            </p:stCondLst>
                            <p:childTnLst>
                              <p:par>
                                <p:cTn id="75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3000"/>
                            </p:stCondLst>
                            <p:childTnLst>
                              <p:par>
                                <p:cTn id="76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4000"/>
                            </p:stCondLst>
                            <p:childTnLst>
                              <p:par>
                                <p:cTn id="76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0"/>
                            </p:stCondLst>
                            <p:childTnLst>
                              <p:par>
                                <p:cTn id="76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7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7000"/>
                            </p:stCondLst>
                            <p:childTnLst>
                              <p:par>
                                <p:cTn id="77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8000"/>
                            </p:stCondLst>
                            <p:childTnLst>
                              <p:par>
                                <p:cTn id="78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90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Примерный перечень тематических встреч с родителями. </a:t>
            </a:r>
            <a:r>
              <a:rPr b="0" lang="ru-RU" sz="1600" spc="-1" strike="noStrike">
                <a:solidFill>
                  <a:srgbClr val="008000"/>
                </a:solidFill>
                <a:latin typeface="Times New Roman"/>
              </a:rPr>
              <a:t>(Арнаутова Е.П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50920" y="1022040"/>
            <a:ext cx="8569080" cy="51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22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юбая инициатива педагога, обращенная к семье, должна быть нацелена на укрепление, обогащение и оздоровление эмоциональных связей и отношений ребёнка со значимыми взрослыми (матерью, отцом, бабушками, дедушками, сестрами, братьями). </a:t>
            </a: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Все содержание общения с родителями подчинено, единственной теме- как достичь взаимно счастливых и эмоциональн</a:t>
            </a: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о эдоровых</a:t>
            </a: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отношений взрослых </a:t>
            </a: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и детей в семь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2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Содержание общения с родителями детей групп раннего возраст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2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022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ак подготовить малыша к посещению детского сад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022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гры дома, улучшающие адаптацию ребёнка к условиям семейно - общественного воспитания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022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ганизация здорового образа жизни ребёнка в семье: закаливании и домашнем питании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022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о обеспечивает малышу ощущение безопасности и эмоционального уюта в семь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022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запугивании в семье, приводящем к психической травме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022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ак можно избаловать ребёнк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022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ак реагировать на детские истерик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Содержание общения с родителями детей младшей групп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О навыках доверительного общения с ребёнком в семь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О ценности диалога с ребёнком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Душевный покой ребёнка связан со стилем семейных отношен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Как дать ребёнку возможность активно двигаться по квартир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Если ребёнок жалуется на сверстников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Телевизор входит в жизнь малыш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500"/>
                            </p:stCondLst>
                            <p:childTnLst>
                              <p:par>
                                <p:cTn id="817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3000"/>
                            </p:stCondLst>
                            <p:childTnLst>
                              <p:par>
                                <p:cTn id="823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4500"/>
                            </p:stCondLst>
                            <p:childTnLst>
                              <p:par>
                                <p:cTn id="829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6000"/>
                            </p:stCondLst>
                            <p:childTnLst>
                              <p:par>
                                <p:cTn id="835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7500"/>
                            </p:stCondLst>
                            <p:childTnLst>
                              <p:par>
                                <p:cTn id="841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9000"/>
                            </p:stCondLst>
                            <p:childTnLst>
                              <p:par>
                                <p:cTn id="847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Содержание общения с родителями детей средней групп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О ненасильственных методах воздействия на ребёнка или как «спасаться» игрой, когда я сержусь на ребёнк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Семейный этикет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О манере говорить с ребёнком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Как слушать ребёнка, чтобы слышать его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Бабушки и дедушки в семье как носители культурных и духовных ценностей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машние игры, развивающие реч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вотные в дом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О пользе домашнего чтения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Компьютер в жизни современной семь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0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898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500"/>
                            </p:stCondLst>
                            <p:childTnLst>
                              <p:par>
                                <p:cTn id="863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898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3000"/>
                            </p:stCondLst>
                            <p:childTnLst>
                              <p:par>
                                <p:cTn id="870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898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4500"/>
                            </p:stCondLst>
                            <p:childTnLst>
                              <p:par>
                                <p:cTn id="877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898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84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898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7500"/>
                            </p:stCondLst>
                            <p:childTnLst>
                              <p:par>
                                <p:cTn id="891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898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9000"/>
                            </p:stCondLst>
                            <p:childTnLst>
                              <p:par>
                                <p:cTn id="898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898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0500"/>
                            </p:stCondLst>
                            <p:childTnLst>
                              <p:par>
                                <p:cTn id="905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898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2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898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13500"/>
                            </p:stCondLst>
                            <p:childTnLst>
                              <p:par>
                                <p:cTn id="919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898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Содержание общения с родителями детей старшей групп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Почему дети играют во взрослую жизнь или о пользе игры для социального взросления ребён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Как с помощью игры помогать ребёнку выражать «запретные» чувств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Дошкольник и семейный туриз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гры на даче и во дворе, на природе, в машине и поезд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комимся с семейными национальными традициям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Приобретение книг для детской домашней библиоте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0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898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500"/>
                            </p:stCondLst>
                            <p:childTnLst>
                              <p:par>
                                <p:cTn id="936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898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3000"/>
                            </p:stCondLst>
                            <p:childTnLst>
                              <p:par>
                                <p:cTn id="943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898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4500"/>
                            </p:stCondLst>
                            <p:childTnLst>
                              <p:par>
                                <p:cTn id="950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898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6000"/>
                            </p:stCondLst>
                            <p:childTnLst>
                              <p:par>
                                <p:cTn id="957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898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7500"/>
                            </p:stCondLst>
                            <p:childTnLst>
                              <p:par>
                                <p:cTn id="964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898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9000"/>
                            </p:stCondLst>
                            <p:childTnLst>
                              <p:par>
                                <p:cTn id="971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898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Современные методики, педагогические технологии взаимодействия ДОУ и семь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1716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«Дошкольное учреждение и семья – единое пространство детского развития: </a:t>
            </a:r>
            <a:br>
              <a:rPr sz="1800"/>
            </a:b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методическое руководство для работников ДОУ» </a:t>
            </a:r>
            <a:br>
              <a:rPr sz="1800"/>
            </a:b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Авторы: Т.Н. Доронова, Е.В.Соловьева, А.Е. Жички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ль пособия – помочь сотрудникам ДОУ установить равноправное творческое взаимодействие с семьями своих воспитанников, которое является залогом полноценного развития ребенка. В руководстве представлены содержание, формы и методы, обеспечивающие преемственность воспитания и обучения в условиях ДОУ и семь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i?id=55062872&amp;tov=5"/>
          <p:cNvPicPr/>
          <p:nvPr/>
        </p:nvPicPr>
        <p:blipFill>
          <a:blip r:embed="rId1"/>
          <a:stretch/>
        </p:blipFill>
        <p:spPr>
          <a:xfrm>
            <a:off x="5364000" y="1916280"/>
            <a:ext cx="2808360" cy="388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98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Содержание общения с родителями детей подготовительной групп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Зачем играть с ребёнком в школ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Как не брать ответственность за дела ребёнк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О достоинстве и самоуважении ребёнк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Воспитательный потенциал книг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Как воспитывать у ребёнка критичное выборочное отношение к телевизионным передачам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Как увлечь себя и ребёнка спортивными играми и игрушкам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Игра вместо наказа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0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898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8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898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95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898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2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898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9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898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6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898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3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898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30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898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75596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своей работе воспитатель использует разнообразные формы, главная цель которых 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установление доверительных отношений между детьми, родителями и педагогами, объединение их в одну команд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79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диционные фор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лектив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дивиду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лядно-информатив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8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тельские собр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глые сто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фере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сульт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ганизация совместной деятельность родителей и детей и т.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е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матические консульт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очные» консультации (по анонимному заказу родителе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иозапись бесед с деть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офрагм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ставки детских рабо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н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ки-передвижки и т.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sp>
        <p:nvSpPr>
          <p:cNvPr id="160" name="Rectangle 55"/>
          <p:cNvSpPr/>
          <p:nvPr/>
        </p:nvSpPr>
        <p:spPr>
          <a:xfrm>
            <a:off x="250920" y="114264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Существуют традиционные и нетрадиционные формы общения педагога с родителя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0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685800" y="692280"/>
          <a:ext cx="7772400" cy="5403600"/>
        </p:xfrm>
        <a:graphic>
          <a:graphicData uri="http://schemas.openxmlformats.org/drawingml/2006/table">
            <a:tbl>
              <a:tblPr/>
              <a:tblGrid>
                <a:gridCol w="2044800"/>
                <a:gridCol w="1773000"/>
                <a:gridCol w="1909800"/>
                <a:gridCol w="2044800"/>
              </a:tblGrid>
              <a:tr h="833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радиционные формы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по Кротовой Т.В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о-аналит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гов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ватель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лядно-информацио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1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ведение социологических сре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кетир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товый ящик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местные досу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ие в выставк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ы-практику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ческая гости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и открытых двер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ые просмотры занятий и других видов деят-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уск газет и т.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0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опулярные формы общения с родителя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14240" y="999720"/>
            <a:ext cx="77724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углый сто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скуссионная встреч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чер вопросов и отве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дительская конферен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суль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ческая «гостиная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тельно-игровой тренин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ктикумы в форме деловой игр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опулярные формы общения с родителя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9720"/>
            <a:ext cx="77724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уговые формы общения детей и взросл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блиотека семейного чт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лефон довер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нь открытых двер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мейные маршруты выходного д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кции с участием детей и взросл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6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Информационно-аналитическая фор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подготовительном этап работы с родителями – 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сследование семь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1. Изучение семей по тип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жно знат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ипы семей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торые классифицирую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количеству детей: многодетные, малодетные, однодетные, бездетны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составу: однопоколенные, двухпоколенные, межпоколенные (дети, родители и родители родителей), неполная семь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4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0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6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2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Исследование семь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Изучение родителей по образовательному уровн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образовательные уровн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нее образ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нее педагогическ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нее техническ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полное высше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ше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0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7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3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9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5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1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5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9000"/>
                            </p:stCondLst>
                            <p:childTnLst>
                              <p:par>
                                <p:cTn id="1127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33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7" dur="1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Исследование семь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3. Изучение родителей по социальному уровн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ч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ужащ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ники образовательных учрежд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женерно-технические работн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мохозяйки (безработны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Исследование семь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4. Изучение семьи по характеру отнош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лагополучны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ально благополучные (благополучность носит видимый характер, семьи не занимаются воспитанием детей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благополучные (явно просматриваются дефекты воспита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Новые русские» семьи (высоко-сверхобеспеченные, в которых часто наблюдается кризис семейных отношений и воспитания детей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0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8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4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6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0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2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Исследование семь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5. Изучение удовлетворенности родителей работой дошкольного учрежден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0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898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2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898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Современные методики, педагогические технологии взаимодействия ДОУ и семь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39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«Работа с семьей: необязательные инструкции: методическое пособие для работников ДОУ» </a:t>
            </a:r>
            <a:br>
              <a:rPr sz="1800"/>
            </a:b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Автор: Л.Свирска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привлечь семьи к участию в жизни детского сада? Как сделать так, чтобы от этого процесса получали удовольствие и дети, и педагоги, и сами родители? Как научиться слушать родителей и помочь им стать партнерами и единомышленниками? В пособии можно найти не только ответы на все эти вопросы, но и получить конкретные практические рекомендации по проблемам семьи и ДОУ, в том числе оригинальные, нестандартные способы информирования родителей и изучения их запросов. В пособие включены готовые бланки, примеры объявлений, писем и т.п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дательство  Линка-Пресс, 2007 г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298788"/>
          <p:cNvPicPr/>
          <p:nvPr/>
        </p:nvPicPr>
        <p:blipFill>
          <a:blip r:embed="rId1"/>
          <a:stretch/>
        </p:blipFill>
        <p:spPr>
          <a:xfrm>
            <a:off x="5219640" y="1700280"/>
            <a:ext cx="3130560" cy="4465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98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98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98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98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Исследование семь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Определение уровня включения родителей в деятельность дошкольного учрежд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одители делятся н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Наблюдателей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активно не участвуют в деятельности ДОУ, но выполняют отдельные поручен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Заказчиков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заказывают, просят, требуют, чтобы детей воспитывали в соответствии с их (родителей) потребностям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Участников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вносят свои предложения по совершенствованию образовательного процесса, совместно с педагогами разрабатывают планы по воспитанию и обучению детей (активист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0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898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9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898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6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898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3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898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0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898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Исследование семь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Выявление проблем родителей в воспитании и обучении де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 у родителей очень много, можно сгруппировать их та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ы общения родителей с деть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ы создания дома развивающей сре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ы общения детей в семь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ы игр с детьми до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fill="hold">
                      <p:stCondLst>
                        <p:cond delay="0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4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7500"/>
                            </p:stCondLst>
                            <p:childTnLst>
                              <p:par>
                                <p:cTn id="125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Исследование семь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и все данные выясняются методами опроса и анкетиров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ИМЕРНЫЕ АНКЕ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8000"/>
                </a:solidFill>
                <a:uFillTx/>
                <a:latin typeface="Times New Roman"/>
              </a:rPr>
              <a:t>Общие рекомендации по составлению анк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кета должна быть краткой и емк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де возможно - использовать открытую фор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пускается анонимность (где возможно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Родительские собра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9" descr="Картинка 15 из 1625"/>
          <p:cNvPicPr/>
          <p:nvPr/>
        </p:nvPicPr>
        <p:blipFill>
          <a:blip r:embed="rId1"/>
          <a:stretch/>
        </p:blipFill>
        <p:spPr>
          <a:xfrm>
            <a:off x="611280" y="981000"/>
            <a:ext cx="7777080" cy="5703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0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Темы родительских собраний, предлагаемые родителя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Ясельные групп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дети до 3 лет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щение с детьми в семь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витие любви и уважения к старши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должен уметь ребёнок этого возрас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ворческие игры, обучение общен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ец и ребёно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 речи у ребёнка 3 л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 нравственном воспитании ребёнка, о самостоятель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0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898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1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3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898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8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898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5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898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2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10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898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7500"/>
                            </p:stCondLst>
                            <p:childTnLst>
                              <p:par>
                                <p:cTn id="1299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898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6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8" dur="1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898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3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5" dur="10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898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20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2" dur="100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898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Средние групп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дети 4-5 лет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ы воздействия на ребен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 личных трудностях в обучении, поведении, усвоении знаний, программ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 физическом развит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52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Темы родительских собраний, предлагаемые родителями</a:t>
            </a: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26" dur="indefinite" restart="never" nodeType="tmRoot">
          <p:childTnLst>
            <p:seq>
              <p:cTn id="1327" dur="indefinite" nodeType="mainSeq">
                <p:childTnLst>
                  <p:par>
                    <p:cTn id="1328" fill="hold">
                      <p:stCondLst>
                        <p:cond delay="0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898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7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9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898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4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898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1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898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8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0" dur="1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898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826920" y="14839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Старшие групп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дети 6 лет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 физическом развитии ребён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бёнок и психология семь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 развитии речи дет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 взаимоотношениях детей в коллективе, о контактности, как избежать конфлик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Темы родительских собраний, предлагаемые родителя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0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898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5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898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2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4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898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9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1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898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6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8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898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7500"/>
                            </p:stCondLst>
                            <p:childTnLst>
                              <p:par>
                                <p:cTn id="1403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5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898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Подготовительные групп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дети 7 ле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 успехах или пробелах в учёбе детей и об отношениях между деть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лучше преподносить материал для восприятия его ребён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О преодолении детских капризов, противостояния, о воспитании ответственности и аккурат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 обучающих иг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воспитании ребё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ание дисциплины, подготовка к школ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ит ли наказывать детей: о взаимоотношениях в семье ребёнка с родителя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899640" y="333360"/>
            <a:ext cx="755820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Темы родительских собраний, предлагаемые родителями</a:t>
            </a: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0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898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0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898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7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898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4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6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898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1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3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898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48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0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898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9000"/>
                            </p:stCondLst>
                            <p:childTnLst>
                              <p:par>
                                <p:cTn id="1455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7" dur="1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898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62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10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898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69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1" dur="10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898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Темы родительских собраний,</a:t>
            </a:r>
            <a:br>
              <a:rPr sz="2800"/>
            </a:b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 предлагаемые родителями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764640"/>
            <a:ext cx="77724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Подготовительные групп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дети 7 лет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правильно оценить способности ребё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Воспитание самостоятельности у детей дошкольного возрас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Роль родителя в подготовке к школе и как вести себя на первых порах школьного обуч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блема воспитания в семье двоих (нескольких)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О коммуникабельности и о том, как воспитывать трудолюб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культуре поведения. Культура поведения ребёнка в семь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должен знать и уметь ребёнок при поступлении в 1-й клас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здоровье ребёнка и подготовке к школ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475" dur="indefinite" restart="never" nodeType="tmRoot">
          <p:childTnLst>
            <p:seq>
              <p:cTn id="1476" dur="indefinite" nodeType="mainSeq">
                <p:childTnLst>
                  <p:par>
                    <p:cTn id="1477" fill="hold">
                      <p:stCondLst>
                        <p:cond delay="0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898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6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8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898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3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5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898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0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2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3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898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7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9" dur="1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0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898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514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6" dur="1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898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9000"/>
                            </p:stCondLst>
                            <p:childTnLst>
                              <p:par>
                                <p:cTn id="1521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3" dur="10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898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28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0" dur="10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898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35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7" dur="10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898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42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4" dur="10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5" dur="10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898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тельское собрание должно просвещать родителей, а не констатировать ошибки и неудачи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ма собрания должна учитывать интересы родителей и возрастные особенности де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рание должно носить как теоретический, так и практический характер (разбор ситуаций, тренинги и т.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комендуется проводить собрание на высокой эмоциональной и дружелюбной но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 в коем случае нельзя сводить собрание к организационным вопросам и решению финансовых проблем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66"/>
                </a:solidFill>
                <a:uFillTx/>
                <a:latin typeface="Times New Roman"/>
              </a:rPr>
              <a:t>Некоторые общие рекомендации проведения родительских собран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0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8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2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4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8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70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4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6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0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582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6" dur="1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9000"/>
                            </p:stCondLst>
                            <p:childTnLst>
                              <p:par>
                                <p:cTn id="1588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1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1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2" dur="1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Современные методики, педагогические технологии взаимодействия ДОУ и семь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464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«Создание условий эффективного взаимодействия с семьей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Автор: Н.В. Микляев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особии представлена комплексная методика диагностики условий и функций сотрудничества родителей и педагогов в процессе развития, воспитания и обучения детей дошкольного возраста. Книга содержит разнообразный практический материал: анкеты, конспекты консультаций, конспекты занятий по программе семинара-практикума. Пособие рекомендовано воспитателям и другим специалистам ДОУ, а также учащимся колледжей и студентам ВУЗов педагогического профил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дательство Айрис-Пресс, 2006 г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1000413766"/>
          <p:cNvPicPr/>
          <p:nvPr/>
        </p:nvPicPr>
        <p:blipFill>
          <a:blip r:embed="rId1"/>
          <a:stretch/>
        </p:blipFill>
        <p:spPr>
          <a:xfrm>
            <a:off x="5148360" y="1484280"/>
            <a:ext cx="3095640" cy="439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98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98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ОСНОВНЫЕ ЭТАПЫ ПОДГОТОВКИ РОДИТЕЛЬСКОГО СОБРАНИ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Метенова Н.М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нкетирование родителей по теме собра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нкеты заполняются дома, до собрания и их результаты используются в ходе его провед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готовление приглашений каждой семье в виде аппликаций, конструкций с учётом теме собра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жно, чтобы в изготовлении приглашений- секретов для родителей принимали участие дет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глашения раздаются за неделю до собра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готовление оригинальных памяток с советами на тему собра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держание памяток должно быть кратким, текст напечатан крупным шрифто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дготовка конкурсов, выставок по теме собр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конкурсах учувствуют дети и родител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дагог знакомит родителей с образцами рабо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работы выставляются до начала собра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учшую работу выбирают родители. Победителю вручается приз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пись ответов детей по теме собрания на магнитофон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глашение сказочного героя на собрани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писание плакатов по теме собра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ведение заседания родительского комитета за месяц до собра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ОСНОВНЫЕ ЭТАПЫ ПРОВЕДЕНИЯ РОДИТЕЛЬСКОГО СОБР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туп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зыкальный фон: звуки гитары, фортепиано, магнитофонной записи сопровождают  слова ведущег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тупление короткое, эмоциональное, настраивающее на тему предстоящего разговор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скусс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жно, чтобы ведущий не затягивал беседу, не рассматривал большое количество вопросов и ситуаций, не просил обязательно всех присутствующих высказать своё мнение по вопросу, а спрашивал не более 3-4 челове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следует упрекать и поучать родител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аще нужно использовать в качестве примеров моменты из жизни детей групп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сказывая о нежелательных поступках детей, не надо называть их фамил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гнитофонные запис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ключаются на разных этапах собр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моанализ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дагог зачитывает пункты из общеобразовательных правил воспит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ОСНОВНЫЕ ЭТАПЫ ПРОВЕДЕНИЯ РОДИТЕЛЬСКОГО СОБР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ктическая ча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полнение практических заданий всеми родителями (складывание одежды, изготовление гирлянд, игрушек, сервировка стола, разучивание точечного массажа, гимнастика для глаз и др.) соответственно теме собр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Острое блюдо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учение призов, грамот, медалей за активное участие родителей в жизни группы, успехи в воспитании дете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Бесе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43876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для успешной беседы необходимо соблюдать определенные правил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накапливать проблемы, а решать их по мере возникнов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чинать беседу с хорошег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употреблять психологические и педагогические термин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меть выслушать (поэтому организовывать беседу не утром из-за насыщенности работо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менять активное слушание («Я вас правильно поняла? Вы хотите сказать то-то…» или  «Вы считаете, что то-то..», а не «угу», «ну надо же» и т.д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употреблять слова «ясно», «я все проняла» и т.д. (человека такие слова наталкивают на мысль, что его не хотят дальше слушать, не углубляются в проблему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5" descr="Картинка 187 из 22674"/>
          <p:cNvPicPr/>
          <p:nvPr/>
        </p:nvPicPr>
        <p:blipFill>
          <a:blip r:embed="rId2"/>
          <a:stretch/>
        </p:blipFill>
        <p:spPr>
          <a:xfrm>
            <a:off x="4648320" y="1557360"/>
            <a:ext cx="4316400" cy="419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3" dur="indefinite" restart="never" nodeType="tmRoot">
          <p:childTnLst>
            <p:seq>
              <p:cTn id="1594" dur="indefinite" nodeType="mainSeq">
                <p:childTnLst>
                  <p:par>
                    <p:cTn id="1595" fill="hold">
                      <p:stCondLst>
                        <p:cond delay="0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Совместная деятельность </a:t>
            </a:r>
            <a:br>
              <a:rPr sz="3200"/>
            </a:b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родителей и дете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Формы познавательной деятельност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Формы трудовой деятельн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Формы проведения досуг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методические рекомендации по взаимодействию  семьями воспитанников. Опыт работы ДОУ ЦАО. Стр. 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00" dur="indefinite" restart="never" nodeType="tmRoot">
          <p:childTnLst>
            <p:seq>
              <p:cTn id="1601" dur="indefinite" nodeType="mainSeq">
                <p:childTnLst>
                  <p:par>
                    <p:cTn id="1602" fill="hold">
                      <p:stCondLst>
                        <p:cond delay="0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Вовлечение родителей в жизнь групп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Пять уровней участия семей в жизни ДОУ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азание разовой помощ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стие в организации образовательной работы с детьми на занятиях, в деятельности кружков и т.п.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стие в качестве постоянных добровольных помощник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стие в принятии решений относительно своего ребёнка или группы, которую он посещает, инициирование действий и проектов «для своих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стие в обсуждении вопросов и принятие решений, касающихся деятельности ДОУ в цел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ыделение уровней не означает, что каждая семья в процессе взаимодействия с детским садом будет продвигаться от одного уровня к другому. Это значит только то, что строить взаимоотношения с семьями нужно на основе индивидуализации, признания за семьей права выбора характера и степени своего участия в совместной с педагогами деятель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32" dur="indefinite" restart="never" nodeType="tmRoot">
          <p:childTnLst>
            <p:seq>
              <p:cTn id="1633" dur="indefinite" nodeType="mainSeq">
                <p:childTnLst>
                  <p:par>
                    <p:cTn id="1634" fill="hold">
                      <p:stCondLst>
                        <p:cond delay="0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Значение присутствия родителей в группе для самих родителей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и могут наблюдать за своими детьми на фоне их сверстников, что дает возможность лучше разобраться в вопросах развития ребёнка, научиться и дома применять подходящие методы воспита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родителей формируется более высокая оценка достижений своих детей и гордость за них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является возможность поработать в профессиональной среде, что может побудить к получению дополнительного  образования, поступлению на какие-либо курсы или даже превратиться в постоянную работу;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вается более глубокое понимание процесса обучения детей дошкольного возраст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ируется правильное понимание  возможностей обучения и сложностей, которые с этим связаны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никает доверие к воспитателям и другим сотрудникам детского сад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лается выбор детского сада для второго ребёнк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тели обучаются видам деятельности, которыми можно с удовольствием заниматься с детьми дом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зрослые знакомятся с друзьями своих детей, о которых знают из рассказов сына или дочер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танавливаются длительные дружеские связи с другими родителя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3" dur="indefinite" restart="never" nodeType="tmRoot">
          <p:childTnLst>
            <p:seq>
              <p:cTn id="1644" dur="indefinite" nodeType="mainSeq">
                <p:childTnLst>
                  <p:par>
                    <p:cTn id="1645" fill="hold">
                      <p:stCondLst>
                        <p:cond delay="0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3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7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fill="hold">
                            <p:stCondLst>
                              <p:cond delay="7500"/>
                            </p:stCondLst>
                            <p:childTnLst>
                              <p:par>
                                <p:cTn id="165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1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6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5" dur="2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6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9" dur="2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7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3" dur="2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7" dur="20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7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1" dur="20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8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5" dur="20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25000"/>
                            </p:stCondLst>
                            <p:childTnLst>
                              <p:par>
                                <p:cTn id="168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9" dur="20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46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Значение присутствия  родителей в группе для дете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их сознании возникает позитивная связь между семьей и детским садом: если дети чувствуют, что членов их семьи принимают в саду с открытым сердцем, то у них возникает более доверительное отношение к работящим в группе взрослы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сутствие и участие родителей в занятиях доставляет детям особое удовольствие, благоприятствует их успеха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ребёнка наблюдается буквально взлёт чувства собственного достоинства , даже если участие членов семьи носит редкий и непродолжительный характер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накомство с другими взрослыми расширяет социальный опыт и даёт положительные модели для подража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 начинают признавать полномочия других взрослых (помимо воспитателей) и относятся к ним как к источнику знаний и опыт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заимодействие с семьями детей, которые представляли разнообразные культурные традиции, создаёт возможность для формирования толерантност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 из неполных семей смогут частично реализовать свою потребность в общении, внимании, лас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0" dur="indefinite" restart="never" nodeType="tmRoot">
          <p:childTnLst>
            <p:seq>
              <p:cTn id="1691" dur="indefinite" nodeType="mainSeq">
                <p:childTnLst>
                  <p:par>
                    <p:cTn id="1692" fill="hold">
                      <p:stCondLst>
                        <p:cond delay="0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0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4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5500"/>
                            </p:stCondLst>
                            <p:childTnLst>
                              <p:par>
                                <p:cTn id="170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8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7000"/>
                            </p:stCondLst>
                            <p:childTnLst>
                              <p:par>
                                <p:cTn id="171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2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8500"/>
                            </p:stCondLst>
                            <p:childTnLst>
                              <p:par>
                                <p:cTn id="171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6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1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0" dur="1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2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4" dur="10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Значение присутствия  родителей в группе для педагогов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менение соотношения «взрослый-ребёнок» в группе. Воспитатели получают возможность проводить больше времени с отдельными детьми и работать с малыми группа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можность использования увлечений, талантов, знаний и интересов родителей в процессе занятий с деть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можность закрепления знаний, получаемых детьми в ДОУ , с помощью занятий дом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исходит более тесное общение между родителя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дители становятся участниками процесса принятия решений по вопросам жизни детского сад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вляясь представителями различных культур, родители вносят особый вклад в процесс обуч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можность понять, как мамы и папы помогают своим малышам решать задач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можность узнать, какие занятия и увлечения взрослые члены семьи разделяют со своими детьми( например, приготовление пищи, игра на музыкальных инструментах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25" dur="indefinite" restart="never" nodeType="tmRoot">
          <p:childTnLst>
            <p:seq>
              <p:cTn id="1726" dur="indefinite" nodeType="mainSeq">
                <p:childTnLst>
                  <p:par>
                    <p:cTn id="1727" fill="hold">
                      <p:stCondLst>
                        <p:cond delay="0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9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3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7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1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5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5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9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0" fill="hold">
                            <p:stCondLst>
                              <p:cond delay="8000"/>
                            </p:stCondLst>
                            <p:childTnLst>
                              <p:par>
                                <p:cTn id="176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3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39 ИДЕ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ДЛЯ ВОВЛЕЧЕНИЯ РОДИТЕЛЕЙ ВО ВЗАИМОДЕЙСТВИЕ С ДЕТСКИМ САДОМ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оздавайте и используйте возможности для непосредственного общ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уйте разнообразные виды деятельности, которые создают возможности для сотрудничества родителей и воспитателей, и делитесь информацией друг с другом. Создавайте возможности и отводите время для дискуссий с семьями, всегда оставляя достаточно времени для вопросов родителей. Научитесь хорошо слушать. Ниже приведены некоторые мероприятия, которые успешно используются в программе «Шаг за шагом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64" dur="indefinite" restart="never" nodeType="tmRoot">
          <p:childTnLst>
            <p:seq>
              <p:cTn id="1765" dur="indefinite" nodeType="mainSeq">
                <p:childTnLst>
                  <p:par>
                    <p:cTn id="1766" fill="hold">
                      <p:stCondLst>
                        <p:cond delay="0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8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Современные методики, педагогические технологии взаимодействия ДОУ и семь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53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«Родительские собрания в детском саду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Автор: Т.Н Зен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заимодействие педагогов с семьями воспитанников является одним из важнейших условий развития личности ребенка и его социализации в условиях общественного и домашнего воспитания. В пособии представлены конспекты родительских собраний в детском саду, как одной из форм повышения педагогической компетентности родителей. Книга адресована воспитателям, старшим воспитателям, социальным педагогам дошкольных образовательных учрежден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дательство «Педагогическое общество России2, 2007 г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1000398396"/>
          <p:cNvPicPr/>
          <p:nvPr/>
        </p:nvPicPr>
        <p:blipFill>
          <a:blip r:embed="rId1"/>
          <a:stretch/>
        </p:blipFill>
        <p:spPr>
          <a:xfrm>
            <a:off x="5148360" y="1628640"/>
            <a:ext cx="3189240" cy="460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98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98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98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98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1. Первые визиты в детский са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д тем как ребенок начнет посещать детский сад, родители должны прийти на занятия и познакомиться с педагогами, другими детьми и вообще с детским сад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2. Вводные собр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 того как ребенок записан в детский сад, вводные собрания для родителей помогают им встретиться с воспитателями и другими родителями, узнать о ежедневных мероприятиях и другую полезную информац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3. Посещения на дом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атель может посетить ребенка на дому, чтобы узнать и ребенка, и его семью в домашней обстанов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79" dur="indefinite" restart="never" nodeType="tmRoot">
          <p:childTnLst>
            <p:seq>
              <p:cTn id="1780" dur="indefinite" nodeType="mainSeq">
                <p:childTnLst>
                  <p:par>
                    <p:cTn id="1781" fill="hold">
                      <p:stCondLst>
                        <p:cond delay="0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9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3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7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1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5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4. Когда приводить и забирать ребе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исание может быть составлено так, чтобы время, когда детей приводят в детский сад и забирают домой, использовалось для общения с семья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5. Телефонные звон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лефонные звонки делаются в особых случаях или раз в месяц всем родителям, чтобы поддерживать неформальное общение с ни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6. Конференции родителей и воспитате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ференции — это формальные собрания, предназначенные для того, чтобы обсуждать успехи детей и давать возможность родителям делиться своими идеями и проблемами. Конференции можно использовать для совместного планирования индивидуализированных програм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06" dur="indefinite" restart="never" nodeType="tmRoot">
          <p:childTnLst>
            <p:seq>
              <p:cTn id="1807" dur="indefinite" nodeType="mainSeq">
                <p:childTnLst>
                  <p:par>
                    <p:cTn id="1808" fill="hold">
                      <p:stCondLst>
                        <p:cond delay="0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2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6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0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4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2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7724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 u="sng">
                <a:solidFill>
                  <a:srgbClr val="008000"/>
                </a:solidFill>
                <a:uFillTx/>
                <a:latin typeface="Times New Roman"/>
              </a:rPr>
              <a:t>Используйте письменные формы общ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гда нехватка времени или сложности с расписанием мешают вам встретиться с родителями лично или если у вас нет телефона, поддерживать контакт с родителями вам помогут некоторые формы письменного общ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7. Брошюр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рошюры помогают родителям узнать о детском саде. Брошюры могут описать концепцию детского сада и дать общую информацию о н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8. Пособ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обия содержат подробную информацию о детском саде. Семьи могут обращаться к пособиям в течение всего год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9. Бюллетен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юллетень можно выпускать раз или два в месяц, чтобы постоянно обеспечивать семьи информацией об особых мероприятиях, изменениях в программе и др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3" dur="indefinite" restart="never" nodeType="tmRoot">
          <p:childTnLst>
            <p:seq>
              <p:cTn id="1834" dur="indefinite" nodeType="mainSeq">
                <p:childTnLst>
                  <p:par>
                    <p:cTn id="1835" fill="hold">
                      <p:stCondLst>
                        <p:cond delay="0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3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7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1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5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9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3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7000"/>
                            </p:stCondLst>
                            <p:childTnLst>
                              <p:par>
                                <p:cTn id="186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7" dur="5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85800" y="836280"/>
            <a:ext cx="77724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10. Еженедельные записки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женедельная записка, адресованная непосредственно родителям, сообщает семье о здоровье, настроении, поведении ребенка в детском саду, о его любимых занятиях и другую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11. Неформальные запис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питатели могут посылать с ребенком короткие записки домой, чтобы информировать семью о новом достижении ребенка или о только что освоенном навыке, поблагодарить семью за оказанную помощь; здесь могут быть записи детской речи, интересные высказывания ребенка и др. Семьи также могут посылать в детский сад записки, выражающие благодарность или содержащие просьб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12. Личные блокн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ие блокноты могут каждый день курсировать между детским садом и семьей, чтобы делиться информацией о том, что происходит дома и в детском саду. Семьи могут извещать воспитателей об особых семейных событиях, таких, как дни рождения, новая работа, поездки, г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68" dur="indefinite" restart="never" nodeType="tmRoot">
          <p:childTnLst>
            <p:seq>
              <p:cTn id="1869" dur="indefinite" nodeType="mainSeq">
                <p:childTnLst>
                  <p:par>
                    <p:cTn id="1870" fill="hold">
                      <p:stCondLst>
                        <p:cond delay="0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8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2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6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0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4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63272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008000"/>
                </a:solidFill>
                <a:latin typeface="Times New Roman"/>
              </a:rPr>
              <a:t>13. Доска объявле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ка объявлений — это настенный экран, который информирует родителей о собраниях, мероприятиях детского сада, расписании на день и др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95" dur="indefinite" restart="never" nodeType="tmRoot">
          <p:childTnLst>
            <p:seq>
              <p:cTn id="1896" dur="indefinite" nodeType="mainSeq">
                <p:childTnLst>
                  <p:par>
                    <p:cTn id="1897" fill="hold">
                      <p:stCondLst>
                        <p:cond delay="0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5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5" descr="Картинка 5 из 116"/>
          <p:cNvPicPr/>
          <p:nvPr/>
        </p:nvPicPr>
        <p:blipFill>
          <a:blip r:embed="rId2"/>
          <a:stretch/>
        </p:blipFill>
        <p:spPr>
          <a:xfrm>
            <a:off x="1076400" y="785880"/>
            <a:ext cx="6991200" cy="513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6" dur="indefinite" restart="never" nodeType="tmRoot">
          <p:childTnLst>
            <p:seq>
              <p:cTn id="1907" dur="indefinite" nodeType="mainSeq">
                <p:childTnLst>
                  <p:par>
                    <p:cTn id="1908" fill="hold">
                      <p:stCondLst>
                        <p:cond delay="0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8000"/>
                </a:solidFill>
                <a:latin typeface="Times New Roman"/>
              </a:rPr>
              <a:t>14. Ящик для предлож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коробка, в которую родители могут класть записки со своими идеями и предложениями, что позволяет им делиться своими мыслями с группой воспитател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8000"/>
                </a:solidFill>
                <a:latin typeface="Times New Roman"/>
              </a:rPr>
              <a:t>15. Отче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исьменные отчеты о развитии ребенка — это одна из форм общения с семьями, которая может быть полезна при условии, чтобы она не заменяла личных контак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13" dur="indefinite" restart="never" nodeType="tmRoot">
          <p:childTnLst>
            <p:seq>
              <p:cTn id="1914" dur="indefinite" nodeType="mainSeq">
                <p:childTnLst>
                  <p:par>
                    <p:cTn id="1915" fill="hold">
                      <p:stCondLst>
                        <p:cond delay="0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9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3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7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1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Объявления для родителе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764640"/>
            <a:ext cx="77724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Дорогие мамы и папы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Мы так стараемся быть аккуратными, что душистое мыло опять кончилось, а от туалетной бумаги скоро останутся одни воспомин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Выручайте срочно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imes New Roman"/>
              </a:rPr>
              <a:t>Ваши сыночки и доч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В нашей группе ситуация ЧС – Чрезвычайной Сопливости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Ранние холода мешают нашему счасть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Мы очень хотим, чтобы наши носики дышали легко и свободн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Пожалуйста, помогите нам экстренно заклеить окна. </a:t>
            </a: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Мы ждём вашей помощи в среду и четверг в любое удобное для вас врем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</a:rPr>
              <a:t>Не забудьте положить нам в кармашки запасные платоч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Times New Roman"/>
              </a:rPr>
              <a:t>Ваши любимые дет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932" dur="indefinite" restart="never" nodeType="tmRoot">
          <p:childTnLst>
            <p:seq>
              <p:cTn id="1933" dur="indefinite" nodeType="mainSeq">
                <p:childTnLst>
                  <p:par>
                    <p:cTn id="1934" fill="hold">
                      <p:stCondLst>
                        <p:cond delay="0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95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fill="hold">
                            <p:stCondLst>
                              <p:cond delay="7500"/>
                            </p:stCondLst>
                            <p:childTnLst>
                              <p:par>
                                <p:cTn id="195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9" fill="hold">
                            <p:stCondLst>
                              <p:cond delay="9000"/>
                            </p:stCondLst>
                            <p:childTnLst>
                              <p:par>
                                <p:cTn id="196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6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6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7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Папа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Мы с мальчишками знаем названия многих автомобилей - «КАМаз», «Хонда», «Мерседес», «БМВ». Мы любим поговорить о машинах, о том, как мы вырастем и станем сами водить автомобили. У нас в группе только одна книжка про маши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Давай, принесём в группу старые журналы «За рулём»? Все мальчишки будут рады, и я больше все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Твой сы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7724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Создавайте множество ролей для родите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дители могут играть разные формальные и неформальные роли в программе. Ниже приведены некоторые из ни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16. Гость групп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бходимо поощрять приход родителей в группу для наблюдения за детьми и игры с ни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17. Доброволец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родителей и детей могут быть общие интересы или умения. Взрослые могут помогать воспитателям , принимать участие в спектаклях, помогать в организации мероприятий, обеспечивать транспортом, помогать убирать, обустраивать и украшать групповые помещения и п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18. Оплачиваемая должно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которые родители могут занять оплачиваемую должность  в качестве члена воспитательного коллектив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19. Член родительского сове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дительский совет — это группа родителей, которая регулярно собирается для того, чтобы давать рекомендации воспитателям по поводу их теории и практи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75" dur="indefinite" restart="never" nodeType="tmRoot">
          <p:childTnLst>
            <p:seq>
              <p:cTn id="1976" dur="indefinite" nodeType="mainSeq">
                <p:childTnLst>
                  <p:par>
                    <p:cTn id="1977" fill="hold">
                      <p:stCondLst>
                        <p:cond delay="0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5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9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3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7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1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2" fill="hold">
                            <p:stCondLst>
                              <p:cond delay="6000"/>
                            </p:stCondLst>
                            <p:childTnLst>
                              <p:par>
                                <p:cTn id="20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5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6" fill="hold">
                            <p:stCondLst>
                              <p:cond delay="7000"/>
                            </p:stCondLst>
                            <p:childTnLst>
                              <p:par>
                                <p:cTn id="200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9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fill="hold">
                            <p:stCondLst>
                              <p:cond delay="8000"/>
                            </p:stCondLst>
                            <p:childTnLst>
                              <p:par>
                                <p:cTn id="201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3" dur="5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4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7" dur="5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38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Дискуссия</a:t>
            </a:r>
            <a:br>
              <a:rPr sz="4000"/>
            </a:b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«Семейное и общественное воспитание: единство и различия»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76280"/>
            <a:ext cx="777240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Выявление сильных и слабых сторон двух социальных институ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Выявление особенностей семейного и общественного воспит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Развивайте работу, направленную на родите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20. Сотрудничество родителей друг с друг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помощь более опытных родителей начинающим. Групповая деятельность может включать в себя собрания для общения или оказания поддерж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21. Информация для родителей и их обучени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ский сад предоставляет родителям информацию на интересующую их тему о развитии ребен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22. Неформальные встречи родителей и воспитателей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тематические встречи, вечера и т.п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23. Использование коммуникативных ресурс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ние родителей по вопросам, связанным с трудоустройством, здоровьем, жильем, уходом за детьми, образованием и другими нуждами сем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8000"/>
                </a:solidFill>
                <a:latin typeface="Times New Roman"/>
              </a:rPr>
              <a:t>24. Обмен литератур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ский сад может создать библиотеку интересных книг, статей, буклетов, видео- и аудиокассет, которыми родители могли бы пользовать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18" dur="indefinite" restart="never" nodeType="tmRoot">
          <p:childTnLst>
            <p:seq>
              <p:cTn id="2019" dur="indefinite" nodeType="mainSeq">
                <p:childTnLst>
                  <p:par>
                    <p:cTn id="2020" fill="hold">
                      <p:stCondLst>
                        <p:cond delay="0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4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6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0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1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4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8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9" fill="hold">
                            <p:stCondLst>
                              <p:cond delay="7000"/>
                            </p:stCondLst>
                            <p:childTnLst>
                              <p:par>
                                <p:cTn id="205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2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fill="hold">
                            <p:stCondLst>
                              <p:cond delay="8000"/>
                            </p:stCondLst>
                            <p:childTnLst>
                              <p:par>
                                <p:cTn id="205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6" dur="500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7" fill="hold">
                            <p:stCondLst>
                              <p:cond delay="9000"/>
                            </p:stCondLst>
                            <p:childTnLst>
                              <p:par>
                                <p:cTn id="205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0" dur="500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6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4" dur="500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дложения для работы с родител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еты, предлагаемые ниже, могут помочь активизировать участие родите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25. Уважение к роли родите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крепляйте взаимное уважение между воспитателями и родителя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26. Поощряйте участие родителей, содействуйте им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сказывайте родителям, как они могут участвовать в программе детского са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27. Старайтесь разнообразить виды участия родителей, проявляйте гибкость и творчество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разных семей разные интересы, ресурсы и образ жизни. Что подходит одной семье, не подходит друг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5" dur="indefinite" restart="never" nodeType="tmRoot">
          <p:childTnLst>
            <p:seq>
              <p:cTn id="2066" dur="indefinite" nodeType="mainSeq">
                <p:childTnLst>
                  <p:par>
                    <p:cTn id="2067" fill="hold">
                      <p:stCondLst>
                        <p:cond delay="0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9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3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7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08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1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5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28. Позволяйте семьям самим решать, как они могут помогать детскому саду наилучшим образ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бейтесь того, чтобы семьи понимали, что их участие в программе ценится и что любой вклад с их стороны приветствует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29. Говорите с семьями о надеждах воспитателей и родителей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судите, как вы будете поддерживать контакты с самого начала посещения ребенком детского сад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30. Будьте терпеливы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стие родителей — возможно, новая область для воспитателей и семей, а на развитие новых контактов требуется время. Программа, в которой активно участвуют родители, строится на маленьких поэтапных достижени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31. Делайте акцент на сильных сторонах ребенка, семьи и давайте положительное подкрепл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дители и воспитатели ждут друг от друга взаимного одобрения и признания, что они хорошо делают свое дело. Сосредоточьте внимание и подчеркивайте сильные стороны ребенка и семьи. Даже опытные родители и воспитатели нуждаются в подтверждении их уникального вклада в развитие ребен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6" dur="indefinite" restart="never" nodeType="tmRoot">
          <p:childTnLst>
            <p:seq>
              <p:cTn id="2097" dur="indefinite" nodeType="mainSeq">
                <p:childTnLst>
                  <p:par>
                    <p:cTn id="2098" fill="hold">
                      <p:stCondLst>
                        <p:cond delay="0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2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6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0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4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8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2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6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84360" y="333360"/>
            <a:ext cx="77724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32. Поддерживайте тесные контак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ждый воспитатель должен разговаривать с родителями каждого ребенка по крайней мере раз в недел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33. Выражайте свою признательнос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вайте родителям знать, что вы цените их участие в программ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34. Постарайтесь вовлекать всю семь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цы часто исключаются из дошкольных программ. Подумайте о том, как творчески привлекать отцов, братьев, сестер и других членов семь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35. Поощряйте посещаемость родительских собра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одите собрания в удобное для родителей время. Помогайте семьям найти дополнительные ресурсы для воспитания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27" dur="indefinite" restart="never" nodeType="tmRoot">
          <p:childTnLst>
            <p:seq>
              <p:cTn id="2128" dur="indefinite" nodeType="mainSeq">
                <p:childTnLst>
                  <p:par>
                    <p:cTn id="2129" fill="hold">
                      <p:stCondLst>
                        <p:cond delay="0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3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7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1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5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9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3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7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5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1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36. Сохраняйте конфиденциальн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верие — неотъемлемая часть контактов, основанных на сотрудничестве. Обеспечивайте полную конфиденциальность информации о каждой семь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37. Учитесь навыкам сотрудниче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одите совместные обучающие занят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телей и воспитателей для укрепления их сотрудниче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38. Сотрудничайте с другими партнерами в вашем райо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ычно семьи рассчитывают на разные службы и услуги. Дошкольная программа не может предоставить семьям всего спектра услуг, но может сотрудничать с другими программами, которые обеспечат детей и родителей необходимыми услугами (например, со школой и службой здравоохранения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39. Создайте консультационную группу по проблемам семьи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62" dur="indefinite" restart="never" nodeType="tmRoot">
          <p:childTnLst>
            <p:seq>
              <p:cTn id="2163" dur="indefinite" nodeType="mainSeq">
                <p:childTnLst>
                  <p:par>
                    <p:cTn id="2164" fill="hold">
                      <p:stCondLst>
                        <p:cond delay="0"/>
                      </p:stCondLst>
                      <p:childTnLst>
                        <p:par>
                          <p:cTn id="2165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2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6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0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4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8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2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85800" y="260280"/>
            <a:ext cx="77724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ЧТО МОГУТ ДЕЛАТЬ РОДИТЕЛИ В ДЕТСКОМ САД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тать детям рассказы, сказки, истории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— приносить различные игрушки для общих игр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— собирать природные материалы для деятельности детей: камешки, семена, раковины и т.п.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— участвовать в праздниках (например, к празднику «День моей семьи» принести альбомы, семейные реликвии, рассказать детям о себе, своей семье и т.д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93" dur="indefinite" restart="never" nodeType="tmRoot">
          <p:childTnLst>
            <p:seq>
              <p:cTn id="2194" dur="indefinite" nodeType="mainSeq">
                <p:childTnLst>
                  <p:par>
                    <p:cTn id="2195" fill="hold">
                      <p:stCondLst>
                        <p:cond delay="0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1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3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Наглядно-информационные фор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Times New Roman"/>
              </a:rPr>
              <a:t>Информационно-просветительская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направлена на обогащение знаний родителей через организацию выставок, выпуск газет, папок – передвижек и т.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5" descr="Картинка 13 из 66"/>
          <p:cNvPicPr/>
          <p:nvPr/>
        </p:nvPicPr>
        <p:blipFill>
          <a:blip r:embed="rId2"/>
          <a:stretch/>
        </p:blipFill>
        <p:spPr>
          <a:xfrm>
            <a:off x="3995640" y="1989000"/>
            <a:ext cx="482436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4" dur="indefinite" restart="never" nodeType="tmRoot">
          <p:childTnLst>
            <p:seq>
              <p:cTn id="2205" dur="indefinite" nodeType="mainSeq">
                <p:childTnLst>
                  <p:par>
                    <p:cTn id="2206" fill="hold">
                      <p:stCondLst>
                        <p:cond delay="0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Методические рекомендации по организации и оформлению уголка для родителей в группах детского са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ребования к оформлению уголка для родителей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формация, размещенная на стенде для родителей должна быть динамичной. Минимум раз в две-три недели материал должен обновлятьс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размещении любого печатного материала на стенде ссылка на издание, включая авторство и год публикации, обязатель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енд должен быть красочно оформлен. При оформлении стенда следует использовать не только рисунки, но и фотографии (лучше детей группы и родителей). При оформлении стендов не нужно злоупотреблять декоративными элементами, наивными изображениями матрешек, игрушек. Соотношение текста и иллюстраций должно быть 2:6 (2 части – текст, 6- иллюстрации), они должны в первую очередь привлечь внимание родителей, затем донести до них нужную информацию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11" dur="indefinite" restart="never" nodeType="tmRoot">
          <p:childTnLst>
            <p:seq>
              <p:cTn id="2212" dur="indefinite" nodeType="mainSeq">
                <p:childTnLst>
                  <p:par>
                    <p:cTn id="2213" fill="hold">
                      <p:stCondLst>
                        <p:cond delay="0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1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2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5" dur="2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6" fill="hold">
                            <p:stCondLst>
                              <p:cond delay="7500"/>
                            </p:stCondLst>
                            <p:childTnLst>
                              <p:par>
                                <p:cTn id="222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9" dur="20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3" dur="20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3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7" dur="20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Формы подачи наглядного материала для родителе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1. Постоянный информационный стен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Содержание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изитная карточка групп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арактеристика возрастных психологических особенностей детей групп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жим дня групп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исание занятий на учебный год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исание дополнительных заняти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а для родителе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н мероприятий для родителей на учебный год (в соответствие с планом работы ДОУ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38" dur="indefinite" restart="never" nodeType="tmRoot">
          <p:childTnLst>
            <p:seq>
              <p:cTn id="2239" dur="indefinite" nodeType="mainSeq">
                <p:childTnLst>
                  <p:par>
                    <p:cTn id="2240" fill="hold">
                      <p:stCondLst>
                        <p:cond delay="0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9" fill="hold">
                            <p:stCondLst>
                              <p:cond delay="5500"/>
                            </p:stCondLst>
                            <p:childTnLst>
                              <p:par>
                                <p:cTn id="226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fill="hold">
                            <p:stCondLst>
                              <p:cond delay="8500"/>
                            </p:stCondLst>
                            <p:childTnLst>
                              <p:par>
                                <p:cTn id="226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7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7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8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2. Стенды со сменяемым материал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Содержание: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«Права детей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аздел для родителей, в который помещается разнообразная информация по соблюдению прав детства в дошкольном учреждении и семье, адреса и телефоны организаций, куда можно обратиться за помощью, официальные документ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«Советы врача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«Медицинская странич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. Материалы готовят медицинские работники по наиболее актуальным темам: профилактика инфекционных заболеваний, оказание первой медицинской помощи, вредные привычки, их профилактика и коррекция и д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«Азбука безопасности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Этот раздел представляет материалы по обучению дошкольников правилам безопасного поведения в быту и экстремальных условия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283" dur="indefinite" restart="never" nodeType="tmRoot">
          <p:childTnLst>
            <p:seq>
              <p:cTn id="2284" dur="indefinite" nodeType="mainSeq">
                <p:childTnLst>
                  <p:par>
                    <p:cTn id="2285" fill="hold">
                      <p:stCondLst>
                        <p:cond delay="0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3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5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6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7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9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1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2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3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5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7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8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1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3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4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5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ina_av</cp:lastModifiedBy>
  <dcterms:modified xsi:type="dcterms:W3CDTF">2010-10-19T06:06:32Z</dcterms:modified>
  <cp:revision>48</cp:revision>
  <dc:subject/>
  <dc:title>PowerPoint Presentation</dc:title>
</cp:coreProperties>
</file>