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chimes.wav" ContentType="audio/x-wav"/>
  <Override PartName="/ppt/media/image7.wmf" ContentType="image/x-wmf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11.png" ContentType="image/png"/>
  <Override PartName="/ppt/media/image6.wmf" ContentType="image/x-wmf"/>
  <Override PartName="/ppt/media/image8.wmf" ContentType="image/x-wmf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1163-E2D8-4082-973C-EFB987AFE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3B94-6173-43C9-A347-985D5819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B3C1-3865-4F69-AA42-02B763810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E0E4-2685-4ECE-8401-4BDFD8E47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D70B2-8E63-47AF-835B-128AAC522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DB7E1-001F-4A25-BB2B-CEC1BFD5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D92A7-9F4C-45E4-BB6B-C1AFB128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36668-C706-4AB9-9718-78D694F2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9EAB-E7BB-4338-AF59-0E382180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F9CE-D520-47CE-9798-F00DC074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760A-A6D9-4256-A7D8-E3971E03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16BE-FCE8-4D30-82C9-DC26608B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845F-112C-4F78-9E74-B12CCCC4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6483-52B7-459E-A821-396D030D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7C36-503B-4711-A66B-CAA39804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7057-A753-491F-9CA9-2AA975654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56B8-8195-412D-B635-A6066EEB4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6BB4-F6C6-485A-B9B0-3023801D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DFA4-B76E-4A80-B921-035CB661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6FCF-D5CA-4D9F-974A-0501BF2A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E4BB-0DC6-4E3C-A78E-EF2AA661C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EA98-CC8C-4FF3-9CBF-7F3F4586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47F2-D994-4CFA-AAF0-32D9D125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5EBD-852F-4363-8B4E-79A6A613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efac9"/>
                </a:gs>
                <a:gs pos="50000">
                  <a:srgbClr val="ffffff"/>
                </a:gs>
                <a:gs pos="100000">
                  <a:srgbClr val="fefa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3a44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efac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efac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efac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3a44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3a44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3a44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3a44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e8c71"/>
                </a:gs>
                <a:gs pos="100000">
                  <a:srgbClr val="fefac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efac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3a44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efac9"/>
                </a:gs>
                <a:gs pos="50000">
                  <a:srgbClr val="ffffff"/>
                </a:gs>
                <a:gs pos="100000">
                  <a:srgbClr val="fefa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3a44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4d2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44d2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7f6f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7E9F-90B4-40BD-BC26-164EBDFFB5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efac9"/>
                </a:gs>
                <a:gs pos="50000">
                  <a:srgbClr val="ffffff"/>
                </a:gs>
                <a:gs pos="100000">
                  <a:srgbClr val="fefa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3a44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efac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efac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efac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3a44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3a44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3a44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3a44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e8c71"/>
                </a:gs>
                <a:gs pos="100000">
                  <a:srgbClr val="fefac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efac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3a44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efac9"/>
                </a:gs>
                <a:gs pos="50000">
                  <a:srgbClr val="ffffff"/>
                </a:gs>
                <a:gs pos="100000">
                  <a:srgbClr val="fefa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3a44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4d2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44d2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7f6f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369C-45CD-4D68-96EA-70199585C3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ivdskur.to.kg/htm" TargetMode="Externa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40428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4d26"/>
                </a:solidFill>
                <a:latin typeface="Arial"/>
              </a:rPr>
              <a:t>Организация исследовательской деятельности  учащихся во внеурочное время в рамках предмета биологии </a:t>
            </a:r>
            <a:br>
              <a:rPr sz="5400"/>
            </a:b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5008680"/>
            <a:ext cx="640080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ек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5" descr="j0305257"/>
          <p:cNvPicPr/>
          <p:nvPr/>
        </p:nvPicPr>
        <p:blipFill>
          <a:blip r:embed="rId1"/>
          <a:stretch/>
        </p:blipFill>
        <p:spPr>
          <a:xfrm>
            <a:off x="1476360" y="3789360"/>
            <a:ext cx="2087640" cy="226044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4d26"/>
                </a:solidFill>
                <a:latin typeface="Arial"/>
              </a:rPr>
              <a:t>Содержание проекта </a:t>
            </a: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тавление   перечня  необходимых приборов и инструментов для проведения исследовани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риобретение  недостающих прибор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тавление примерных программ по выполнению исследовани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дение  конференци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Анализ и оцен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44d26"/>
                </a:solidFill>
                <a:latin typeface="Arial"/>
              </a:rPr>
              <a:t>Результаты проекта </a:t>
            </a:r>
            <a:endParaRPr b="1" lang="en-US" sz="5400" spc="-1" strike="noStrike">
              <a:solidFill>
                <a:srgbClr val="444d26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 rot="20832600">
            <a:off x="945720" y="2025720"/>
            <a:ext cx="3816360" cy="3168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2"/>
          <a:stretch/>
        </p:blipFill>
        <p:spPr>
          <a:xfrm rot="841800">
            <a:off x="5428800" y="2571480"/>
            <a:ext cx="3218040" cy="216540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4d26"/>
                </a:solidFill>
                <a:latin typeface="Arial"/>
              </a:rPr>
              <a:t>Информационные ресурсы</a:t>
            </a: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Авилова А.К. Позвоночные животные, изучение в школе- М. 1983 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Журналы «Биология в школе», 2007 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Мамонтов С.С. Захаров В.Б.,Козлова Т.Б. Основы биологии. М Просвещение  1992 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Сонин Н.И. Биология 6 класс –М. Дрофа 2002 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e58b6"/>
                </a:solidFill>
                <a:uFillTx/>
                <a:latin typeface="Times New Roman"/>
                <a:hlinkClick r:id="rId1"/>
              </a:rPr>
              <a:t>www.bivdskur.to.Kg/h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4d26"/>
                </a:solidFill>
                <a:latin typeface="Arial"/>
              </a:rPr>
              <a:t>Автор  проекта </a:t>
            </a: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итель биологии Кара-Хольской СОШ Монгуш А.С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2" descr="C:\Users\user\Pictures\SDC13592.JPG"/>
          <p:cNvPicPr/>
          <p:nvPr/>
        </p:nvPicPr>
        <p:blipFill>
          <a:blip r:embed="rId1"/>
          <a:stretch/>
        </p:blipFill>
        <p:spPr>
          <a:xfrm>
            <a:off x="3500280" y="3059280"/>
            <a:ext cx="4089600" cy="306684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4d26"/>
                </a:solidFill>
                <a:latin typeface="Arial"/>
              </a:rPr>
              <a:t>Цель проекта</a:t>
            </a: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ганизовать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тельскую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деятельность учащихся во внеурочное время в рамках предмета биологии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4" descr="j0251301"/>
          <p:cNvPicPr/>
          <p:nvPr/>
        </p:nvPicPr>
        <p:blipFill>
          <a:blip r:embed="rId1"/>
          <a:stretch/>
        </p:blipFill>
        <p:spPr>
          <a:xfrm>
            <a:off x="7093080" y="692280"/>
            <a:ext cx="912600" cy="769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PA020022_240x180"/>
          <p:cNvPicPr/>
          <p:nvPr/>
        </p:nvPicPr>
        <p:blipFill>
          <a:blip r:embed="rId2"/>
          <a:stretch/>
        </p:blipFill>
        <p:spPr>
          <a:xfrm>
            <a:off x="5003640" y="3573360"/>
            <a:ext cx="3313440" cy="266400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4d26"/>
                </a:solidFill>
                <a:latin typeface="Arial"/>
              </a:rPr>
              <a:t>Задачи </a:t>
            </a: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Оснащение кабинета биологии  инструментами и лабораторными приборами для организации и проведения исследо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Составлять примерные программы по выполнению  исследо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Реализовать  проек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Провести конференц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Анализировать результаты раб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j0299125"/>
          <p:cNvPicPr/>
          <p:nvPr/>
        </p:nvPicPr>
        <p:blipFill>
          <a:blip r:embed="rId1"/>
          <a:stretch/>
        </p:blipFill>
        <p:spPr>
          <a:xfrm>
            <a:off x="7500960" y="464328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44d26"/>
                </a:solidFill>
                <a:latin typeface="Arial"/>
              </a:rPr>
              <a:t>Основополагающие и проблемные вопросы </a:t>
            </a:r>
            <a:endParaRPr b="1" lang="en-US" sz="40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ополагающий вопро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e58b6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тако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тельская деятельн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e58b6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проводить исследования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e58b6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оформить результаты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44d26"/>
                </a:solidFill>
                <a:latin typeface="Arial"/>
              </a:rPr>
              <a:t>Какие самостоятельные исследования учащихся возможны </a:t>
            </a:r>
            <a:endParaRPr b="1" lang="en-US" sz="32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м питаются птиц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Изучение видового разнообраз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еком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животные живут в нашем лес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Влияние удобрений на рост картофе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Почему многие животные не умирают зим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. Какие представители кошачьих обитают в наших леса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4d26"/>
                </a:solidFill>
                <a:latin typeface="Arial"/>
              </a:rPr>
              <a:t>Гипотеза </a:t>
            </a: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сокий уровень организации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тельск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деятельности учащихся  и повышение  интереса к предмету биоло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4" descr="j0286034"/>
          <p:cNvPicPr/>
          <p:nvPr/>
        </p:nvPicPr>
        <p:blipFill>
          <a:blip r:embed="rId1"/>
          <a:stretch/>
        </p:blipFill>
        <p:spPr>
          <a:xfrm>
            <a:off x="7093080" y="692280"/>
            <a:ext cx="919080" cy="885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j0090386"/>
          <p:cNvPicPr/>
          <p:nvPr/>
        </p:nvPicPr>
        <p:blipFill>
          <a:blip r:embed="rId2"/>
          <a:stretch/>
        </p:blipFill>
        <p:spPr>
          <a:xfrm>
            <a:off x="5508720" y="3645000"/>
            <a:ext cx="2698560" cy="230976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3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4d26"/>
                </a:solidFill>
                <a:latin typeface="Arial"/>
              </a:rPr>
              <a:t>Предполагаемый результат</a:t>
            </a: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Для учителя – реализация проекта в результате которого можно достичь высокого уровня организаци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ворческ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деятельности учащихся во внеурочное время в рамках предмета биолог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Для учащихся – качественное выполнение проектов и публикаций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4" descr="j0292020"/>
          <p:cNvPicPr/>
          <p:nvPr/>
        </p:nvPicPr>
        <p:blipFill>
          <a:blip r:embed="rId1"/>
          <a:stretch/>
        </p:blipFill>
        <p:spPr>
          <a:xfrm>
            <a:off x="357120" y="4429080"/>
            <a:ext cx="1868400" cy="177336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4d26"/>
                </a:solidFill>
                <a:latin typeface="Arial"/>
              </a:rPr>
              <a:t>Актуальность </a:t>
            </a:r>
            <a:endParaRPr b="1" lang="en-US" sz="44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e58b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настоящее время  в учебном плане снижены учебные нагрузки детей по биологии. И чтобы повысить качество образован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интерес учащихся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биологии учителю необходимо организовать  у учащихся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орческую  исследовательскую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ятельност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7451640" y="54936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03:05:33Z</dcterms:created>
  <dc:creator>Гость</dc:creator>
  <dc:description/>
  <dc:language>en-US</dc:language>
  <cp:lastModifiedBy>1</cp:lastModifiedBy>
  <dcterms:modified xsi:type="dcterms:W3CDTF">2015-03-08T04:40:16Z</dcterms:modified>
  <cp:revision>48</cp:revision>
  <dc:subject/>
  <dc:title>Организация исследовательских проектов учащихся во внеурочное время в рамках предмета биологии  </dc:title>
</cp:coreProperties>
</file>