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7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084-CC3A-424E-8723-DA321D9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30F-5581-4DE0-9FA1-96B5F08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565-5793-4F20-948D-B71C652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E74-A181-4415-9CBD-18EE12D0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AD1-D742-408F-A6B7-F026375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52D-210C-47F2-8B81-740ADE6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DCB0-19BC-43CE-8CF8-5355FF5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B1AE-4EB1-4266-B632-8A5EEE6D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FAF-B35E-4688-B972-25F8EC6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3767-FB8E-47C1-BFD0-C1916C4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79B7-2974-4AC1-A640-5E113F5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41F-FAAB-4492-B816-2D17372C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B6B3-64C4-40F3-A453-E7137AEA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4DCC-1AB8-41CC-AB00-CCAA671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9526-8905-4A2C-B225-7DEA45EF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E779-AC89-4713-8E73-311B9A2B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A68-812A-48D5-BA5F-F1AF106F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E41-57DC-4D92-BAB4-3552683D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A40-B873-429C-9B73-7F782A8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6F9-C0A1-42C6-996F-D6F91D7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40F-8B15-43A1-8666-052368D4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536-95B8-4D2D-923F-81CD4D9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F8E-90E0-44B7-BCB1-F04FD90E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8F0-8BD9-4ED9-8DD0-1CF408E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1CA-6F81-4D0A-9E75-54CAA9847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0FE-3CE1-447B-BDA5-9009BAF9E9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vdskur.to.kg/ht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Организация исследовательской деятельности  учащихся во внеурочное время в рамках предмета биологии </a:t>
            </a:r>
            <a:br>
              <a:rPr sz="5400"/>
            </a:b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008680"/>
            <a:ext cx="6400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j0305257"/>
          <p:cNvPicPr/>
          <p:nvPr/>
        </p:nvPicPr>
        <p:blipFill>
          <a:blip r:embed="rId1"/>
          <a:stretch/>
        </p:blipFill>
        <p:spPr>
          <a:xfrm>
            <a:off x="1476360" y="3789360"/>
            <a:ext cx="2087640" cy="2260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Содержание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  перечня  необходимых приборов и инструментов для проведения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обретение  недостающих приб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примерных программ по выполнению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 конфер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Анализ и 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44d26"/>
                </a:solidFill>
                <a:latin typeface="Arial"/>
              </a:rPr>
              <a:t>Результаты проекта </a:t>
            </a:r>
            <a:endParaRPr b="1" lang="en-US" sz="5400" spc="-1" strike="noStrike">
              <a:solidFill>
                <a:srgbClr val="444d26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 rot="20832600">
            <a:off x="945720" y="202572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 rot="841800">
            <a:off x="5428800" y="2571480"/>
            <a:ext cx="3218040" cy="2165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Информационные ресурсы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Авилова А.К. Позвоночные животные, изучение в школе- М. 198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Журналы «Биология в школе», 2007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Мамонтов С.С. Захаров В.Б.,Козлова Т.Б. Основы биологии. М Просвещение  199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онин Н.И. Биология 6 класс –М. Дрофа 200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e58b6"/>
                </a:solidFill>
                <a:uFillTx/>
                <a:latin typeface="Times New Roman"/>
                <a:hlinkClick r:id="rId1"/>
              </a:rPr>
              <a:t>www.bivdskur.to.Kg/h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втор 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биологии Кара-Хольской СОШ Монгуш А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Users\user\Pictures\SDC13592.JPG"/>
          <p:cNvPicPr/>
          <p:nvPr/>
        </p:nvPicPr>
        <p:blipFill>
          <a:blip r:embed="rId1"/>
          <a:stretch/>
        </p:blipFill>
        <p:spPr>
          <a:xfrm>
            <a:off x="3500280" y="3059280"/>
            <a:ext cx="4089600" cy="3066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Цель проекта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ов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у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ь учащихся во внеурочное время в рамках предмета биолог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j0251301"/>
          <p:cNvPicPr/>
          <p:nvPr/>
        </p:nvPicPr>
        <p:blipFill>
          <a:blip r:embed="rId1"/>
          <a:stretch/>
        </p:blipFill>
        <p:spPr>
          <a:xfrm>
            <a:off x="7093080" y="69228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A020022_240x180"/>
          <p:cNvPicPr/>
          <p:nvPr/>
        </p:nvPicPr>
        <p:blipFill>
          <a:blip r:embed="rId2"/>
          <a:stretch/>
        </p:blipFill>
        <p:spPr>
          <a:xfrm>
            <a:off x="5003640" y="3573360"/>
            <a:ext cx="3313440" cy="2664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Задачи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снащение кабинета биологии  инструментами и лабораторными приборами для организации и проведения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оставлять примерные программы по выполнению 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еализовать  про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вести конфер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Анализировать результаты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299125"/>
          <p:cNvPicPr/>
          <p:nvPr/>
        </p:nvPicPr>
        <p:blipFill>
          <a:blip r:embed="rId1"/>
          <a:stretch/>
        </p:blipFill>
        <p:spPr>
          <a:xfrm>
            <a:off x="7500960" y="4643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Основополагающие и проблемные вопросы </a:t>
            </a:r>
            <a:endParaRPr b="1" lang="en-US" sz="4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роводить исследования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формить результаты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акие самостоятельные исследования учащихся возможны </a:t>
            </a:r>
            <a:endParaRPr b="1" lang="en-US" sz="32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итаются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зучение видового разнообраз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животные живут в нашем лес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Влияние удобрений на рост картоф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Почему многие животные не умирают зим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ие представители кошачьих обитают в наших лес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Гипотез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организации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деятельности учащихся  и повышение  интереса к предмету 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j0286034"/>
          <p:cNvPicPr/>
          <p:nvPr/>
        </p:nvPicPr>
        <p:blipFill>
          <a:blip r:embed="rId1"/>
          <a:stretch/>
        </p:blipFill>
        <p:spPr>
          <a:xfrm>
            <a:off x="7093080" y="69228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j0090386"/>
          <p:cNvPicPr/>
          <p:nvPr/>
        </p:nvPicPr>
        <p:blipFill>
          <a:blip r:embed="rId2"/>
          <a:stretch/>
        </p:blipFill>
        <p:spPr>
          <a:xfrm>
            <a:off x="5508720" y="364500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Предполагаемый результат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ля учителя – реализация проекта в результате которого можно достичь высокого уровня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и учащихся во внеурочное время в рамках предмета биолог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ля учащихся – качественное выполнение проектов и публикаций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j0292020"/>
          <p:cNvPicPr/>
          <p:nvPr/>
        </p:nvPicPr>
        <p:blipFill>
          <a:blip r:embed="rId1"/>
          <a:stretch/>
        </p:blipFill>
        <p:spPr>
          <a:xfrm>
            <a:off x="357120" y="44290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ктуальность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 в учебном плане снижены учебные нагрузки детей по биологии. И чтобы повысить 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интерес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биологии учителю необходимо организовать  у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ую  исследовательск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3:05:33Z</dcterms:created>
  <dc:creator>Гость</dc:creator>
  <dc:description/>
  <dc:language>en-US</dc:language>
  <cp:lastModifiedBy>1</cp:lastModifiedBy>
  <dcterms:modified xsi:type="dcterms:W3CDTF">2015-03-08T04:40:16Z</dcterms:modified>
  <cp:revision>48</cp:revision>
  <dc:subject/>
  <dc:title>Организация исследовательских проектов учащихся во внеурочное время в рамках предмета биологии  </dc:title>
</cp:coreProperties>
</file>