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chimes.wav" ContentType="audio/x-wav"/>
  <Override PartName="/ppt/media/image7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8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B5F9-0BFD-4C95-AEB1-DA77DB69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CE4E-C162-4053-9061-A516F5BB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151-27FA-458F-97E3-E594AF0C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597-9563-4EEC-9898-0A4027B3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28EE-977F-46D2-8FEB-2FBB43E3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E584-25A3-4C01-A3C2-9EBD32C7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CA29-1CB2-48C3-8210-66B50330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A7D4-2C80-4715-A8F4-6CDB3AF5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C2F4-0527-4810-96FE-04F0EA63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948D-8620-4E1A-82A6-5D90960C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B999-5969-4245-B1BF-884D0D7F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A42-D6E1-4A6E-AF24-0F2DCCBB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35C8-E2B5-4F16-AF24-58F82618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92E7-9C58-465D-8CAF-443F68AD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77C6-E052-475E-90C2-32C44B9D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A2FE-1034-4FF6-B76B-8F944615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BAB0-7673-4CDE-A6C7-F12CD2D3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F89-08FD-4729-9836-FBE7CC6B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E8CD-9659-4983-9534-47F5BB25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40E-ADBA-4745-9B39-D953988A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033F-4B79-4B00-A5C6-AC3B58B3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EE9-C1F5-4DE8-B389-E312914E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826-EE5E-48FD-AA04-02C700CA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D63-D1D1-48AE-A23A-23D16EAE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50000">
                  <a:srgbClr val="ffffff"/>
                </a:gs>
                <a:gs pos="100000">
                  <a:srgbClr val="fefa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e8c71"/>
                </a:gs>
                <a:gs pos="100000">
                  <a:srgbClr val="fefa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50000">
                  <a:srgbClr val="ffffff"/>
                </a:gs>
                <a:gs pos="100000">
                  <a:srgbClr val="fefa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4d2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44d2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6f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A594-9373-4663-BCE9-E9F7673B94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50000">
                  <a:srgbClr val="ffffff"/>
                </a:gs>
                <a:gs pos="100000">
                  <a:srgbClr val="fefa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e8c71"/>
                </a:gs>
                <a:gs pos="100000">
                  <a:srgbClr val="fefa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50000">
                  <a:srgbClr val="ffffff"/>
                </a:gs>
                <a:gs pos="100000">
                  <a:srgbClr val="fefa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4d2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44d2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6f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8215-D1D2-4D89-8905-08E30A10DF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ivdskur.to.kg/htm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Организация исследовательской деятельности  учащихся во внеурочное время в рамках предмета биологии </a:t>
            </a:r>
            <a:br>
              <a:rPr sz="5400"/>
            </a:b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5008680"/>
            <a:ext cx="64008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j0305257"/>
          <p:cNvPicPr/>
          <p:nvPr/>
        </p:nvPicPr>
        <p:blipFill>
          <a:blip r:embed="rId1"/>
          <a:stretch/>
        </p:blipFill>
        <p:spPr>
          <a:xfrm>
            <a:off x="1476360" y="3789360"/>
            <a:ext cx="2087640" cy="22604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Содержание проекта 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тавление   перечня  необходимых приборов и инструментов для проведения исследован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иобретение  недостающих приб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тавление примерных программ по выполнению исследован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 конференц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Анализ и оц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44d26"/>
                </a:solidFill>
                <a:latin typeface="Arial"/>
              </a:rPr>
              <a:t>Результаты проекта </a:t>
            </a:r>
            <a:endParaRPr b="1" lang="en-US" sz="5400" spc="-1" strike="noStrike">
              <a:solidFill>
                <a:srgbClr val="444d26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 rot="20832600">
            <a:off x="945720" y="2025720"/>
            <a:ext cx="3816360" cy="3168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 rot="841800">
            <a:off x="5428800" y="2571480"/>
            <a:ext cx="3218040" cy="21654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Информационные ресурсы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Авилова А.К. Позвоночные животные, изучение в школе- М. 1983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Журналы «Биология в школе», 2007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Мамонтов С.С. Захаров В.Б.,Козлова Т.Б. Основы биологии. М Просвещение  1992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Сонин Н.И. Биология 6 класс –М. Дрофа 2002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e58b6"/>
                </a:solidFill>
                <a:uFillTx/>
                <a:latin typeface="Times New Roman"/>
                <a:hlinkClick r:id="rId1"/>
              </a:rPr>
              <a:t>www.bivdskur.to.Kg/h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Автор  проекта 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биологии Кара-Хольской СОШ Монгуш А.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C:\Users\user\Pictures\SDC13592.JPG"/>
          <p:cNvPicPr/>
          <p:nvPr/>
        </p:nvPicPr>
        <p:blipFill>
          <a:blip r:embed="rId1"/>
          <a:stretch/>
        </p:blipFill>
        <p:spPr>
          <a:xfrm>
            <a:off x="3500280" y="3059280"/>
            <a:ext cx="4089600" cy="30668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Цель проекта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ова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ую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еятельность учащихся во внеурочное время в рамках предмета биологии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j0251301"/>
          <p:cNvPicPr/>
          <p:nvPr/>
        </p:nvPicPr>
        <p:blipFill>
          <a:blip r:embed="rId1"/>
          <a:stretch/>
        </p:blipFill>
        <p:spPr>
          <a:xfrm>
            <a:off x="7093080" y="692280"/>
            <a:ext cx="912600" cy="769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PA020022_240x180"/>
          <p:cNvPicPr/>
          <p:nvPr/>
        </p:nvPicPr>
        <p:blipFill>
          <a:blip r:embed="rId2"/>
          <a:stretch/>
        </p:blipFill>
        <p:spPr>
          <a:xfrm>
            <a:off x="5003640" y="3573360"/>
            <a:ext cx="3313440" cy="26640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Задачи 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Оснащение кабинета биологии  инструментами и лабораторными приборами для организации и проведения исследо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Составлять примерные программы по выполнению  исследо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Реализовать  прое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вести конференц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Анализировать результаты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j0299125"/>
          <p:cNvPicPr/>
          <p:nvPr/>
        </p:nvPicPr>
        <p:blipFill>
          <a:blip r:embed="rId1"/>
          <a:stretch/>
        </p:blipFill>
        <p:spPr>
          <a:xfrm>
            <a:off x="7500960" y="4643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4d26"/>
                </a:solidFill>
                <a:latin typeface="Arial"/>
              </a:rPr>
              <a:t>Основополагающие и проблемные вопросы </a:t>
            </a:r>
            <a:endParaRPr b="1" lang="en-US" sz="4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ополагающий воп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ая деятель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проводить исследования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оформить результаты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Какие самостоятельные исследования учащихся возможны </a:t>
            </a:r>
            <a:endParaRPr b="1" lang="en-US" sz="32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питаются пт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Изучение видового разнообраз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еком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животные живут в нашем лес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Влияние удобрений на рост картоф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Почему многие животные не умирают зим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Какие представители кошачьих обитают в наших лес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Гипотеза 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ий уровень организации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деятельности учащихся  и повышение  интереса к предмету би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j0286034"/>
          <p:cNvPicPr/>
          <p:nvPr/>
        </p:nvPicPr>
        <p:blipFill>
          <a:blip r:embed="rId1"/>
          <a:stretch/>
        </p:blipFill>
        <p:spPr>
          <a:xfrm>
            <a:off x="7093080" y="692280"/>
            <a:ext cx="919080" cy="885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j0090386"/>
          <p:cNvPicPr/>
          <p:nvPr/>
        </p:nvPicPr>
        <p:blipFill>
          <a:blip r:embed="rId2"/>
          <a:stretch/>
        </p:blipFill>
        <p:spPr>
          <a:xfrm>
            <a:off x="5508720" y="3645000"/>
            <a:ext cx="2698560" cy="23097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Предполагаемый результат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Для учителя – реализация проекта в результате которого можно достичь высокого уровня организаци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еятельности учащихся во внеурочное время в рамках предмета биолог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Для учащихся – качественное выполнение проектов и публикаций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j0292020"/>
          <p:cNvPicPr/>
          <p:nvPr/>
        </p:nvPicPr>
        <p:blipFill>
          <a:blip r:embed="rId1"/>
          <a:stretch/>
        </p:blipFill>
        <p:spPr>
          <a:xfrm>
            <a:off x="357120" y="442908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Актуальность 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стоящее время  в учебном плане снижены учебные нагрузки детей по биологии. И чтобы повысить качество образова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интерес учащихся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биологии учителю необходимо организовать  у учащихся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кую  исследовательску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ятель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7451640" y="5493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3:05:33Z</dcterms:created>
  <dc:creator>Гость</dc:creator>
  <dc:description/>
  <dc:language>en-US</dc:language>
  <cp:lastModifiedBy>1</cp:lastModifiedBy>
  <dcterms:modified xsi:type="dcterms:W3CDTF">2015-03-08T04:40:16Z</dcterms:modified>
  <cp:revision>48</cp:revision>
  <dc:subject/>
  <dc:title>Организация исследовательских проектов учащихся во внеурочное время в рамках предмета биологии  </dc:title>
</cp:coreProperties>
</file>