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687-1991-4F30-859F-C8D1E91456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821-2AC3-4A93-9E2D-F45F07CAF9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669-1D1F-4149-BD4E-F6A1E71F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099-F879-405A-A3A8-2675CC4B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712-B238-4EE3-AE2D-04694B28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C70-59AF-4C41-B3BF-9317D754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B048-4A66-4A18-8A05-07889D75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CDC-FA2E-44BF-8671-B414A24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B69-A1DD-4242-91B3-CE461874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888-0C93-4542-82C1-4A40546F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48BC-FE70-4E80-BF80-4F6877A6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68A2-6B07-4A15-8AA9-4EA9BD74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A81D-4D33-4448-B3CD-7796872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210-7308-4724-AF38-324BE40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6A21-FA08-4A53-B41B-F087CE0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DEDC-C451-4ACD-9FB9-682F813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3078-750A-45B6-8848-D48BBC5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211-1652-4049-8977-D681256B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FC94-9623-48FC-A539-2E645DF1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38D-CCA3-42B7-B448-17EEA2A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484-CB4B-4D84-A5C9-0C0CE43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7BE-6FF2-4392-880E-66A4267A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CDD-966D-47B7-BCBA-2C0DBAF6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DF2-07F0-45B5-98EA-2693FF1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9B0-CFB5-4168-A8D4-A6F6CE8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40F-C3B3-4A5B-BB4C-EEE5DAC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33cc33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33cc33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862-94AA-439E-8991-2D6BD16E2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33cc33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33cc3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33cc33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2B94-695F-4DBC-A0F2-02F5266BDA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orum.ufanet.ru/mvnforum/getattachment?attach=35174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29840" y="3886200"/>
            <a:ext cx="8713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т подготовили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ники 4 «Б»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«СОШ №7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мидуллин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на и Дани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вашкина Лариса Георгиевна 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WordArt 6" descr=""/>
          <p:cNvPicPr/>
          <p:nvPr/>
        </p:nvPicPr>
        <p:blipFill>
          <a:blip r:embed="rId1"/>
          <a:stretch/>
        </p:blipFill>
        <p:spPr>
          <a:xfrm>
            <a:off x="-19080" y="1981080"/>
            <a:ext cx="8609040" cy="28162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286000" y="2136600"/>
            <a:ext cx="250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4" descr=""/>
          <p:cNvPicPr/>
          <p:nvPr/>
        </p:nvPicPr>
        <p:blipFill>
          <a:blip r:embed="rId3"/>
          <a:stretch/>
        </p:blipFill>
        <p:spPr>
          <a:xfrm>
            <a:off x="6443640" y="62064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Users\Лариса\Desktop\гордск.пауки\ПППППАААААУУУККК\красивая паутина.jpg"/>
          <p:cNvPicPr/>
          <p:nvPr/>
        </p:nvPicPr>
        <p:blipFill>
          <a:blip r:embed="rId4"/>
          <a:stretch/>
        </p:blipFill>
        <p:spPr>
          <a:xfrm>
            <a:off x="2843280" y="3716280"/>
            <a:ext cx="208908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то такие пауки?</a:t>
            </a:r>
            <a:br>
              <a:rPr sz="3200"/>
            </a:br>
            <a:br>
              <a:rPr sz="3200"/>
            </a:br>
            <a:r>
              <a:rPr b="1" i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ауки — не насекомые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! Пауки относятся к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классу паукообразных животных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. Да, как ни странно покажется некоторым,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паук — это животное!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2" descr="C:\Users\Лариса\Desktop\о пауках фото\новые\05060207.jpg"/>
          <p:cNvPicPr/>
          <p:nvPr/>
        </p:nvPicPr>
        <p:blipFill>
          <a:blip r:embed="rId1"/>
          <a:stretch/>
        </p:blipFill>
        <p:spPr>
          <a:xfrm>
            <a:off x="611280" y="2997360"/>
            <a:ext cx="7561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250920" y="-11160"/>
            <a:ext cx="864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а обит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ауки живут всюду: в лесах, полях, степях, пустынях, в горах, низинах, пещерах, в тундрах, тайге, даже в воде. В лесу в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живут 300-350 мелких пау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C:\Users\Лариса\Desktop\о пауках фото\паук на капустной грядке.jpg"/>
          <p:cNvPicPr/>
          <p:nvPr/>
        </p:nvPicPr>
        <p:blipFill>
          <a:blip r:embed="rId1"/>
          <a:stretch/>
        </p:blipFill>
        <p:spPr>
          <a:xfrm>
            <a:off x="755640" y="242100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Лариса\Desktop\о пауках фото\паук глазки.jpg"/>
          <p:cNvPicPr/>
          <p:nvPr/>
        </p:nvPicPr>
        <p:blipFill>
          <a:blip r:embed="rId2"/>
          <a:stretch/>
        </p:blipFill>
        <p:spPr>
          <a:xfrm>
            <a:off x="4788000" y="2421000"/>
            <a:ext cx="3529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684360" y="2682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пауков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 flipV="1" rot="10800000">
            <a:off x="394920" y="716760"/>
            <a:ext cx="7993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еры пауков бывают разные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амые мел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0.1мм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амые круп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тропические птицееды – 11 см длиной, а длина их ног достигает 28 см. В основном пауки живут в течение 1 года. Дольше всех живут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тицееды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7-8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C:\Users\Лариса\Desktop\о пауках фото\новые\265px-Spiders_Diversity.jpg"/>
          <p:cNvPicPr/>
          <p:nvPr/>
        </p:nvPicPr>
        <p:blipFill>
          <a:blip r:embed="rId1"/>
          <a:stretch/>
        </p:blipFill>
        <p:spPr>
          <a:xfrm>
            <a:off x="1692360" y="2924280"/>
            <a:ext cx="4751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ук-землеко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ечается в Северо-Западной Европе. Величина паука 15 м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7" descr="Паук-землекоп Atypus piceus"/>
          <p:cNvPicPr/>
          <p:nvPr/>
        </p:nvPicPr>
        <p:blipFill>
          <a:blip r:embed="rId1"/>
          <a:stretch/>
        </p:blipFill>
        <p:spPr>
          <a:xfrm>
            <a:off x="1187280" y="1700280"/>
            <a:ext cx="65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ый большой паук в мире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– птицеед терафоза Блонда, размах ног может достигать 28 см, а длина туловища 5-11 см. </a:t>
            </a:r>
            <a:r>
              <a:rPr b="1" i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тицееды – это пауки-долгожители  (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7-8 лет )</a:t>
            </a: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7752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ук Черная Вдова.</a:t>
            </a:r>
            <a:br>
              <a:rPr sz="3200"/>
            </a:br>
            <a:r>
              <a:rPr b="1" i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аук Каракурт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опасен для животных и человека. Тело черное, брюшко самца с красными пятнышками. Самка этого паука съедает самца вскоре после свадьбы, из-за чего получила прозвище  </a:t>
            </a:r>
            <a:r>
              <a:rPr b="1" i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«Черная вдова»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7" descr="Картинка 27 из 2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133720"/>
            <a:ext cx="7201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аутина.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тина – это тончайшие  пластичные, тягучие ниточки. Нить паука в  шесть раз прочнее натурального шелка, нейлона – в четыре. Эти уникальные свойства паук использует в своей жизни в совершенно разных ситуациях. Наприм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тина защищает кладку яиц  от высыхания и покушающихся на нее хищ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тина – это прекрасные ловчие сети для ловли паучьих жер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один вид применения паутины в жизни пауков – для расселения молодых пауч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ин из способов применения паутины - сплетение «коврика» для линь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Особенности паутины.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от как плетется паутина: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5" descr="22"/>
          <p:cNvPicPr/>
          <p:nvPr/>
        </p:nvPicPr>
        <p:blipFill>
          <a:blip r:embed="rId1"/>
          <a:stretch/>
        </p:blipFill>
        <p:spPr>
          <a:xfrm>
            <a:off x="684360" y="1557360"/>
            <a:ext cx="784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троительство ловчей сети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и - гениальные архитекторы, зодчие. Сначала они натягив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сущие ни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оторые закрепляют между ветками или тропинками. Затем следу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базовые ни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оторые можно сравнить со спицами колеса. Потом плету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спомогательные ни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А завершают постройку клейки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хотничьи ни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5" descr="C:\Users\Лариса\Desktop\о пауках фото\новые\uEAh80U-dzKQlqfuZF8G.jpg"/>
          <p:cNvPicPr/>
          <p:nvPr/>
        </p:nvPicPr>
        <p:blipFill>
          <a:blip r:embed="rId1"/>
          <a:stretch/>
        </p:blipFill>
        <p:spPr>
          <a:xfrm>
            <a:off x="1042920" y="3733920"/>
            <a:ext cx="3457800" cy="2922480"/>
          </a:xfrm>
          <a:prstGeom prst="rect">
            <a:avLst/>
          </a:prstGeom>
          <a:ln w="0">
            <a:noFill/>
          </a:ln>
        </p:spPr>
      </p:pic>
      <p:pic>
        <p:nvPicPr>
          <p:cNvPr id="177" name="Объект 3" descr=""/>
          <p:cNvPicPr/>
          <p:nvPr/>
        </p:nvPicPr>
        <p:blipFill>
          <a:blip r:embed="rId2"/>
          <a:stretch/>
        </p:blipFill>
        <p:spPr>
          <a:xfrm>
            <a:off x="5292720" y="3726000"/>
            <a:ext cx="3527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ряжу» вырабатывают особые железы на брюшке паука. Её свойства не перестают удивлять ученых. Она эластичная и прочная и может выдержать больший вес, чем стальные нити такой же толщины. Упругость паутины просто невероятна. Учёные подсчитали, что нить, сплетённая из паучьего шёлка, толщиной с карандаш способна остановить летящий Боинг – 74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333000"/>
            <a:ext cx="77724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ВВЕДЕНИЕ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ЧЕМ ЖЕ ИНТЕРЕСНЫ ПАУКИ?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КУДА ПАУК БЕРЕТ СВОЮ ПАУТИНУ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52764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Лариса\Desktop\о пауках фото\новые\0_3a968_815c172a_XL.jpg"/>
          <p:cNvPicPr/>
          <p:nvPr/>
        </p:nvPicPr>
        <p:blipFill>
          <a:blip r:embed="rId2"/>
          <a:stretch/>
        </p:blipFill>
        <p:spPr>
          <a:xfrm>
            <a:off x="468360" y="378936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актическая часть.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блюдения и опыты с паутиной.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сследование строения паука.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000" y="1916280"/>
            <a:ext cx="3887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2" descr="1210066096_166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-588960"/>
            <a:ext cx="8172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4360" y="475920"/>
            <a:ext cx="79200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о паука состоит из двух частей. Первая часть - это головогрудь, она сделана из хитина. Вторая часть - мягкое брюшко. На головoгруди обычно расположены восемь глаз. Обычно у пауков 8 глаз, но некоторые виды не имеют ни одног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всех пауков в отличие от насекомых четыре, а не три пары ходильных но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Объект 5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4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сследование паутины на эластичность и тягучесть.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6" descr="pautina_unikalna_1"/>
          <p:cNvPicPr/>
          <p:nvPr/>
        </p:nvPicPr>
        <p:blipFill>
          <a:blip r:embed="rId1"/>
          <a:stretch/>
        </p:blipFill>
        <p:spPr>
          <a:xfrm>
            <a:off x="457200" y="1628640"/>
            <a:ext cx="4475160" cy="446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ьмем небольшой кусочек паутины паука-птицееда. Измерим длину -7 см, растянем ее и определяем, что паутина удлинилась почти в 2 раза, ее длина составила 11 см, при этом ее целостность не нарушена. Паутина, действительно, очень эластичная, прочная и тягуч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сследование паутины на липкость.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7" descr="i?id=584382798-43-72&amp;n=21"/>
          <p:cNvPicPr/>
          <p:nvPr/>
        </p:nvPicPr>
        <p:blipFill>
          <a:blip r:embed="rId1"/>
          <a:stretch/>
        </p:blipFill>
        <p:spPr>
          <a:xfrm>
            <a:off x="198360" y="1197000"/>
            <a:ext cx="374328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носим руку к кусочку паутины паука-птицееда, паутина прилипает к пальцам и отцепить ее очень трудно, т.к. она прилипает ко всему, чем пытаешься ее отцеп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Рисунок 4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41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сследование свойств паутины в воде.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большой кусочек паутины помещаем в воду. Паутина не растворилась. Паутина намокла, но не утонула, она как будто сжалас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ит паутина  обладает свойством суперконцентр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5" descr="C:\Users\Лариса\Desktop\о пауках фото\новые\техника стакан воды.jpg"/>
          <p:cNvPicPr/>
          <p:nvPr/>
        </p:nvPicPr>
        <p:blipFill>
          <a:blip r:embed="rId1"/>
          <a:stretch/>
        </p:blipFill>
        <p:spPr>
          <a:xfrm>
            <a:off x="755640" y="1844640"/>
            <a:ext cx="3600360" cy="432108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6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42721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аутина и огонь.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большой кусочек паутины подносим к пламени свечи. Паутина начинает плавиться, образуя на конце шарик. При нажатии шарик крошится, образуя пепел. При горении паутина издает неприятный запах, свойственный натуральным материалам (запах похож на запах горелого хлопк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C:\Users\Лариса\Desktop\о пауках фото\новые\109781579_7.jpg"/>
          <p:cNvPicPr/>
          <p:nvPr/>
        </p:nvPicPr>
        <p:blipFill>
          <a:blip r:embed="rId1"/>
          <a:stretch/>
        </p:blipFill>
        <p:spPr>
          <a:xfrm>
            <a:off x="4716360" y="1628640"/>
            <a:ext cx="3970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сследование паутины под микроскопом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Picture 6" descr="3GKKJjsSBjA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4176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435280" y="1600200"/>
            <a:ext cx="325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тина по своему строению напоминает вату.Значит, хорошо сохраняет тепл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пыты подтверждают, что такие свойства паутины придают ей огромное значение в жизни пауков.  Обеспечивая  пауков необходимым для жизни теплом и пищей.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5" descr="C:\Users\Лариса\Desktop\о пауках фото\новые\1326734912_2.jpg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46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Лариса\Desktop\о пауках фото\новые\images (1).jpg"/>
          <p:cNvPicPr/>
          <p:nvPr/>
        </p:nvPicPr>
        <p:blipFill>
          <a:blip r:embed="rId2"/>
          <a:stretch/>
        </p:blipFill>
        <p:spPr>
          <a:xfrm>
            <a:off x="4716360" y="2133720"/>
            <a:ext cx="3600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, в Новой Гвинее с помощью паучьих сетей люди ловят рыбу . Сделав рыболовную снасть, аналогичную сачку. Ее сетка – это паутина , за несколько дней сделанная крупным тропическим пауком.</a:t>
            </a: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C:\Users\Эльвира\Desktop\Даниил\img026.jpg"/>
          <p:cNvPicPr/>
          <p:nvPr/>
        </p:nvPicPr>
        <p:blipFill>
          <a:blip r:embed="rId1"/>
          <a:stretch/>
        </p:blipFill>
        <p:spPr>
          <a:xfrm>
            <a:off x="468360" y="2637000"/>
            <a:ext cx="3456000" cy="410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Эльвира\Desktop\Даниил\img025.jpg"/>
          <p:cNvPicPr/>
          <p:nvPr/>
        </p:nvPicPr>
        <p:blipFill>
          <a:blip r:embed="rId2"/>
          <a:stretch/>
        </p:blipFill>
        <p:spPr>
          <a:xfrm>
            <a:off x="5292720" y="263700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начение пауков в природе.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836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ируя численность насекомых, они служат для поддержания баланса нашей экологической системы. Подсчитано, что один паук, в среднем, потребляет 0,089 грамма насекомых в день. Немного? Но общий вес насекомых, которых за год съедают все живущие на Земле пауки больше совокупного веса всех живущих на ней людей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вуют в почвообразова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у и противные эти пауки!»- скажут многие. И будут не правы. А их находчивость?  А ловкость? А трудолюбие? Яд паука для нас (за редким исключением) не страшен, зато польза - несомненная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ришли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к выводу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пауки безобидные существа, и не стоит их бояться. В ходе работы узнали много нового для себя о жизни пауков, чем они питаются, каких видов бывают, какие паутины строят, какое важное значение паутина имеет в жизни паук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 нашем  исследовании предпринята попытка вкратце рассказать об      удивительных созданиях природы – пауках, о том, как образуют они свою паутину и для чего она им нужна, выяснить какую пользу или вред приносят пауки человеку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блема: Для чего нужна паутина паукам, как образовывается паутина. 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Гипотеза исследования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если бы пауки не образовывали паутину, то это привело бы к изменению их жизнедеятельности, предполагаем что структура паутины, шелковистая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Цель проекта: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узнать роль паутины в жизни пауков: как она образуется и для чего служит, какую пользу или вред приносят человеку пауки.</a:t>
            </a:r>
            <a:br>
              <a:rPr sz="4000"/>
            </a:br>
            <a:br>
              <a:rPr sz="5400"/>
            </a:b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чи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учить  различную литературу по теме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познакомиться  с многообразием пауков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выяснить  значение паутины в жизни   пауков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провести  практическую  работу, направленную на исследование свойств паутин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Объект исследования: пауки.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argiope"/>
          <p:cNvPicPr/>
          <p:nvPr/>
        </p:nvPicPr>
        <p:blipFill>
          <a:blip r:embed="rId1"/>
          <a:stretch/>
        </p:blipFill>
        <p:spPr>
          <a:xfrm>
            <a:off x="6804000" y="234936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Объект 4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124000" cy="180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G:\о пауках фото\новые\i.jpg"/>
          <p:cNvPicPr/>
          <p:nvPr/>
        </p:nvPicPr>
        <p:blipFill>
          <a:blip r:embed="rId3"/>
          <a:stretch/>
        </p:blipFill>
        <p:spPr>
          <a:xfrm>
            <a:off x="395280" y="4653000"/>
            <a:ext cx="2016000" cy="1801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"/>
          <p:cNvPicPr/>
          <p:nvPr/>
        </p:nvPicPr>
        <p:blipFill>
          <a:blip r:embed="rId4"/>
          <a:stretch/>
        </p:blipFill>
        <p:spPr>
          <a:xfrm>
            <a:off x="3059280" y="400536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0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Предмет исследования: паутина, виды нитей.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3348000" y="2421000"/>
            <a:ext cx="54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Методы исследования: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бор материала по теме, его анализ и обработка, оформление работы, проведение опытов, создание презентации.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Выход продукта проекта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оформление стенгазеты, проведение классных часов для младших школьников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Лариса</cp:lastModifiedBy>
  <dcterms:modified xsi:type="dcterms:W3CDTF">2015-02-21T18:28:09Z</dcterms:modified>
  <cp:revision>210</cp:revision>
  <dc:subject/>
  <dc:title>Презентация на тему разнообразие пауков</dc:title>
</cp:coreProperties>
</file>