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425-509B-4D5E-86D1-1605F8B6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03A-6674-4699-815C-283A21C9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AD1-4178-4B70-9332-B1668185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8BE-97E3-4371-BC9E-AAD669DA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917-A627-4CB3-B6B5-8F0A114F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016-3E37-4EDB-9B66-EB563BD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11C-8CF1-4C74-BCFD-E4D6CB6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65E-5191-439C-94A9-433966CB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FDB-C265-4933-BBA0-DC0E8C58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01B-1F6E-4785-AD1E-9C0A7D3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30D-436D-40AA-8E8B-9CCC63F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1BD-6F0F-4B9C-BC6C-E3F2072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123-6B56-4BCB-BC6B-86C4D562B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29920" y="2114640"/>
            <a:ext cx="700236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9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 Black"/>
              </a:rPr>
              <a:t>Лексическая тема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62673"/>
                </a:solidFill>
                <a:latin typeface="Arial Black"/>
              </a:rPr>
              <a:t>«ПТИЦ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695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5060880" y="3986280"/>
            <a:ext cx="4100760" cy="287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0" y="-31680"/>
            <a:ext cx="320364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79280" y="333360"/>
            <a:ext cx="85359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60280" y="333360"/>
            <a:ext cx="87264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8760" y="404640"/>
            <a:ext cx="87343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4250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425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aleksey postika</cp:lastModifiedBy>
  <dcterms:modified xsi:type="dcterms:W3CDTF">2014-03-31T17:05:34Z</dcterms:modified>
  <cp:revision>32</cp:revision>
  <dc:subject/>
  <dc:title>Шаблон для презентации</dc:title>
</cp:coreProperties>
</file>