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C65-0BAB-4AA4-9648-2EB5368D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800-F997-48E2-ACFC-097FEB2C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90C-684F-459E-BFCC-41BED2EA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F53-20FF-4B9A-BCAA-FD5EDAA1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E20-C317-4650-83EC-FBCE36AC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A2C-E5E2-49A5-9185-838ABF25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8EE-C2A7-481B-AC95-0FDBECE9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5F1-B53E-4B84-B5BE-8F152F71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6F0-305F-4B3B-8954-865ED30B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8C7-D3D3-4F7E-8D42-D0CF0A4B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231-7A3F-45C6-AA67-F5B6D752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BD0-246C-4218-80DB-3FAB1CEB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30D0-6E3E-4B9B-A2EC-B6148DEC18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3564000" y="4581360"/>
            <a:ext cx="236376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6300720" y="666900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2411280" y="2060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1187280" y="1268280"/>
            <a:ext cx="66614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Comic Sans MS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Comic Sans MS"/>
              </a:rPr>
              <a:t>по математике 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Табличное сложение и вычитание в пределах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3 –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1763640" y="1844640"/>
            <a:ext cx="165600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5219640" y="3068640"/>
            <a:ext cx="165744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4140360" y="4365720"/>
            <a:ext cx="160020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3924360" y="1916280"/>
            <a:ext cx="171144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9079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6+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5508720" y="3213000"/>
            <a:ext cx="163980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3564000" y="4221000"/>
            <a:ext cx="162540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5"/>
          <p:cNvSpPr/>
          <p:nvPr/>
        </p:nvSpPr>
        <p:spPr>
          <a:xfrm>
            <a:off x="2484360" y="2781360"/>
            <a:ext cx="149724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4643280" y="1916280"/>
            <a:ext cx="158436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800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7+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3492360" y="1700280"/>
            <a:ext cx="1503360" cy="1001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5148360" y="3933720"/>
            <a:ext cx="151128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5148360" y="2852640"/>
            <a:ext cx="148104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3492360" y="2852640"/>
            <a:ext cx="1497240" cy="927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8+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2987640" y="2565360"/>
            <a:ext cx="1576440" cy="928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4067280" y="3500280"/>
            <a:ext cx="1584360" cy="1063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5"/>
          <p:cNvSpPr/>
          <p:nvPr/>
        </p:nvSpPr>
        <p:spPr>
          <a:xfrm>
            <a:off x="5219640" y="4581360"/>
            <a:ext cx="1623960" cy="992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1908000" y="1557360"/>
            <a:ext cx="151308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4 – 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5724360" y="2924280"/>
            <a:ext cx="1511640" cy="100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2340000" y="270828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5"/>
          <p:cNvSpPr/>
          <p:nvPr/>
        </p:nvSpPr>
        <p:spPr>
          <a:xfrm>
            <a:off x="3924360" y="3860640"/>
            <a:ext cx="165564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"/>
          <p:cNvSpPr/>
          <p:nvPr/>
        </p:nvSpPr>
        <p:spPr>
          <a:xfrm>
            <a:off x="4067280" y="1773360"/>
            <a:ext cx="1655640" cy="998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5 – 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3203640" y="3213000"/>
            <a:ext cx="1657440" cy="107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4"/>
          <p:cNvSpPr/>
          <p:nvPr/>
        </p:nvSpPr>
        <p:spPr>
          <a:xfrm>
            <a:off x="4859280" y="44370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5"/>
          <p:cNvSpPr/>
          <p:nvPr/>
        </p:nvSpPr>
        <p:spPr>
          <a:xfrm>
            <a:off x="4932360" y="2205000"/>
            <a:ext cx="162396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2268360" y="1916280"/>
            <a:ext cx="1568520" cy="998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9079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7+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кругленный прямоугольник 3"/>
          <p:cNvSpPr/>
          <p:nvPr/>
        </p:nvSpPr>
        <p:spPr>
          <a:xfrm>
            <a:off x="4356000" y="3573360"/>
            <a:ext cx="1368360" cy="854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4"/>
          <p:cNvSpPr/>
          <p:nvPr/>
        </p:nvSpPr>
        <p:spPr>
          <a:xfrm>
            <a:off x="3059280" y="2637000"/>
            <a:ext cx="1409400" cy="847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5435640" y="4581360"/>
            <a:ext cx="1423800" cy="854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1979640" y="1773360"/>
            <a:ext cx="1368360" cy="782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7 – 8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5219640" y="2637000"/>
            <a:ext cx="156996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2124000" y="2637000"/>
            <a:ext cx="1554120" cy="920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3635280" y="1700280"/>
            <a:ext cx="1497240" cy="853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3635280" y="3573360"/>
            <a:ext cx="1568520" cy="927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8+8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кругленный прямоугольник 3"/>
          <p:cNvSpPr/>
          <p:nvPr/>
        </p:nvSpPr>
        <p:spPr>
          <a:xfrm>
            <a:off x="3492360" y="2637000"/>
            <a:ext cx="144000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4"/>
          <p:cNvSpPr/>
          <p:nvPr/>
        </p:nvSpPr>
        <p:spPr>
          <a:xfrm>
            <a:off x="2195640" y="1773360"/>
            <a:ext cx="1352520" cy="853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5"/>
          <p:cNvSpPr/>
          <p:nvPr/>
        </p:nvSpPr>
        <p:spPr>
          <a:xfrm>
            <a:off x="3348000" y="4365720"/>
            <a:ext cx="149544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4859280" y="3500280"/>
            <a:ext cx="15130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3"/>
          <p:cNvSpPr/>
          <p:nvPr/>
        </p:nvSpPr>
        <p:spPr>
          <a:xfrm>
            <a:off x="1692360" y="1557360"/>
            <a:ext cx="1512720" cy="928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4"/>
          <p:cNvSpPr/>
          <p:nvPr/>
        </p:nvSpPr>
        <p:spPr>
          <a:xfrm>
            <a:off x="2700360" y="2492280"/>
            <a:ext cx="148104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4859280" y="4508640"/>
            <a:ext cx="15271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одержимое 2"/>
          <p:cNvSpPr/>
          <p:nvPr/>
        </p:nvSpPr>
        <p:spPr>
          <a:xfrm>
            <a:off x="0" y="836640"/>
            <a:ext cx="82296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1 –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5"/>
          <p:cNvSpPr/>
          <p:nvPr/>
        </p:nvSpPr>
        <p:spPr>
          <a:xfrm>
            <a:off x="3708360" y="3500280"/>
            <a:ext cx="158436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8920" y="170028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рно: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шибки: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3059280" y="4724280"/>
            <a:ext cx="4776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  <a:ea typeface="Arial"/>
              </a:rPr>
              <a:t>Время: 1 мин. 1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4284720" y="6165720"/>
            <a:ext cx="1909800" cy="520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 hidden="1"/>
          <p:cNvSpPr/>
          <p:nvPr/>
        </p:nvSpPr>
        <p:spPr>
          <a:xfrm>
            <a:off x="4284720" y="5445000"/>
            <a:ext cx="1909800" cy="65736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372360" y="658656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161400" y="652140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Для выхода – нажмите </a:t>
            </a: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E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2 – 7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Скругленный прямоугольник 3"/>
          <p:cNvSpPr/>
          <p:nvPr/>
        </p:nvSpPr>
        <p:spPr>
          <a:xfrm>
            <a:off x="5508720" y="3789360"/>
            <a:ext cx="151272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4211640" y="2133720"/>
            <a:ext cx="15541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5"/>
          <p:cNvSpPr/>
          <p:nvPr/>
        </p:nvSpPr>
        <p:spPr>
          <a:xfrm>
            <a:off x="2268360" y="2133720"/>
            <a:ext cx="155268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5"/>
          <p:cNvSpPr/>
          <p:nvPr/>
        </p:nvSpPr>
        <p:spPr>
          <a:xfrm>
            <a:off x="3708360" y="3789360"/>
            <a:ext cx="149544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7928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8+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3"/>
          <p:cNvSpPr/>
          <p:nvPr/>
        </p:nvSpPr>
        <p:spPr>
          <a:xfrm>
            <a:off x="3564000" y="3357720"/>
            <a:ext cx="136836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4"/>
          <p:cNvSpPr/>
          <p:nvPr/>
        </p:nvSpPr>
        <p:spPr>
          <a:xfrm>
            <a:off x="3564000" y="2421000"/>
            <a:ext cx="1336680" cy="920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3564000" y="4292640"/>
            <a:ext cx="1368360" cy="847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3564000" y="1628640"/>
            <a:ext cx="1351080" cy="782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-25236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3 –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Скругленный прямоугольник 3"/>
          <p:cNvSpPr/>
          <p:nvPr/>
        </p:nvSpPr>
        <p:spPr>
          <a:xfrm>
            <a:off x="4859280" y="4437000"/>
            <a:ext cx="156852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4"/>
          <p:cNvSpPr/>
          <p:nvPr/>
        </p:nvSpPr>
        <p:spPr>
          <a:xfrm>
            <a:off x="2771640" y="2492280"/>
            <a:ext cx="144144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5"/>
          <p:cNvSpPr/>
          <p:nvPr/>
        </p:nvSpPr>
        <p:spPr>
          <a:xfrm>
            <a:off x="1763640" y="1557360"/>
            <a:ext cx="144000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3708360" y="3429000"/>
            <a:ext cx="15112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4000" y="1052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9+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3851280" y="3500280"/>
            <a:ext cx="144144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1908000" y="2133720"/>
            <a:ext cx="144000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3780000" y="2133720"/>
            <a:ext cx="143964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5508720" y="2133720"/>
            <a:ext cx="151128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1052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1 –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5508720" y="2997360"/>
            <a:ext cx="1657080" cy="93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1908000" y="1989000"/>
            <a:ext cx="151164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4427640" y="4005360"/>
            <a:ext cx="165708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5"/>
          <p:cNvSpPr/>
          <p:nvPr/>
        </p:nvSpPr>
        <p:spPr>
          <a:xfrm>
            <a:off x="313200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9280" y="981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6+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4500720" y="184464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4"/>
          <p:cNvSpPr/>
          <p:nvPr/>
        </p:nvSpPr>
        <p:spPr>
          <a:xfrm>
            <a:off x="2987640" y="321300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5"/>
          <p:cNvSpPr/>
          <p:nvPr/>
        </p:nvSpPr>
        <p:spPr>
          <a:xfrm>
            <a:off x="1835280" y="1844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5292720" y="3933720"/>
            <a:ext cx="1655640" cy="935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5 –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3059280" y="2637000"/>
            <a:ext cx="158400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4"/>
          <p:cNvSpPr/>
          <p:nvPr/>
        </p:nvSpPr>
        <p:spPr>
          <a:xfrm>
            <a:off x="1763640" y="1773360"/>
            <a:ext cx="1584360" cy="847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5"/>
          <p:cNvSpPr/>
          <p:nvPr/>
        </p:nvSpPr>
        <p:spPr>
          <a:xfrm>
            <a:off x="4211640" y="3573360"/>
            <a:ext cx="1657440" cy="91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5508720" y="4508640"/>
            <a:ext cx="1495440" cy="855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9+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3"/>
          <p:cNvSpPr/>
          <p:nvPr/>
        </p:nvSpPr>
        <p:spPr>
          <a:xfrm>
            <a:off x="3132000" y="3429000"/>
            <a:ext cx="1640160" cy="107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4"/>
          <p:cNvSpPr/>
          <p:nvPr/>
        </p:nvSpPr>
        <p:spPr>
          <a:xfrm>
            <a:off x="2124000" y="1773360"/>
            <a:ext cx="1656000" cy="998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5"/>
          <p:cNvSpPr/>
          <p:nvPr/>
        </p:nvSpPr>
        <p:spPr>
          <a:xfrm>
            <a:off x="4859280" y="2133720"/>
            <a:ext cx="1657440" cy="1069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5"/>
          <p:cNvSpPr/>
          <p:nvPr/>
        </p:nvSpPr>
        <p:spPr>
          <a:xfrm>
            <a:off x="5508720" y="4076640"/>
            <a:ext cx="1655640" cy="107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2 –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3"/>
          <p:cNvSpPr/>
          <p:nvPr/>
        </p:nvSpPr>
        <p:spPr>
          <a:xfrm>
            <a:off x="3276720" y="2421000"/>
            <a:ext cx="16570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"/>
          <p:cNvSpPr/>
          <p:nvPr/>
        </p:nvSpPr>
        <p:spPr>
          <a:xfrm>
            <a:off x="3419640" y="4221000"/>
            <a:ext cx="155412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5"/>
          <p:cNvSpPr/>
          <p:nvPr/>
        </p:nvSpPr>
        <p:spPr>
          <a:xfrm>
            <a:off x="4932360" y="3284640"/>
            <a:ext cx="15271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5"/>
          <p:cNvSpPr/>
          <p:nvPr/>
        </p:nvSpPr>
        <p:spPr>
          <a:xfrm>
            <a:off x="1763640" y="1628640"/>
            <a:ext cx="1513080" cy="927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9079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4+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3"/>
          <p:cNvSpPr/>
          <p:nvPr/>
        </p:nvSpPr>
        <p:spPr>
          <a:xfrm>
            <a:off x="5292720" y="4653000"/>
            <a:ext cx="15112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1835280" y="1700280"/>
            <a:ext cx="165564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4067280" y="3645000"/>
            <a:ext cx="15523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5"/>
          <p:cNvSpPr/>
          <p:nvPr/>
        </p:nvSpPr>
        <p:spPr>
          <a:xfrm>
            <a:off x="2843280" y="2637000"/>
            <a:ext cx="158436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1</cp:lastModifiedBy>
  <dcterms:modified xsi:type="dcterms:W3CDTF">2015-03-06T20:11:14Z</dcterms:modified>
  <cp:revision>720</cp:revision>
  <dc:subject/>
  <dc:title>Слайд 1</dc:title>
</cp:coreProperties>
</file>