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1F3F-9D38-4EBE-A35D-7511ECD686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8DE1-DCD1-4FA9-AEA5-1EE3F950A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C59-E151-457C-A670-C5F22243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140-B913-4BA5-8F37-FFB72C69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4AAAE-FC3D-4E70-89C9-AD318131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077F1-1161-4796-BD15-22D6F47E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C3381-E63C-47E9-ABB7-C7BA9112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D8D75-5DB6-4396-BB3B-D3090362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29FF1-BB19-40D5-BAAF-A062AA77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1B6B9-BBAD-41D2-AC1D-5A5C4AD0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7D99F-DB39-4184-AAAA-5B5543EA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AA220-2D1A-4189-BF22-46032816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792C6-8721-4886-AE0B-9B996193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3221B-B50A-4298-9D45-A5872D1E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895-99FF-41D1-85A6-5F2AAB10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318F7-7CF7-4A88-A010-90FFE752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F9FFA-821C-4008-AE9A-ECA3AD85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BDAFE-495A-44E7-83C8-B4CEF6D1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640C4-8BD3-4E34-9F33-D55F9C84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3E1D5-51CE-4B12-AEF9-8ABF7CCE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303BC-0A89-40D7-8DED-61781B62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F62F6-F7A8-4C2D-82F2-8D8B366E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574A4-733C-4195-B21C-F22A5EB7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14A97-6B48-4DAE-9306-7E779867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0D5DA-F15F-4B18-AD16-DD294BF0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CBE-5261-4B4D-BD85-44D831E0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954D3-24A3-4944-86EE-A21C50C1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E8072-087A-4498-BB42-2DE9C533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EE21C-0504-4DA4-B768-57E12AA2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98708-BF96-4840-83F2-FF47F4AD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75A04-121F-4E49-82C8-D267FAC6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4C631-436C-4BCB-AB6D-183132D2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1959C-555B-4E6C-A83C-1A55F4EF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8A918-0DCC-48D6-BA5F-214951DD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EBE3A-D026-4CB3-83A3-B9A16997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D7B31-D2BB-4276-B62D-F18E64EC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80CD-35C9-46C7-BFFE-3791990D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684F9-1564-441D-8518-19B28801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DC244-4BE4-454D-A817-D343BD12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4D41B-DFF2-4151-BAAF-E8EA7668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818DC-C053-4889-954D-2959E514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9F9F9-3E8B-4A57-BA1A-3AEB448B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C3969-D43A-42CF-A9F3-90DAADCE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FDCBB-74E6-4620-B2C5-1791B185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D6B6A-78AA-4236-A408-3B73702D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9E6E6-FCB0-4658-9E48-53EA6CC0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E3473-9572-444A-86F7-9940C6E3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9F4C-26FA-4FB9-8088-1DD8CA87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9B7DD-6AA0-4F03-BDC4-18FDEE3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FAAEC-EB16-4B50-8306-4EF324B5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1422E-B13D-4824-87BB-6B4B3D66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7BA4F-24A7-4499-A61B-C836B03F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5829A-7B49-479E-96EB-A87B43A3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40E76-6BF7-43E2-9AD4-300E7DEE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2C501-445D-4E61-A4F5-CF88DB9C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A43EA-2A86-43A2-ACA0-05262916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471B0-6701-4444-86A8-C6E5289E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924E4-D7D9-47F6-804B-6E01A06C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E2A6-14CC-4D04-9F52-26E59545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67610-9910-4175-85D4-3E39815B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6A0A1-5AFB-49F2-9814-20CC28A7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8F34F-7095-4CD9-84BE-87877450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045CC-E768-4827-8C81-096302D1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3BCE2-C070-41F0-9EE2-B398FC6C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0F7D7-0875-4D25-874B-D9DDAE19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AC726-B567-486A-9E76-87F7FDD8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DA4F-AF3D-4954-979E-0325A1E6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F339-8291-4E05-A6CD-6D8FD0D7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6B55-EEA4-40B0-8A59-0B0B82B6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3668-1D8D-41E9-BDB0-D3AC2C4C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AE9-25AC-4CC8-960F-BDDCFE15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6AF9-29F4-4255-8D9B-23F9257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F491-C0E6-4619-B0CB-AD010E4E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6224-BED6-44AC-8634-746F4EB2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527D-DAE1-418F-8E90-4AA764BA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7D90-124D-4E85-AF0E-D446E45B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3A92-69C4-4C6B-8F9D-CD9B2192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33D4-DE60-4D70-ACCD-25D239A2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1B913-E87A-460E-9A42-F964E833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22ED5-CC7B-4062-A078-52E311E1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89313-9834-4439-B90F-E346721B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D63-527B-4A72-A30D-93341E59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A0EB1-D619-4124-A5CC-8E0969FE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F532-52A2-4C5A-823E-E241B4D4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B32E-5742-4CE3-8545-7756681D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933C-B6A3-4A3F-9D79-77196AAF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4A3D-7FDC-443B-9323-C9E9D0D3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74DA-F529-4EF3-A498-08D5B8DF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C89C-232B-481D-910D-D3A738AE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9369-8417-45DD-B6ED-93F69CDB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5BFA7-8FC2-468C-B47B-89A8571B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7DFFF-F5B3-488D-8A6A-44F12525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E9C-45F2-4F31-8961-914BEE00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A7A3A-1B72-4762-86C7-4E80230E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1FD1D-DC4B-4242-9DE4-88690418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3E0C4-F089-42EB-A07D-56F97415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65341-E3C4-4FC1-9B01-01652E1F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4E683-E689-443A-81A4-3062C7FA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AFDCD-0474-41C8-AF1C-6EF128AE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F325A-5E37-4C01-98E5-CA6DB67B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FF4A-66CF-4CC6-AAEE-CD1C9564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3FD5-7B04-4DCC-AE18-AD81FF6C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DFF3-903E-4897-9894-4F273840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E9A-4C08-412D-B7AA-50296B7B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DCE1-BF47-4F1A-9CBF-616F393D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5F3F-CCA7-40EB-8194-EE0A0EE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0DD2A-E20D-4E21-B858-F6971291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1D3D3-0F1C-442E-8281-DDB762D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8554-34BC-452A-A72E-E15CDEA7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5966C-045E-471B-B68A-4750C8E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D79E3-7D40-453D-B463-797A8F2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7AB28-EDD2-41C9-A4D6-C40EFC02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290D-4AAC-4DA8-A9BF-106F0FD7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2001A-5F66-4004-AC6F-26EFF8CF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D23-027A-4675-ADF0-AB1DE529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047F7-0D65-4F68-B5AF-5E24DA60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C0E4D-A368-4931-AC92-CD44C8C0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EF8DB-E104-477A-8FD8-58404395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F31D6-26AD-457F-8954-838DA484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C3655-DAEC-4621-B330-153D9103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E41DD-725F-422C-A61B-DAE7386F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D210F-503E-453D-A857-65C54EA2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A71D9-9CB8-44AA-94AC-BB7F3A33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EA383-7653-4E63-B358-185066C1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E9347-84CE-4C29-8353-7E35DE39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02D-6EE3-4F9A-B02D-58383E1B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E7CE0-4035-4137-8F2C-90301CF4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2FC6B-7DAE-4870-A5D9-D593DAEA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427B3-7F18-47E9-8854-5CD826ED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8B66A-7D34-460F-840E-498BEB32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AE82F-D4C9-4BF2-B655-8EEAAD06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C3E1A-FB03-4462-8C0E-AD925C42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05296-3C1F-4565-97B6-987BE1F9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A9D0E-E0EA-4A9F-AA9A-E0660455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E657-B3D0-41F5-A0E3-1CAC708C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01D03-A112-4B8B-9DC9-C068A71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EE1-9ABC-4762-AF73-F64CBD61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9598E-A640-4072-A429-61C336C7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3EC00-8BD5-4D08-B35C-B85CF89C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987F4-2CA9-4374-B778-D9C5C9B1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87748-E5AA-4346-B6EE-5AB5E2FE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8935E-3865-49EB-93BC-62C9BDBE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3D50B-F9DD-426C-8E64-2FF41FD1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B7093-E89E-48E0-B38C-A1B6F3D0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F264-57C8-4082-9E03-7294935B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95B21-F2FD-4E10-8E47-B1086AE1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6F488-5465-4810-9D09-74B25747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32A-C3CC-48D1-BC74-CD66D6D4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FFA6D-F831-4378-B1D6-4E9B28F9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2869F-A338-4B13-937F-5683CDD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D1B5F-947E-4F8B-B068-501BB8E9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B11E3-98AE-42F6-99F1-1F8AB7A1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ECCA8-AFE5-45DE-80C6-90AFABF9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2962A-90A3-4C0F-98DF-B1ED915E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FBAA4-2410-40CB-BCD3-01408CE4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D7DAD-0418-4F91-8C27-0816BB86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612A0-AA09-453B-896C-3D26ED07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0D757-E6E7-48A2-B833-77C18DFE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F0C7-0961-4A1E-80F9-639FA6097B1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9A32-EA64-490E-9396-0F96EE5B02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C4E2-DD5D-434A-BCBE-B6EEE1583F5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F15-C61D-40C3-9E21-5D40D9B56D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57F8-500E-4A12-808E-466C0EADE04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528D-7DD4-474C-AD5A-8DF01AA4A6A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1148-5261-4F1A-97D0-BE0C341C7DE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A45D-ECF1-46D0-9355-4F9F8FC4E2A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CB2F-C34D-49E2-B9F7-2A841239C03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86DC-C554-4FC3-B889-682C3C28A26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DE2C-44E9-4407-AEE9-A64F68F0C40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C6DE-7BF4-4A6B-8D7A-C6D12B2BAB0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D2AF-8A80-4E68-8BD5-6F65976DBFF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610920" y="290052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ОСТРОЕНИЕ ГРАФИКА ФУНКЦИ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F(X+L) + M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ЕСЛИ ИЗВЕСТЕН ГРАФИК ФУНКЦИИ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F(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Номер слайда 1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2B1E-D809-4E91-B810-07AF5371CECA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2771640" y="333000"/>
            <a:ext cx="3600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Тренажер по алгебре</a:t>
            </a:r>
            <a:br>
              <a:rPr sz="1400"/>
            </a:b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8 класс.</a:t>
            </a:r>
            <a:endParaRPr b="0" lang="en-US" sz="1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3081240" y="5661000"/>
            <a:ext cx="352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d3f37"/>
                </a:solidFill>
                <a:latin typeface="Times New Roman"/>
              </a:rPr>
              <a:t>МОУ «Бурашевская СОШ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d3f37"/>
                </a:solidFill>
                <a:latin typeface="Times New Roman"/>
              </a:rPr>
              <a:t>Тверская обл., Калининский р-н, с.Бураш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d3f37"/>
                </a:solidFill>
                <a:latin typeface="Times New Roman"/>
              </a:rPr>
              <a:t>Сост.: Карпова Т.С., учитель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10"/>
          <p:cNvSpPr/>
          <p:nvPr/>
        </p:nvSpPr>
        <p:spPr>
          <a:xfrm>
            <a:off x="6309720" y="4095720"/>
            <a:ext cx="26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= 2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l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-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m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. Выберите функцию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=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(x+l)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и заданной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=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(x)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и коэффициентах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25"/>
              <p:cNvSpPr txBox="1"/>
              <p:nvPr/>
            </p:nvSpPr>
            <p:spPr>
              <a:xfrm>
                <a:off x="6804000" y="2322360"/>
                <a:ext cx="64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69"/>
              <p:cNvSpPr txBox="1"/>
              <p:nvPr/>
            </p:nvSpPr>
            <p:spPr>
              <a:xfrm>
                <a:off x="3924360" y="2295360"/>
                <a:ext cx="6858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52AA-982C-49B9-BD60-37AB36C420DB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621000" y="1857240"/>
            <a:ext cx="22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= x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l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-2, m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24040" y="1851120"/>
            <a:ext cx="23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=     , l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, m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6458760" y="1863720"/>
            <a:ext cx="225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=     , l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m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539640" y="41608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= |x| , l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m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13240" y="415440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= -x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l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, m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1"/>
              <p:cNvSpPr txBox="1"/>
              <p:nvPr/>
            </p:nvSpPr>
            <p:spPr>
              <a:xfrm>
                <a:off x="4356000" y="1792440"/>
                <a:ext cx="219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3"/>
              <p:cNvSpPr txBox="1"/>
              <p:nvPr/>
            </p:nvSpPr>
            <p:spPr>
              <a:xfrm>
                <a:off x="7236000" y="1863720"/>
                <a:ext cx="358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0" name="Text Box 66"/>
          <p:cNvSpPr/>
          <p:nvPr/>
        </p:nvSpPr>
        <p:spPr>
          <a:xfrm>
            <a:off x="834840" y="23209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2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67"/>
          <p:cNvSpPr/>
          <p:nvPr/>
        </p:nvSpPr>
        <p:spPr>
          <a:xfrm>
            <a:off x="839520" y="280368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2 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8"/>
          <p:cNvSpPr/>
          <p:nvPr/>
        </p:nvSpPr>
        <p:spPr>
          <a:xfrm>
            <a:off x="826920" y="33066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+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Object 71"/>
              <p:cNvSpPr txBox="1"/>
              <p:nvPr/>
            </p:nvSpPr>
            <p:spPr>
              <a:xfrm>
                <a:off x="3851280" y="2798640"/>
                <a:ext cx="1179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72"/>
              <p:cNvSpPr txBox="1"/>
              <p:nvPr/>
            </p:nvSpPr>
            <p:spPr>
              <a:xfrm>
                <a:off x="3851280" y="3303720"/>
                <a:ext cx="1179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74"/>
              <p:cNvSpPr txBox="1"/>
              <p:nvPr/>
            </p:nvSpPr>
            <p:spPr>
              <a:xfrm>
                <a:off x="6775560" y="2781360"/>
                <a:ext cx="820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75"/>
              <p:cNvSpPr txBox="1"/>
              <p:nvPr/>
            </p:nvSpPr>
            <p:spPr>
              <a:xfrm>
                <a:off x="6804000" y="3297240"/>
                <a:ext cx="792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76"/>
              <p:cNvSpPr txBox="1"/>
              <p:nvPr/>
            </p:nvSpPr>
            <p:spPr>
              <a:xfrm>
                <a:off x="7308720" y="4095720"/>
                <a:ext cx="360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8" name="Text Box 78"/>
          <p:cNvSpPr/>
          <p:nvPr/>
        </p:nvSpPr>
        <p:spPr>
          <a:xfrm>
            <a:off x="828360" y="46022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x|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79"/>
          <p:cNvSpPr/>
          <p:nvPr/>
        </p:nvSpPr>
        <p:spPr>
          <a:xfrm>
            <a:off x="828720" y="502596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x-1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80"/>
          <p:cNvSpPr/>
          <p:nvPr/>
        </p:nvSpPr>
        <p:spPr>
          <a:xfrm>
            <a:off x="828360" y="55292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x+1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83"/>
          <p:cNvSpPr/>
          <p:nvPr/>
        </p:nvSpPr>
        <p:spPr>
          <a:xfrm>
            <a:off x="3855960" y="46022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(x-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85"/>
          <p:cNvSpPr/>
          <p:nvPr/>
        </p:nvSpPr>
        <p:spPr>
          <a:xfrm>
            <a:off x="3855240" y="5032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(x+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6"/>
          <p:cNvSpPr/>
          <p:nvPr/>
        </p:nvSpPr>
        <p:spPr>
          <a:xfrm>
            <a:off x="3855600" y="5535720"/>
            <a:ext cx="12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x - 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88"/>
              <p:cNvSpPr txBox="1"/>
              <p:nvPr/>
            </p:nvSpPr>
            <p:spPr>
              <a:xfrm>
                <a:off x="6788160" y="4600440"/>
                <a:ext cx="1023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89"/>
              <p:cNvSpPr txBox="1"/>
              <p:nvPr/>
            </p:nvSpPr>
            <p:spPr>
              <a:xfrm>
                <a:off x="6804000" y="5084640"/>
                <a:ext cx="1023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90"/>
              <p:cNvSpPr txBox="1"/>
              <p:nvPr/>
            </p:nvSpPr>
            <p:spPr>
              <a:xfrm>
                <a:off x="6804000" y="5516640"/>
                <a:ext cx="1023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7" name="TextBox 2"/>
          <p:cNvSpPr/>
          <p:nvPr/>
        </p:nvSpPr>
        <p:spPr>
          <a:xfrm>
            <a:off x="5183280" y="59500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Нажмите кноп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395280" y="1197000"/>
          <a:ext cx="8424720" cy="460836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051280"/>
                <a:gridCol w="2160360"/>
              </a:tblGrid>
              <a:tr h="749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оэффици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L,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(x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l)+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ак сдвигается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(x)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 заданными коэффици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96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963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96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|x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|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96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 = -2,  m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Отметьте верные значения в таблице: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69"/>
              <p:cNvSpPr txBox="1"/>
              <p:nvPr/>
            </p:nvSpPr>
            <p:spPr>
              <a:xfrm>
                <a:off x="5099040" y="1959120"/>
                <a:ext cx="5126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0321-8479-416B-AF68-A1ECBA664BAA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21"/>
              <p:cNvSpPr txBox="1"/>
              <p:nvPr/>
            </p:nvSpPr>
            <p:spPr>
              <a:xfrm>
                <a:off x="1258920" y="2060640"/>
                <a:ext cx="4824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23"/>
              <p:cNvSpPr txBox="1"/>
              <p:nvPr/>
            </p:nvSpPr>
            <p:spPr>
              <a:xfrm>
                <a:off x="5027760" y="5157720"/>
                <a:ext cx="1272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76"/>
              <p:cNvSpPr txBox="1"/>
              <p:nvPr/>
            </p:nvSpPr>
            <p:spPr>
              <a:xfrm>
                <a:off x="5033880" y="4869000"/>
                <a:ext cx="11034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Text Box 83"/>
          <p:cNvSpPr/>
          <p:nvPr/>
        </p:nvSpPr>
        <p:spPr>
          <a:xfrm>
            <a:off x="4878720" y="289872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- 2(x+2)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5"/>
          <p:cNvSpPr/>
          <p:nvPr/>
        </p:nvSpPr>
        <p:spPr>
          <a:xfrm>
            <a:off x="4876920" y="3213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- (2x-2)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6"/>
          <p:cNvSpPr/>
          <p:nvPr/>
        </p:nvSpPr>
        <p:spPr>
          <a:xfrm>
            <a:off x="4875480" y="3481560"/>
            <a:ext cx="114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-2(x + 2)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 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Объект 2"/>
              <p:cNvSpPr txBox="1"/>
              <p:nvPr/>
            </p:nvSpPr>
            <p:spPr>
              <a:xfrm>
                <a:off x="5029200" y="5445000"/>
                <a:ext cx="127152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Объект 3"/>
              <p:cNvSpPr txBox="1"/>
              <p:nvPr/>
            </p:nvSpPr>
            <p:spPr>
              <a:xfrm>
                <a:off x="1257480" y="5103720"/>
                <a:ext cx="474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11" name="TextBox 5"/>
          <p:cNvSpPr/>
          <p:nvPr/>
        </p:nvSpPr>
        <p:spPr>
          <a:xfrm>
            <a:off x="6853680" y="487188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на 2 влево, на 3 ввер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5"/>
          <p:cNvSpPr/>
          <p:nvPr/>
        </p:nvSpPr>
        <p:spPr>
          <a:xfrm>
            <a:off x="6861600" y="513720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на 2 вправо, на 3 ввер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6"/>
          <p:cNvSpPr/>
          <p:nvPr/>
        </p:nvSpPr>
        <p:spPr>
          <a:xfrm>
            <a:off x="6859800" y="542592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на 2 вниз, на 3 впра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7"/>
          <p:cNvSpPr/>
          <p:nvPr/>
        </p:nvSpPr>
        <p:spPr>
          <a:xfrm>
            <a:off x="6879240" y="3933720"/>
            <a:ext cx="10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на 1 вл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8"/>
          <p:cNvSpPr/>
          <p:nvPr/>
        </p:nvSpPr>
        <p:spPr>
          <a:xfrm>
            <a:off x="6858720" y="41893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на 1 впра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39"/>
          <p:cNvSpPr/>
          <p:nvPr/>
        </p:nvSpPr>
        <p:spPr>
          <a:xfrm>
            <a:off x="6855120" y="448956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на 1 вн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43"/>
          <p:cNvSpPr/>
          <p:nvPr/>
        </p:nvSpPr>
        <p:spPr>
          <a:xfrm>
            <a:off x="6703560" y="2257560"/>
            <a:ext cx="212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вправо,  на 1 вн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4"/>
          <p:cNvSpPr/>
          <p:nvPr/>
        </p:nvSpPr>
        <p:spPr>
          <a:xfrm>
            <a:off x="6709320" y="3265560"/>
            <a:ext cx="20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на 2 влево,  на 1 ввер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45"/>
          <p:cNvSpPr/>
          <p:nvPr/>
        </p:nvSpPr>
        <p:spPr>
          <a:xfrm>
            <a:off x="2775960" y="393552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l = 1,  m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46"/>
          <p:cNvSpPr/>
          <p:nvPr/>
        </p:nvSpPr>
        <p:spPr>
          <a:xfrm>
            <a:off x="2783160" y="420228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l = -1, m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48"/>
          <p:cNvSpPr/>
          <p:nvPr/>
        </p:nvSpPr>
        <p:spPr>
          <a:xfrm>
            <a:off x="2781720" y="448956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l = 0,  m =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49"/>
          <p:cNvSpPr/>
          <p:nvPr/>
        </p:nvSpPr>
        <p:spPr>
          <a:xfrm>
            <a:off x="2782800" y="1989000"/>
            <a:ext cx="12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l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-3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,  m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50"/>
          <p:cNvSpPr/>
          <p:nvPr/>
        </p:nvSpPr>
        <p:spPr>
          <a:xfrm>
            <a:off x="2775600" y="225756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l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, 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m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51"/>
          <p:cNvSpPr/>
          <p:nvPr/>
        </p:nvSpPr>
        <p:spPr>
          <a:xfrm>
            <a:off x="2770560" y="254484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l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,  m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Объект 6"/>
              <p:cNvSpPr txBox="1"/>
              <p:nvPr/>
            </p:nvSpPr>
            <p:spPr>
              <a:xfrm>
                <a:off x="4932360" y="2276640"/>
                <a:ext cx="8478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Объект 7"/>
              <p:cNvSpPr txBox="1"/>
              <p:nvPr/>
            </p:nvSpPr>
            <p:spPr>
              <a:xfrm>
                <a:off x="4932360" y="2604960"/>
                <a:ext cx="8478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7" name="TextBox 9"/>
          <p:cNvSpPr/>
          <p:nvPr/>
        </p:nvSpPr>
        <p:spPr>
          <a:xfrm>
            <a:off x="1149840" y="3209760"/>
            <a:ext cx="6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49"/>
          <p:cNvSpPr/>
          <p:nvPr/>
        </p:nvSpPr>
        <p:spPr>
          <a:xfrm>
            <a:off x="2769120" y="2997360"/>
            <a:ext cx="12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l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, 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m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50"/>
          <p:cNvSpPr/>
          <p:nvPr/>
        </p:nvSpPr>
        <p:spPr>
          <a:xfrm>
            <a:off x="2776320" y="326556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l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-2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, 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m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51"/>
          <p:cNvSpPr/>
          <p:nvPr/>
        </p:nvSpPr>
        <p:spPr>
          <a:xfrm>
            <a:off x="2767680" y="355284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l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, 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Georgia"/>
              </a:rPr>
              <a:t>m = 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34"/>
          <p:cNvSpPr/>
          <p:nvPr/>
        </p:nvSpPr>
        <p:spPr>
          <a:xfrm>
            <a:off x="5183280" y="59500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Нажмите кноп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3. Выберите график заданной функции: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7EE3-7579-43D8-8884-6CAAD7161983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642600" y="1631880"/>
            <a:ext cx="19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=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+2 )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5219640" y="1690560"/>
            <a:ext cx="9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=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71"/>
              <p:cNvSpPr txBox="1"/>
              <p:nvPr/>
            </p:nvSpPr>
            <p:spPr>
              <a:xfrm>
                <a:off x="6043680" y="1628640"/>
                <a:ext cx="1450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38" name="Picture 28" descr=""/>
          <p:cNvPicPr/>
          <p:nvPr/>
        </p:nvPicPr>
        <p:blipFill>
          <a:blip r:embed="rId1"/>
          <a:srcRect l="27985" t="38637" r="21777" b="14759"/>
          <a:stretch/>
        </p:blipFill>
        <p:spPr>
          <a:xfrm>
            <a:off x="227160" y="2349360"/>
            <a:ext cx="4113000" cy="2880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9" descr=""/>
          <p:cNvPicPr/>
          <p:nvPr/>
        </p:nvPicPr>
        <p:blipFill>
          <a:blip r:embed="rId2"/>
          <a:srcRect l="30085" t="38661" r="17329" b="11609"/>
          <a:stretch/>
        </p:blipFill>
        <p:spPr>
          <a:xfrm>
            <a:off x="4748040" y="2349360"/>
            <a:ext cx="4000680" cy="2934000"/>
          </a:xfrm>
          <a:prstGeom prst="rect">
            <a:avLst/>
          </a:prstGeom>
          <a:ln w="0">
            <a:noFill/>
          </a:ln>
        </p:spPr>
      </p:pic>
      <p:sp>
        <p:nvSpPr>
          <p:cNvPr id="740" name="TextBox 9"/>
          <p:cNvSpPr/>
          <p:nvPr/>
        </p:nvSpPr>
        <p:spPr>
          <a:xfrm>
            <a:off x="5183280" y="59500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Нажмите кноп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3. Выберите график заданной функции: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784B-4C83-4E9A-96CA-CE8107F27E84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620640" y="163188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=|x+1|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5219640" y="16905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=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76"/>
              <p:cNvSpPr txBox="1"/>
              <p:nvPr/>
            </p:nvSpPr>
            <p:spPr>
              <a:xfrm>
                <a:off x="6192720" y="1674720"/>
                <a:ext cx="7714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747" name="Picture 9" descr=""/>
          <p:cNvPicPr/>
          <p:nvPr/>
        </p:nvPicPr>
        <p:blipFill>
          <a:blip r:embed="rId1"/>
          <a:srcRect l="32813" t="39429" r="19906" b="14395"/>
          <a:stretch/>
        </p:blipFill>
        <p:spPr>
          <a:xfrm>
            <a:off x="324000" y="2276640"/>
            <a:ext cx="3931920" cy="288108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" descr=""/>
          <p:cNvPicPr/>
          <p:nvPr/>
        </p:nvPicPr>
        <p:blipFill>
          <a:blip r:embed="rId2"/>
          <a:srcRect l="38449" t="45133" r="21308" b="14409"/>
          <a:stretch/>
        </p:blipFill>
        <p:spPr>
          <a:xfrm>
            <a:off x="4788000" y="2276640"/>
            <a:ext cx="4056120" cy="3057480"/>
          </a:xfrm>
          <a:prstGeom prst="rect">
            <a:avLst/>
          </a:prstGeom>
          <a:ln w="0">
            <a:noFill/>
          </a:ln>
        </p:spPr>
      </p:pic>
      <p:sp>
        <p:nvSpPr>
          <p:cNvPr id="749" name="TextBox 9"/>
          <p:cNvSpPr/>
          <p:nvPr/>
        </p:nvSpPr>
        <p:spPr>
          <a:xfrm>
            <a:off x="5183280" y="59500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Нажмите кноп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2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AA20-0E97-4863-8A9A-03AAB1394DA4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737640" y="265752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898a"/>
                </a:solidFill>
                <a:latin typeface="Arial"/>
              </a:rPr>
              <a:t>Всего заданий выполнено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756000" y="3286080"/>
            <a:ext cx="50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898a"/>
                </a:solidFill>
                <a:latin typeface="Arial"/>
              </a:rPr>
              <a:t>Верно выполнено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776520" y="3933720"/>
            <a:ext cx="56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898a"/>
                </a:solidFill>
                <a:latin typeface="Arial"/>
              </a:rPr>
              <a:t>Процент верно выполненных заданий…...      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7"/>
          <p:cNvSpPr/>
          <p:nvPr/>
        </p:nvSpPr>
        <p:spPr>
          <a:xfrm>
            <a:off x="3861360" y="48625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898a"/>
                </a:solidFill>
                <a:latin typeface="Arial"/>
              </a:rPr>
              <a:t>ОЦЕНКА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1"/>
          <p:cNvSpPr/>
          <p:nvPr/>
        </p:nvSpPr>
        <p:spPr>
          <a:xfrm>
            <a:off x="2133720" y="115920"/>
            <a:ext cx="483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ритерии оцени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50 до 70 % правильно выполненных заданий – оценка «3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71 до 85 % - оценка «4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ее 86 % - оценка «5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7"/>
          <p:cNvSpPr/>
          <p:nvPr/>
        </p:nvSpPr>
        <p:spPr>
          <a:xfrm>
            <a:off x="3440160" y="169236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Нажмите кноп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8T12:41:38Z</dcterms:created>
  <dc:creator>user</dc:creator>
  <dc:description/>
  <dc:language>en-US</dc:language>
  <cp:lastModifiedBy>Карпова</cp:lastModifiedBy>
  <dcterms:modified xsi:type="dcterms:W3CDTF">2014-02-01T13:22:31Z</dcterms:modified>
  <cp:revision>106</cp:revision>
  <dc:subject/>
  <dc:title>Тренажер</dc:title>
</cp:coreProperties>
</file>