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629D-039D-4F6B-B695-DDB75AF4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B9D2-C673-4DAA-AABC-4D6B69D9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DAF1-9B71-4EAA-9EFF-95F99D25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E177-36C6-40EF-AA4C-0330E0AA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318B-47F8-47A1-B7CC-407AD489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F619-358E-4D48-BE67-AC423C89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0F35-CFBD-4971-96EC-1442959C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4513-54AE-49B6-B666-4FDA5F7D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5AF4-C194-44E8-B676-BD388999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1F67-0D0D-46FF-90F8-E82B7556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48E1-4251-4222-BAC4-6CDF705F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A3D8-DB75-4A01-96C0-A356CC66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464C-7C0E-47D6-8E04-F9E37719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9140-4C0B-4CBB-BDB6-1EDBD353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348C-4008-40AB-966E-10B2947F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9283-28B2-4FC7-8833-F26058A1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62C8-3FE2-416F-B0D0-DEA3F4F7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D954-FFE7-452E-8D00-F19B5046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895B-0F0D-444D-B31F-A98EE4E2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907F-FD48-4E18-B80F-7E6BF050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264B-58E9-4165-81AE-DD9EDB8E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4BC5-C8A8-438A-AEBC-EBE74C4D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547C-7DEE-4D8C-94C6-CE86EDAD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8C61-7544-4B6A-A231-9101796E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ae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8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24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21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12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20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8922-6345-4808-8750-9DFC9B753A4F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ae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1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2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3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3DFB-B941-407D-9BB5-27D59CCC4B8B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image" Target="../media/image4.png"/><Relationship Id="rId4" Type="http://schemas.openxmlformats.org/officeDocument/2006/relationships/slide" Target="slide5.xml"/><Relationship Id="rId5" Type="http://schemas.openxmlformats.org/officeDocument/2006/relationships/image" Target="../media/image5.png"/><Relationship Id="rId6" Type="http://schemas.openxmlformats.org/officeDocument/2006/relationships/slide" Target="slide4.xm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tihi.ru/pics/2010/06/19/3464.jpg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6"/>
          <p:cNvSpPr txBox="1"/>
          <p:nvPr/>
        </p:nvSpPr>
        <p:spPr>
          <a:xfrm>
            <a:off x="1763640" y="1197000"/>
            <a:ext cx="3529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гостях 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 мудрого гнома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547640" y="2781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e00"/>
                </a:solidFill>
                <a:latin typeface="Arial"/>
              </a:rPr>
              <a:t>Игры по обучению грамоте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468360" y="260280"/>
            <a:ext cx="867564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5d"/>
                </a:solidFill>
                <a:latin typeface="Monotype Corsiva"/>
              </a:rPr>
              <a:t>В  гостях  у  мудрого  гнома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1"/>
          <a:stretch/>
        </p:blipFill>
        <p:spPr>
          <a:xfrm>
            <a:off x="2166840" y="1395360"/>
            <a:ext cx="481032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00000" y="4653000"/>
            <a:ext cx="1193760" cy="1512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971640" y="2421000"/>
            <a:ext cx="1001520" cy="172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404640"/>
            <a:ext cx="930240" cy="1511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2411280" y="981000"/>
            <a:ext cx="5545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100"/>
                </a:solidFill>
                <a:latin typeface="Arial"/>
              </a:rPr>
              <a:t>Слово в слове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 flipV="1" rot="10795800">
            <a:off x="2410920" y="2565000"/>
            <a:ext cx="64105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100"/>
                </a:solidFill>
                <a:latin typeface="Arial"/>
              </a:rPr>
              <a:t>Найди спрятанное слово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2340000" y="5300640"/>
            <a:ext cx="4032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100"/>
                </a:solidFill>
                <a:latin typeface="Arial"/>
              </a:rPr>
              <a:t>Кот-шутник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395280" y="3716280"/>
            <a:ext cx="2089080" cy="28418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1835280" y="189000"/>
            <a:ext cx="55450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5d"/>
                </a:solidFill>
                <a:latin typeface="Arial"/>
              </a:rPr>
              <a:t>Слово в слове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826920" y="1125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До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403280" y="1125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ога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059280" y="112536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ыба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4284720" y="112536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к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5076720" y="1125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бу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5580000" y="1125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лыжник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900000" y="213372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лес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692360" y="21337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ка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2987640" y="2133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уста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3995640" y="213372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л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5076720" y="213372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у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5364000" y="21337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точка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AutoShape 21"/>
          <p:cNvSpPr/>
          <p:nvPr/>
        </p:nvSpPr>
        <p:spPr>
          <a:xfrm>
            <a:off x="2627280" y="3933720"/>
            <a:ext cx="3529080" cy="790560"/>
          </a:xfrm>
          <a:prstGeom prst="wedgeEllipseCallout">
            <a:avLst>
              <a:gd name="adj1" fmla="val -55217"/>
              <a:gd name="adj2" fmla="val 46986"/>
            </a:avLst>
          </a:prstGeom>
          <a:solidFill>
            <a:srgbClr val="ffcde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Здорово!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AutoShape 22">
            <a:hlinkClick r:id="rId3" action="ppaction://hlinksldjump"/>
          </p:cNvPr>
          <p:cNvSpPr/>
          <p:nvPr/>
        </p:nvSpPr>
        <p:spPr>
          <a:xfrm>
            <a:off x="8172360" y="609300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13148" y="3837"/>
                </a:moveTo>
                <a:lnTo>
                  <a:pt x="15724" y="6448"/>
                </a:ln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lnTo>
                  <a:pt x="20111" y="10800"/>
                </a:lnTo>
                <a:lnTo>
                  <a:pt x="18457" y="10800"/>
                </a:lnTo>
                <a:lnTo>
                  <a:pt x="18457" y="17989"/>
                </a:lnTo>
                <a:lnTo>
                  <a:pt x="7839" y="17989"/>
                </a:lnTo>
                <a:lnTo>
                  <a:pt x="7839" y="10800"/>
                </a:lnTo>
                <a:lnTo>
                  <a:pt x="6185" y="10800"/>
                </a:lnTo>
                <a:close/>
              </a:path>
              <a:path fill="darkenLess" w="26296" h="21600">
                <a:moveTo>
                  <a:pt x="15724" y="6448"/>
                </a:move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close/>
              </a:path>
              <a:path fill="darkenLess" w="26296" h="21600">
                <a:moveTo>
                  <a:pt x="12225" y="14299"/>
                </a:moveTo>
                <a:lnTo>
                  <a:pt x="14070" y="14299"/>
                </a:lnTo>
                <a:lnTo>
                  <a:pt x="14070" y="17989"/>
                </a:lnTo>
                <a:lnTo>
                  <a:pt x="18457" y="17989"/>
                </a:lnTo>
                <a:lnTo>
                  <a:pt x="18457" y="10800"/>
                </a:lnTo>
                <a:lnTo>
                  <a:pt x="7839" y="10800"/>
                </a:lnTo>
                <a:lnTo>
                  <a:pt x="7839" y="17989"/>
                </a:lnTo>
                <a:lnTo>
                  <a:pt x="12225" y="17989"/>
                </a:lnTo>
                <a:close/>
              </a:path>
            </a:pathLst>
          </a:custGeom>
          <a:solidFill>
            <a:srgbClr val="75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7236000" y="981000"/>
            <a:ext cx="1701720" cy="2608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250920" y="404640"/>
            <a:ext cx="75610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5d"/>
                </a:solidFill>
                <a:latin typeface="Arial"/>
              </a:rPr>
              <a:t>Найди спрятанное слово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484360" y="4292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адуга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24000" y="4292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шлгентро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995640" y="4292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митчв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5653080" y="4292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гроза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6877080" y="4292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а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395280" y="4292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а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900000" y="4292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учка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2195640" y="649116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2195640" y="4292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ьитнббрыю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4859280" y="4292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букварь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6877080" y="4292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енал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8207280" y="429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цр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7451640" y="4292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нег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250920" y="1700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cc"/>
                </a:solidFill>
                <a:latin typeface="Arial"/>
              </a:rPr>
              <a:t>Что обозначают эти слова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324000" y="256536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79bc"/>
                </a:solidFill>
                <a:latin typeface="Arial"/>
              </a:rPr>
              <a:t>Явления природы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250920" y="2565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79bc"/>
                </a:solidFill>
                <a:latin typeface="Arial"/>
              </a:rPr>
              <a:t>Школьные принадлежности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6659640" y="429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к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AutoShape 40"/>
          <p:cNvSpPr/>
          <p:nvPr/>
        </p:nvSpPr>
        <p:spPr>
          <a:xfrm rot="10638600">
            <a:off x="2339640" y="1557000"/>
            <a:ext cx="4030560" cy="927000"/>
          </a:xfrm>
          <a:prstGeom prst="wedgeEllipseCallout">
            <a:avLst>
              <a:gd name="adj1" fmla="val -75504"/>
              <a:gd name="adj2" fmla="val 39574"/>
            </a:avLst>
          </a:prstGeom>
          <a:solidFill>
            <a:srgbClr val="ffcde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лодцы!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AutoShape 41">
            <a:hlinkClick r:id="rId3" action="ppaction://hlinksldjump"/>
          </p:cNvPr>
          <p:cNvSpPr/>
          <p:nvPr/>
        </p:nvSpPr>
        <p:spPr>
          <a:xfrm>
            <a:off x="8172360" y="609300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13148" y="3837"/>
                </a:moveTo>
                <a:lnTo>
                  <a:pt x="15724" y="6448"/>
                </a:ln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lnTo>
                  <a:pt x="20111" y="10800"/>
                </a:lnTo>
                <a:lnTo>
                  <a:pt x="18457" y="10800"/>
                </a:lnTo>
                <a:lnTo>
                  <a:pt x="18457" y="17989"/>
                </a:lnTo>
                <a:lnTo>
                  <a:pt x="7839" y="17989"/>
                </a:lnTo>
                <a:lnTo>
                  <a:pt x="7839" y="10800"/>
                </a:lnTo>
                <a:lnTo>
                  <a:pt x="6185" y="10800"/>
                </a:lnTo>
                <a:close/>
              </a:path>
              <a:path fill="darkenLess" w="26296" h="21600">
                <a:moveTo>
                  <a:pt x="15724" y="6448"/>
                </a:move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close/>
              </a:path>
              <a:path fill="darkenLess" w="26296" h="21600">
                <a:moveTo>
                  <a:pt x="12225" y="14299"/>
                </a:moveTo>
                <a:lnTo>
                  <a:pt x="14070" y="14299"/>
                </a:lnTo>
                <a:lnTo>
                  <a:pt x="14070" y="17989"/>
                </a:lnTo>
                <a:lnTo>
                  <a:pt x="18457" y="17989"/>
                </a:lnTo>
                <a:lnTo>
                  <a:pt x="18457" y="10800"/>
                </a:lnTo>
                <a:lnTo>
                  <a:pt x="7839" y="10800"/>
                </a:lnTo>
                <a:lnTo>
                  <a:pt x="7839" y="17989"/>
                </a:lnTo>
                <a:lnTo>
                  <a:pt x="12225" y="17989"/>
                </a:lnTo>
                <a:close/>
              </a:path>
            </a:pathLst>
          </a:custGeom>
          <a:solidFill>
            <a:srgbClr val="75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2440080" cy="3095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268360" y="189000"/>
            <a:ext cx="4032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5d"/>
                </a:solidFill>
                <a:latin typeface="Arial"/>
              </a:rPr>
              <a:t>Кот-шутник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7380360" y="836640"/>
            <a:ext cx="1368360" cy="1177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900000" y="1052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град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900000" y="15559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рот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900000" y="2060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уш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900000" y="25639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амп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900000" y="3068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илот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3995640" y="1052640"/>
            <a:ext cx="26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рад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3995640" y="155592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рот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3995640" y="2060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уш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3995640" y="25639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лап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3995640" y="3068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плот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>
            <a:off x="2268360" y="2997360"/>
            <a:ext cx="4537080" cy="1223640"/>
          </a:xfrm>
          <a:prstGeom prst="wedgeEllipseCallout">
            <a:avLst>
              <a:gd name="adj1" fmla="val -50138"/>
              <a:gd name="adj2" fmla="val 50129"/>
            </a:avLst>
          </a:prstGeom>
          <a:solidFill>
            <a:srgbClr val="ffcde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гадай, какое слово получилось?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бери одну букву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AutoShape 25"/>
          <p:cNvSpPr/>
          <p:nvPr/>
        </p:nvSpPr>
        <p:spPr>
          <a:xfrm>
            <a:off x="2268360" y="2997360"/>
            <a:ext cx="4535640" cy="1223640"/>
          </a:xfrm>
          <a:prstGeom prst="wedgeEllipseCallout">
            <a:avLst>
              <a:gd name="adj1" fmla="val -48634"/>
              <a:gd name="adj2" fmla="val 47407"/>
            </a:avLst>
          </a:prstGeom>
          <a:solidFill>
            <a:srgbClr val="ffcde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огадайся, какое слово было?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обавь одну букву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3203640" y="3933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ус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6443640" y="3933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бус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3203640" y="443700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укус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36"/>
          <p:cNvSpPr/>
          <p:nvPr/>
        </p:nvSpPr>
        <p:spPr>
          <a:xfrm>
            <a:off x="6443640" y="443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уксус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37"/>
          <p:cNvSpPr/>
          <p:nvPr/>
        </p:nvSpPr>
        <p:spPr>
          <a:xfrm>
            <a:off x="3203640" y="5013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убк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38"/>
          <p:cNvSpPr/>
          <p:nvPr/>
        </p:nvSpPr>
        <p:spPr>
          <a:xfrm>
            <a:off x="6443640" y="501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трубк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Text Box 39"/>
          <p:cNvSpPr/>
          <p:nvPr/>
        </p:nvSpPr>
        <p:spPr>
          <a:xfrm>
            <a:off x="3203640" y="55897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ар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Text Box 40"/>
          <p:cNvSpPr/>
          <p:nvPr/>
        </p:nvSpPr>
        <p:spPr>
          <a:xfrm>
            <a:off x="6443640" y="558972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удар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Text Box 41"/>
          <p:cNvSpPr/>
          <p:nvPr/>
        </p:nvSpPr>
        <p:spPr>
          <a:xfrm>
            <a:off x="3203640" y="6165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лад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Text Box 42"/>
          <p:cNvSpPr/>
          <p:nvPr/>
        </p:nvSpPr>
        <p:spPr>
          <a:xfrm>
            <a:off x="6443640" y="616572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склад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AutoShape 43"/>
          <p:cNvSpPr/>
          <p:nvPr/>
        </p:nvSpPr>
        <p:spPr>
          <a:xfrm>
            <a:off x="2195640" y="2924280"/>
            <a:ext cx="4681440" cy="1296720"/>
          </a:xfrm>
          <a:prstGeom prst="wedgeEllipseCallout">
            <a:avLst>
              <a:gd name="adj1" fmla="val -51458"/>
              <a:gd name="adj2" fmla="val 49388"/>
            </a:avLst>
          </a:prstGeom>
          <a:solidFill>
            <a:srgbClr val="ffcde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олодцы!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пасибо за работу!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AutoShape 44">
            <a:hlinkClick r:id="rId4" action="ppaction://hlinksldjump"/>
          </p:cNvPr>
          <p:cNvSpPr/>
          <p:nvPr/>
        </p:nvSpPr>
        <p:spPr>
          <a:xfrm>
            <a:off x="8172360" y="609300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13148" y="3837"/>
                </a:moveTo>
                <a:lnTo>
                  <a:pt x="15724" y="6448"/>
                </a:ln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lnTo>
                  <a:pt x="20111" y="10800"/>
                </a:lnTo>
                <a:lnTo>
                  <a:pt x="18457" y="10800"/>
                </a:lnTo>
                <a:lnTo>
                  <a:pt x="18457" y="17989"/>
                </a:lnTo>
                <a:lnTo>
                  <a:pt x="7839" y="17989"/>
                </a:lnTo>
                <a:lnTo>
                  <a:pt x="7839" y="10800"/>
                </a:lnTo>
                <a:lnTo>
                  <a:pt x="6185" y="10800"/>
                </a:lnTo>
                <a:close/>
              </a:path>
              <a:path fill="darkenLess" w="26296" h="21600">
                <a:moveTo>
                  <a:pt x="15724" y="6448"/>
                </a:move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close/>
              </a:path>
              <a:path fill="darkenLess" w="26296" h="21600">
                <a:moveTo>
                  <a:pt x="12225" y="14299"/>
                </a:moveTo>
                <a:lnTo>
                  <a:pt x="14070" y="14299"/>
                </a:lnTo>
                <a:lnTo>
                  <a:pt x="14070" y="17989"/>
                </a:lnTo>
                <a:lnTo>
                  <a:pt x="18457" y="17989"/>
                </a:lnTo>
                <a:lnTo>
                  <a:pt x="18457" y="10800"/>
                </a:lnTo>
                <a:lnTo>
                  <a:pt x="7839" y="10800"/>
                </a:lnTo>
                <a:lnTo>
                  <a:pt x="7839" y="17989"/>
                </a:lnTo>
                <a:lnTo>
                  <a:pt x="12225" y="17989"/>
                </a:lnTo>
                <a:close/>
              </a:path>
            </a:pathLst>
          </a:custGeom>
          <a:solidFill>
            <a:srgbClr val="75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395280" y="765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stihi.ru/pics/2010/06/19/3464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 гном на 2 слайде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03200" y="1197000"/>
            <a:ext cx="81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http://super-photoshop.ucoz.ru/images/kliparti/myltiki/klipart_gnomi.jpg - гномы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95280" y="1628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http://super-photoshop.ucoz.ru/images/kliparti/klipart_koshki_1.jpg -котенок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2843280" y="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Источники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95280" y="206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http://www.photoshop-master.ru/adds/adds7089/1.jpg - рамка на 1 слайде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395280" y="24922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 взят из книги Н.Н Масимук «Игры по обучению грамоте и чтению» Москва «ВАКО» 2006 г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1:07:20Z</dcterms:created>
  <dc:creator>User</dc:creator>
  <dc:description/>
  <dc:language>en-US</dc:language>
  <cp:lastModifiedBy>1</cp:lastModifiedBy>
  <dcterms:modified xsi:type="dcterms:W3CDTF">2015-03-06T20:12:45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