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526-9EE5-45CF-9EFF-77C53706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0BB-2EF5-49E8-B5C4-872DD959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030-EDBB-458D-88E5-D8119974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E8A-7205-43A2-BFC2-5A72803E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4BC-668C-49BC-9B7B-44EABE65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9E0-DF70-4546-9708-1B04A3B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DEF-06B6-4037-A58A-B8BE127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029-A730-4858-8FEB-4666BD30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196-3E58-4370-A237-2D78B0E2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838-C91D-466B-9C46-21D73D5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931-D133-4D92-9643-DB0C366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1B3-12D1-4C30-815B-763B9AF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3FE2-9478-4335-A23C-E1CBD45E66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1633680"/>
            <a:ext cx="9582120" cy="31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90720" y="26028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Последовательность задана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4284720" y="649116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71560" y="1595520"/>
            <a:ext cx="717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a0a1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10"/>
                </a:solidFill>
                <a:latin typeface="Arial"/>
              </a:rPr>
              <a:t>Впишите пропущенные члены последова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687840" y="2774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39640" y="30686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436200" y="1136520"/>
            <a:ext cx="187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3200" spc="-1" strike="noStrike" baseline="-25000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3200" spc="-1" strike="noStrike" baseline="30000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1976760" y="28494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; 8; ___; ___; ___;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952000" y="284004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6    80    2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79280" y="11916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271160" y="79200"/>
            <a:ext cx="88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70080" y="779400"/>
            <a:ext cx="212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-1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10960" y="14130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9"/>
          <p:cNvGrpSpPr/>
          <p:nvPr/>
        </p:nvGrpSpPr>
        <p:grpSpPr>
          <a:xfrm>
            <a:off x="1461960" y="1379520"/>
            <a:ext cx="2149920" cy="651600"/>
            <a:chOff x="1461960" y="1379520"/>
            <a:chExt cx="2149920" cy="651600"/>
          </a:xfrm>
        </p:grpSpPr>
        <p:sp>
          <p:nvSpPr>
            <p:cNvPr id="141" name="Rectangle 3"/>
            <p:cNvSpPr/>
            <p:nvPr/>
          </p:nvSpPr>
          <p:spPr>
            <a:xfrm>
              <a:off x="1461960" y="1379520"/>
              <a:ext cx="537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"/>
            <p:cNvSpPr/>
            <p:nvPr/>
          </p:nvSpPr>
          <p:spPr>
            <a:xfrm>
              <a:off x="2042280" y="1379520"/>
              <a:ext cx="76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, 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2849040" y="1382400"/>
              <a:ext cx="76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, 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2"/>
          <p:cNvSpPr/>
          <p:nvPr/>
        </p:nvSpPr>
        <p:spPr>
          <a:xfrm>
            <a:off x="210960" y="204624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94200" y="2708280"/>
            <a:ext cx="227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-1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4 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73000" y="272880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2560" y="3645000"/>
            <a:ext cx="227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-1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6 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673000" y="36496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6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47480" y="4653000"/>
            <a:ext cx="227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-1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9 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704320" y="474336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−1</a:t>
            </a:r>
            <a:r>
              <a:rPr b="1" lang="ru-RU" sz="3200" spc="-1" strike="noStrike" baseline="30000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1 = −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79280" y="11916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71160" y="79200"/>
            <a:ext cx="88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10960" y="183024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9"/>
          <p:cNvGrpSpPr/>
          <p:nvPr/>
        </p:nvGrpSpPr>
        <p:grpSpPr>
          <a:xfrm>
            <a:off x="1496880" y="1812960"/>
            <a:ext cx="2149920" cy="651600"/>
            <a:chOff x="1496880" y="1812960"/>
            <a:chExt cx="2149920" cy="651600"/>
          </a:xfrm>
        </p:grpSpPr>
        <p:sp>
          <p:nvSpPr>
            <p:cNvPr id="155" name="Rectangle 3"/>
            <p:cNvSpPr/>
            <p:nvPr/>
          </p:nvSpPr>
          <p:spPr>
            <a:xfrm>
              <a:off x="1496880" y="1812960"/>
              <a:ext cx="537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2077200" y="1812960"/>
              <a:ext cx="76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, 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"/>
            <p:cNvSpPr/>
            <p:nvPr/>
          </p:nvSpPr>
          <p:spPr>
            <a:xfrm>
              <a:off x="2883960" y="1815840"/>
              <a:ext cx="762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, 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2"/>
          <p:cNvSpPr/>
          <p:nvPr/>
        </p:nvSpPr>
        <p:spPr>
          <a:xfrm>
            <a:off x="219240" y="2311560"/>
            <a:ext cx="18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654720" y="1830240"/>
            <a:ext cx="76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 а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18"/>
          <p:cNvGrpSpPr/>
          <p:nvPr/>
        </p:nvGrpSpPr>
        <p:grpSpPr>
          <a:xfrm>
            <a:off x="292320" y="1127160"/>
            <a:ext cx="2784960" cy="684360"/>
            <a:chOff x="292320" y="1127160"/>
            <a:chExt cx="2784960" cy="684360"/>
          </a:xfrm>
        </p:grpSpPr>
        <p:sp>
          <p:nvSpPr>
            <p:cNvPr id="161" name="Rectangle 3"/>
            <p:cNvSpPr/>
            <p:nvPr/>
          </p:nvSpPr>
          <p:spPr>
            <a:xfrm>
              <a:off x="292320" y="1127160"/>
              <a:ext cx="11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+2 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"/>
            <p:cNvSpPr/>
            <p:nvPr/>
          </p:nvSpPr>
          <p:spPr>
            <a:xfrm>
              <a:off x="1909080" y="1162800"/>
              <a:ext cx="1168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+ а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"/>
            <p:cNvSpPr/>
            <p:nvPr/>
          </p:nvSpPr>
          <p:spPr>
            <a:xfrm>
              <a:off x="1476720" y="1146600"/>
              <a:ext cx="549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20"/>
          <p:cNvGrpSpPr/>
          <p:nvPr/>
        </p:nvGrpSpPr>
        <p:grpSpPr>
          <a:xfrm>
            <a:off x="338040" y="2744640"/>
            <a:ext cx="4417560" cy="681120"/>
            <a:chOff x="338040" y="2744640"/>
            <a:chExt cx="4417560" cy="681120"/>
          </a:xfrm>
        </p:grpSpPr>
        <p:grpSp>
          <p:nvGrpSpPr>
            <p:cNvPr id="165" name="Группа 26"/>
            <p:cNvGrpSpPr/>
            <p:nvPr/>
          </p:nvGrpSpPr>
          <p:grpSpPr>
            <a:xfrm>
              <a:off x="1193760" y="2760840"/>
              <a:ext cx="1389960" cy="664920"/>
              <a:chOff x="1193760" y="2760840"/>
              <a:chExt cx="1389960" cy="664920"/>
            </a:xfrm>
          </p:grpSpPr>
          <p:sp>
            <p:nvSpPr>
              <p:cNvPr id="166" name="Rectangle 3"/>
              <p:cNvSpPr/>
              <p:nvPr/>
            </p:nvSpPr>
            <p:spPr>
              <a:xfrm>
                <a:off x="1695960" y="2777040"/>
                <a:ext cx="887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"/>
              <p:cNvSpPr/>
              <p:nvPr/>
            </p:nvSpPr>
            <p:spPr>
              <a:xfrm>
                <a:off x="1193760" y="276084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Группа 30"/>
            <p:cNvGrpSpPr/>
            <p:nvPr/>
          </p:nvGrpSpPr>
          <p:grpSpPr>
            <a:xfrm>
              <a:off x="338040" y="2744640"/>
              <a:ext cx="908280" cy="648720"/>
              <a:chOff x="338040" y="2744640"/>
              <a:chExt cx="908280" cy="648720"/>
            </a:xfrm>
          </p:grpSpPr>
          <p:sp>
            <p:nvSpPr>
              <p:cNvPr id="169" name="Rectangle 3"/>
              <p:cNvSpPr/>
              <p:nvPr/>
            </p:nvSpPr>
            <p:spPr>
              <a:xfrm>
                <a:off x="828000" y="276084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3"/>
              <p:cNvSpPr/>
              <p:nvPr/>
            </p:nvSpPr>
            <p:spPr>
              <a:xfrm>
                <a:off x="338040" y="274464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Группа 34"/>
            <p:cNvGrpSpPr/>
            <p:nvPr/>
          </p:nvGrpSpPr>
          <p:grpSpPr>
            <a:xfrm>
              <a:off x="2521440" y="2785320"/>
              <a:ext cx="2234160" cy="600480"/>
              <a:chOff x="2521440" y="2785320"/>
              <a:chExt cx="2234160" cy="600480"/>
            </a:xfrm>
          </p:grpSpPr>
          <p:sp>
            <p:nvSpPr>
              <p:cNvPr id="172" name="Rectangle 3"/>
              <p:cNvSpPr/>
              <p:nvPr/>
            </p:nvSpPr>
            <p:spPr>
              <a:xfrm>
                <a:off x="3309840" y="280440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1 = 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"/>
              <p:cNvSpPr/>
              <p:nvPr/>
            </p:nvSpPr>
            <p:spPr>
              <a:xfrm>
                <a:off x="2521440" y="2785320"/>
                <a:ext cx="75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Группа 19"/>
          <p:cNvGrpSpPr/>
          <p:nvPr/>
        </p:nvGrpSpPr>
        <p:grpSpPr>
          <a:xfrm>
            <a:off x="284400" y="549360"/>
            <a:ext cx="1172520" cy="651240"/>
            <a:chOff x="284400" y="549360"/>
            <a:chExt cx="1172520" cy="651240"/>
          </a:xfrm>
        </p:grpSpPr>
        <p:sp>
          <p:nvSpPr>
            <p:cNvPr id="175" name="Rectangle 3"/>
            <p:cNvSpPr/>
            <p:nvPr/>
          </p:nvSpPr>
          <p:spPr>
            <a:xfrm>
              <a:off x="284400" y="549360"/>
              <a:ext cx="537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"/>
            <p:cNvSpPr/>
            <p:nvPr/>
          </p:nvSpPr>
          <p:spPr>
            <a:xfrm>
              <a:off x="700200" y="61920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=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40"/>
          <p:cNvGrpSpPr/>
          <p:nvPr/>
        </p:nvGrpSpPr>
        <p:grpSpPr>
          <a:xfrm>
            <a:off x="1850760" y="549360"/>
            <a:ext cx="1171800" cy="651240"/>
            <a:chOff x="1850760" y="549360"/>
            <a:chExt cx="1171800" cy="651240"/>
          </a:xfrm>
        </p:grpSpPr>
        <p:sp>
          <p:nvSpPr>
            <p:cNvPr id="178" name="Rectangle 3"/>
            <p:cNvSpPr/>
            <p:nvPr/>
          </p:nvSpPr>
          <p:spPr>
            <a:xfrm>
              <a:off x="1850760" y="549360"/>
              <a:ext cx="537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"/>
            <p:cNvSpPr/>
            <p:nvPr/>
          </p:nvSpPr>
          <p:spPr>
            <a:xfrm>
              <a:off x="2265840" y="61920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=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Группа 53" descr=""/>
          <p:cNvPicPr/>
          <p:nvPr/>
        </p:nvPicPr>
        <p:blipFill>
          <a:blip r:embed="rId1"/>
          <a:stretch/>
        </p:blipFill>
        <p:spPr>
          <a:xfrm>
            <a:off x="5315040" y="390600"/>
            <a:ext cx="2768400" cy="858600"/>
          </a:xfrm>
          <a:prstGeom prst="rect">
            <a:avLst/>
          </a:prstGeom>
          <a:ln w="0">
            <a:noFill/>
          </a:ln>
        </p:spPr>
      </p:pic>
      <p:grpSp>
        <p:nvGrpSpPr>
          <p:cNvPr id="181" name="Группа 57"/>
          <p:cNvGrpSpPr/>
          <p:nvPr/>
        </p:nvGrpSpPr>
        <p:grpSpPr>
          <a:xfrm>
            <a:off x="371520" y="3564000"/>
            <a:ext cx="4417560" cy="681120"/>
            <a:chOff x="371520" y="3564000"/>
            <a:chExt cx="4417560" cy="681120"/>
          </a:xfrm>
        </p:grpSpPr>
        <p:grpSp>
          <p:nvGrpSpPr>
            <p:cNvPr id="182" name="Группа 58"/>
            <p:cNvGrpSpPr/>
            <p:nvPr/>
          </p:nvGrpSpPr>
          <p:grpSpPr>
            <a:xfrm>
              <a:off x="1227240" y="3580200"/>
              <a:ext cx="1389960" cy="664920"/>
              <a:chOff x="1227240" y="3580200"/>
              <a:chExt cx="1389960" cy="664920"/>
            </a:xfrm>
          </p:grpSpPr>
          <p:sp>
            <p:nvSpPr>
              <p:cNvPr id="183" name="Rectangle 3"/>
              <p:cNvSpPr/>
              <p:nvPr/>
            </p:nvSpPr>
            <p:spPr>
              <a:xfrm>
                <a:off x="1729440" y="3596400"/>
                <a:ext cx="887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3"/>
              <p:cNvSpPr/>
              <p:nvPr/>
            </p:nvSpPr>
            <p:spPr>
              <a:xfrm>
                <a:off x="1227240" y="358020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Группа 59"/>
            <p:cNvGrpSpPr/>
            <p:nvPr/>
          </p:nvGrpSpPr>
          <p:grpSpPr>
            <a:xfrm>
              <a:off x="371520" y="3564000"/>
              <a:ext cx="908280" cy="648720"/>
              <a:chOff x="371520" y="3564000"/>
              <a:chExt cx="908280" cy="648720"/>
            </a:xfrm>
          </p:grpSpPr>
          <p:sp>
            <p:nvSpPr>
              <p:cNvPr id="186" name="Rectangle 3"/>
              <p:cNvSpPr/>
              <p:nvPr/>
            </p:nvSpPr>
            <p:spPr>
              <a:xfrm>
                <a:off x="861480" y="358020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"/>
              <p:cNvSpPr/>
              <p:nvPr/>
            </p:nvSpPr>
            <p:spPr>
              <a:xfrm>
                <a:off x="371520" y="356400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Группа 60"/>
            <p:cNvGrpSpPr/>
            <p:nvPr/>
          </p:nvGrpSpPr>
          <p:grpSpPr>
            <a:xfrm>
              <a:off x="2554560" y="3604320"/>
              <a:ext cx="2234520" cy="600480"/>
              <a:chOff x="2554560" y="3604320"/>
              <a:chExt cx="2234520" cy="600480"/>
            </a:xfrm>
          </p:grpSpPr>
          <p:sp>
            <p:nvSpPr>
              <p:cNvPr id="189" name="Rectangle 3"/>
              <p:cNvSpPr/>
              <p:nvPr/>
            </p:nvSpPr>
            <p:spPr>
              <a:xfrm>
                <a:off x="3343320" y="362340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2 = 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"/>
              <p:cNvSpPr/>
              <p:nvPr/>
            </p:nvSpPr>
            <p:spPr>
              <a:xfrm>
                <a:off x="2554560" y="3604320"/>
                <a:ext cx="75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Группа 67"/>
          <p:cNvGrpSpPr/>
          <p:nvPr/>
        </p:nvGrpSpPr>
        <p:grpSpPr>
          <a:xfrm>
            <a:off x="398520" y="4437000"/>
            <a:ext cx="4416120" cy="681120"/>
            <a:chOff x="398520" y="4437000"/>
            <a:chExt cx="4416120" cy="681120"/>
          </a:xfrm>
        </p:grpSpPr>
        <p:grpSp>
          <p:nvGrpSpPr>
            <p:cNvPr id="192" name="Группа 68"/>
            <p:cNvGrpSpPr/>
            <p:nvPr/>
          </p:nvGrpSpPr>
          <p:grpSpPr>
            <a:xfrm>
              <a:off x="1253880" y="4453200"/>
              <a:ext cx="1389600" cy="664920"/>
              <a:chOff x="1253880" y="4453200"/>
              <a:chExt cx="1389600" cy="664920"/>
            </a:xfrm>
          </p:grpSpPr>
          <p:sp>
            <p:nvSpPr>
              <p:cNvPr id="193" name="Rectangle 3"/>
              <p:cNvSpPr/>
              <p:nvPr/>
            </p:nvSpPr>
            <p:spPr>
              <a:xfrm>
                <a:off x="1755720" y="4469400"/>
                <a:ext cx="887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"/>
              <p:cNvSpPr/>
              <p:nvPr/>
            </p:nvSpPr>
            <p:spPr>
              <a:xfrm>
                <a:off x="1253880" y="445320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Группа 69"/>
            <p:cNvGrpSpPr/>
            <p:nvPr/>
          </p:nvGrpSpPr>
          <p:grpSpPr>
            <a:xfrm>
              <a:off x="398520" y="4437000"/>
              <a:ext cx="908280" cy="648720"/>
              <a:chOff x="398520" y="4437000"/>
              <a:chExt cx="908280" cy="648720"/>
            </a:xfrm>
          </p:grpSpPr>
          <p:sp>
            <p:nvSpPr>
              <p:cNvPr id="196" name="Rectangle 3"/>
              <p:cNvSpPr/>
              <p:nvPr/>
            </p:nvSpPr>
            <p:spPr>
              <a:xfrm>
                <a:off x="888480" y="445320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3"/>
              <p:cNvSpPr/>
              <p:nvPr/>
            </p:nvSpPr>
            <p:spPr>
              <a:xfrm>
                <a:off x="398520" y="443700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Группа 70"/>
            <p:cNvGrpSpPr/>
            <p:nvPr/>
          </p:nvGrpSpPr>
          <p:grpSpPr>
            <a:xfrm>
              <a:off x="2580840" y="4477680"/>
              <a:ext cx="2233800" cy="600480"/>
              <a:chOff x="2580840" y="4477680"/>
              <a:chExt cx="2233800" cy="600480"/>
            </a:xfrm>
          </p:grpSpPr>
          <p:sp>
            <p:nvSpPr>
              <p:cNvPr id="199" name="Rectangle 3"/>
              <p:cNvSpPr/>
              <p:nvPr/>
            </p:nvSpPr>
            <p:spPr>
              <a:xfrm>
                <a:off x="3368880" y="449676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3 = 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3"/>
              <p:cNvSpPr/>
              <p:nvPr/>
            </p:nvSpPr>
            <p:spPr>
              <a:xfrm>
                <a:off x="2580840" y="4477680"/>
                <a:ext cx="75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 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Группа 77"/>
          <p:cNvGrpSpPr/>
          <p:nvPr/>
        </p:nvGrpSpPr>
        <p:grpSpPr>
          <a:xfrm>
            <a:off x="419040" y="5373720"/>
            <a:ext cx="4417560" cy="681120"/>
            <a:chOff x="419040" y="5373720"/>
            <a:chExt cx="4417560" cy="681120"/>
          </a:xfrm>
        </p:grpSpPr>
        <p:grpSp>
          <p:nvGrpSpPr>
            <p:cNvPr id="202" name="Группа 78"/>
            <p:cNvGrpSpPr/>
            <p:nvPr/>
          </p:nvGrpSpPr>
          <p:grpSpPr>
            <a:xfrm>
              <a:off x="1274760" y="5389920"/>
              <a:ext cx="1389960" cy="664920"/>
              <a:chOff x="1274760" y="5389920"/>
              <a:chExt cx="1389960" cy="664920"/>
            </a:xfrm>
          </p:grpSpPr>
          <p:sp>
            <p:nvSpPr>
              <p:cNvPr id="203" name="Rectangle 3"/>
              <p:cNvSpPr/>
              <p:nvPr/>
            </p:nvSpPr>
            <p:spPr>
              <a:xfrm>
                <a:off x="1776960" y="5406120"/>
                <a:ext cx="887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3"/>
              <p:cNvSpPr/>
              <p:nvPr/>
            </p:nvSpPr>
            <p:spPr>
              <a:xfrm>
                <a:off x="1274760" y="538992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Группа 79"/>
            <p:cNvGrpSpPr/>
            <p:nvPr/>
          </p:nvGrpSpPr>
          <p:grpSpPr>
            <a:xfrm>
              <a:off x="419040" y="5373720"/>
              <a:ext cx="908280" cy="648720"/>
              <a:chOff x="419040" y="5373720"/>
              <a:chExt cx="908280" cy="648720"/>
            </a:xfrm>
          </p:grpSpPr>
          <p:sp>
            <p:nvSpPr>
              <p:cNvPr id="206" name="Rectangle 3"/>
              <p:cNvSpPr/>
              <p:nvPr/>
            </p:nvSpPr>
            <p:spPr>
              <a:xfrm>
                <a:off x="909000" y="53899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3"/>
              <p:cNvSpPr/>
              <p:nvPr/>
            </p:nvSpPr>
            <p:spPr>
              <a:xfrm>
                <a:off x="419040" y="5373720"/>
                <a:ext cx="537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r>
                  <a:rPr b="1" lang="ru-RU" sz="3200" spc="-1" strike="noStrike" baseline="-25000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Группа 80"/>
            <p:cNvGrpSpPr/>
            <p:nvPr/>
          </p:nvGrpSpPr>
          <p:grpSpPr>
            <a:xfrm>
              <a:off x="2602080" y="5414040"/>
              <a:ext cx="2234520" cy="600480"/>
              <a:chOff x="2602080" y="5414040"/>
              <a:chExt cx="2234520" cy="600480"/>
            </a:xfrm>
          </p:grpSpPr>
          <p:sp>
            <p:nvSpPr>
              <p:cNvPr id="209" name="Rectangle 3"/>
              <p:cNvSpPr/>
              <p:nvPr/>
            </p:nvSpPr>
            <p:spPr>
              <a:xfrm>
                <a:off x="3390840" y="543312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+ 5 = 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3"/>
              <p:cNvSpPr/>
              <p:nvPr/>
            </p:nvSpPr>
            <p:spPr>
              <a:xfrm>
                <a:off x="2602080" y="5414040"/>
                <a:ext cx="75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Arial"/>
                  </a:rPr>
                  <a:t>= 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611280" y="201600"/>
            <a:ext cx="74898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абота с учебник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56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5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 выполнении  первых  заданий  внимание  следует  уделить  правильной записи членов последовательности, чтобы не забывали указывать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56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564 (а, 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шении этих упражнений следует еще раз обратить внимание учащихся, что индексы – это натуральные числа и порядковые номера членов последовательности. Возможно устное выполнение этого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Оксана\Desktop\ffibonachi.jpg"/>
          <p:cNvPicPr/>
          <p:nvPr/>
        </p:nvPicPr>
        <p:blipFill>
          <a:blip r:embed="rId1"/>
          <a:stretch/>
        </p:blipFill>
        <p:spPr>
          <a:xfrm>
            <a:off x="108000" y="2013120"/>
            <a:ext cx="2666880" cy="32382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2"/>
          <p:cNvSpPr/>
          <p:nvPr/>
        </p:nvSpPr>
        <p:spPr>
          <a:xfrm>
            <a:off x="3059280" y="2103480"/>
            <a:ext cx="597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уррентное задание последовательности может быть и более сложным. Например, равенства: х1=1; х2=1; хn+2= хn+1 + х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ы этой последовательности называются числами Фибоначчи – по имени средневекового итальянского ученого Леонардо Фибоначчи (1180 – 1240 ) из г. Пизы. Последовательность Фибоначчи рассмотрена им в 1202 году в книге «Liber abacci». Эти числа встречаются в математике и природе довольно часто: треугольник Паскаля, количество веток на дереве или приплод от пары кроликов за определенный период времени, семена в подсолнеч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2437920" y="98100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Пизанский (Фибонач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611280" y="476280"/>
            <a:ext cx="63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Домашнее 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61, № 564 (б, г), № 565 (б, г, е), № 572 (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611280" y="148428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одведение итогов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мы разобрали понятие последовательности и способы ее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числовой последовательности: конечной и бесконеч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пособы задания последовательности вы зна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формула называется рекуррент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147600" y="1773360"/>
            <a:ext cx="3467160" cy="1295280"/>
          </a:xfrm>
          <a:custGeom>
            <a:avLst/>
            <a:gdLst>
              <a:gd name="textAreaLeft" fmla="*/ 866880 w 3467160"/>
              <a:gd name="textAreaRight" fmla="*/ 2600640 w 346716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73160" y="5132520"/>
            <a:ext cx="3457440" cy="1512720"/>
          </a:xfrm>
          <a:custGeom>
            <a:avLst/>
            <a:gdLst>
              <a:gd name="textAreaLeft" fmla="*/ 864360 w 3457440"/>
              <a:gd name="textAreaRight" fmla="*/ 2593080 w 3457440"/>
              <a:gd name="textAreaTop" fmla="*/ 0 h 1512720"/>
              <a:gd name="textAreaBottom" fmla="*/ 1323720 h 151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2987640" y="3376440"/>
            <a:ext cx="3381480" cy="1584360"/>
          </a:xfrm>
          <a:custGeom>
            <a:avLst/>
            <a:gdLst>
              <a:gd name="textAreaLeft" fmla="*/ 845280 w 3381480"/>
              <a:gd name="textAreaRight" fmla="*/ 2536200 w 3381480"/>
              <a:gd name="textAreaTop" fmla="*/ 0 h 1584360"/>
              <a:gd name="textAreaBottom" fmla="*/ 1386360 h 1584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5800680" y="5118120"/>
            <a:ext cx="3087720" cy="1440000"/>
          </a:xfrm>
          <a:custGeom>
            <a:avLst/>
            <a:gdLst>
              <a:gd name="textAreaLeft" fmla="*/ 771840 w 3087720"/>
              <a:gd name="textAreaRight" fmla="*/ 2315880 w 308772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о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чё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5661000" y="1773360"/>
            <a:ext cx="3367080" cy="1582560"/>
          </a:xfrm>
          <a:custGeom>
            <a:avLst/>
            <a:gdLst>
              <a:gd name="textAreaLeft" fmla="*/ 841680 w 3367080"/>
              <a:gd name="textAreaRight" fmla="*/ 2525400 w 3367080"/>
              <a:gd name="textAreaTop" fmla="*/ 0 h 1582560"/>
              <a:gd name="textAreaBottom" fmla="*/ 1384920 h 1582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следовательности </a:t>
            </a:r>
            <a:r>
              <a:rPr b="1" lang="ru-RU" sz="3200" spc="-1" strike="noStrike">
                <a:solidFill>
                  <a:srgbClr val="00cc66"/>
                </a:solidFill>
                <a:latin typeface="Calibri"/>
              </a:rPr>
              <a:t>составляют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Calibri"/>
              </a:rPr>
              <a:t>такие элементы природы, </a:t>
            </a:r>
            <a:br>
              <a:rPr sz="3200"/>
            </a:br>
            <a:r>
              <a:rPr b="1" lang="ru-RU" sz="3200" spc="-1" strike="noStrike">
                <a:solidFill>
                  <a:srgbClr val="00cc66"/>
                </a:solidFill>
                <a:latin typeface="Calibri"/>
              </a:rPr>
              <a:t>которые можно пронумеров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08360" y="7920"/>
            <a:ext cx="950436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10"/>
                </a:solidFill>
                <a:latin typeface="Calibri"/>
              </a:rPr>
              <a:t>Найдите закономерности  и покажите их с помощью стрел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2"/>
          <p:cNvSpPr/>
          <p:nvPr/>
        </p:nvSpPr>
        <p:spPr>
          <a:xfrm>
            <a:off x="171360" y="633240"/>
            <a:ext cx="3529080" cy="792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1; 4; 7; 10; 13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3"/>
          <p:cNvSpPr/>
          <p:nvPr/>
        </p:nvSpPr>
        <p:spPr>
          <a:xfrm>
            <a:off x="339840" y="1609560"/>
            <a:ext cx="4016160" cy="1098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В порядке возрас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положительные неч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4"/>
          <p:cNvSpPr/>
          <p:nvPr/>
        </p:nvSpPr>
        <p:spPr>
          <a:xfrm>
            <a:off x="339840" y="2859120"/>
            <a:ext cx="338436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0; 19; 37; 73; 145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5"/>
          <p:cNvSpPr/>
          <p:nvPr/>
        </p:nvSpPr>
        <p:spPr>
          <a:xfrm>
            <a:off x="295200" y="3765600"/>
            <a:ext cx="3441600" cy="10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порядке убы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авильные дроб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 числителем, равны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6"/>
          <p:cNvSpPr/>
          <p:nvPr/>
        </p:nvSpPr>
        <p:spPr>
          <a:xfrm>
            <a:off x="324000" y="4941720"/>
            <a:ext cx="3384360" cy="719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6; 8; 16; 18; 36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7"/>
          <p:cNvSpPr/>
          <p:nvPr/>
        </p:nvSpPr>
        <p:spPr>
          <a:xfrm>
            <a:off x="684360" y="5734080"/>
            <a:ext cx="3671640" cy="93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В порядке возраста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положительные чис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10"/>
                </a:solidFill>
                <a:latin typeface="Arial"/>
              </a:rPr>
              <a:t>кратные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AutoShape 39" descr=""/>
          <p:cNvPicPr/>
          <p:nvPr/>
        </p:nvPicPr>
        <p:blipFill>
          <a:blip r:embed="rId1"/>
          <a:stretch/>
        </p:blipFill>
        <p:spPr>
          <a:xfrm>
            <a:off x="4797360" y="633240"/>
            <a:ext cx="440208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0"/>
          <p:cNvSpPr/>
          <p:nvPr/>
        </p:nvSpPr>
        <p:spPr>
          <a:xfrm>
            <a:off x="5292720" y="1768320"/>
            <a:ext cx="3959280" cy="648000"/>
          </a:xfrm>
          <a:prstGeom prst="parallelogram">
            <a:avLst>
              <a:gd name="adj" fmla="val 16700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4356000" y="2684520"/>
            <a:ext cx="5040360" cy="792000"/>
          </a:xfrm>
          <a:prstGeom prst="parallelogram">
            <a:avLst>
              <a:gd name="adj" fmla="val 182702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10"/>
                </a:solidFill>
                <a:latin typeface="Arial"/>
              </a:rPr>
              <a:t>Чередовать 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10"/>
                </a:solidFill>
                <a:latin typeface="Arial"/>
              </a:rPr>
              <a:t>на 2 и увеличение в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2"/>
          <p:cNvSpPr/>
          <p:nvPr/>
        </p:nvSpPr>
        <p:spPr>
          <a:xfrm>
            <a:off x="5148360" y="3789360"/>
            <a:ext cx="3995640" cy="665280"/>
          </a:xfrm>
          <a:prstGeom prst="parallelogram">
            <a:avLst>
              <a:gd name="adj" fmla="val 167054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1; 3; 5; 7; 9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3"/>
          <p:cNvSpPr/>
          <p:nvPr/>
        </p:nvSpPr>
        <p:spPr>
          <a:xfrm>
            <a:off x="4960800" y="4941720"/>
            <a:ext cx="3894120" cy="648000"/>
          </a:xfrm>
          <a:prstGeom prst="parallelogram">
            <a:avLst>
              <a:gd name="adj" fmla="val 167012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; 10; 15; 20; 25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4"/>
          <p:cNvSpPr/>
          <p:nvPr/>
        </p:nvSpPr>
        <p:spPr>
          <a:xfrm>
            <a:off x="5148360" y="5877000"/>
            <a:ext cx="3995640" cy="720720"/>
          </a:xfrm>
          <a:prstGeom prst="parallelogram">
            <a:avLst>
              <a:gd name="adj" fmla="val 1670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личение в 2 р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уменьшение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5"/>
          <p:cNvSpPr/>
          <p:nvPr/>
        </p:nvSpPr>
        <p:spPr>
          <a:xfrm>
            <a:off x="3492360" y="1216080"/>
            <a:ext cx="2232000" cy="84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6"/>
          <p:cNvSpPr/>
          <p:nvPr/>
        </p:nvSpPr>
        <p:spPr>
          <a:xfrm>
            <a:off x="3700440" y="2565360"/>
            <a:ext cx="2023920" cy="155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7"/>
          <p:cNvSpPr/>
          <p:nvPr/>
        </p:nvSpPr>
        <p:spPr>
          <a:xfrm>
            <a:off x="3564000" y="3343320"/>
            <a:ext cx="2160360" cy="2857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8"/>
          <p:cNvSpPr/>
          <p:nvPr/>
        </p:nvSpPr>
        <p:spPr>
          <a:xfrm flipV="1">
            <a:off x="3564000" y="1539360"/>
            <a:ext cx="2160360" cy="246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1"/>
          <p:cNvSpPr/>
          <p:nvPr/>
        </p:nvSpPr>
        <p:spPr>
          <a:xfrm flipV="1">
            <a:off x="3564000" y="3476160"/>
            <a:ext cx="2232000" cy="160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2"/>
          <p:cNvSpPr/>
          <p:nvPr/>
        </p:nvSpPr>
        <p:spPr>
          <a:xfrm flipV="1">
            <a:off x="4211640" y="5589720"/>
            <a:ext cx="187308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6"/>
          <p:cNvSpPr/>
          <p:nvPr/>
        </p:nvSpPr>
        <p:spPr>
          <a:xfrm>
            <a:off x="4679640" y="10206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58920" y="11592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ассмотренные числовые ряд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имеры числовых последователь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11280" y="1197000"/>
            <a:ext cx="79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Обозначают члены последовательности т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; а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; а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; а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; … а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0" y="400536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7596360" y="422100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412920" y="2433600"/>
            <a:ext cx="85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, 2, 3, 4, … 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й номер члена последов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08000" y="321300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следовательность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108000" y="3213000"/>
            <a:ext cx="89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следовательность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ый ч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108000" y="3213000"/>
            <a:ext cx="892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следовательность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ый ч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 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ыдущий член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08000" y="3213000"/>
            <a:ext cx="892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следовательность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ый ч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 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ыдущий член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ующий член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79280" y="260280"/>
            <a:ext cx="914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нятие числовой последовательности возникло и развилось задолго до создания учения о функции. Вот примеры бесконечных числовых последовательностей, известных еще в древ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144360" y="1268280"/>
            <a:ext cx="91458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, 5,…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довательность натуральных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144360" y="2063880"/>
            <a:ext cx="914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4, 6, 8, 10,…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довательность четных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127080" y="2637000"/>
            <a:ext cx="91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, 5, 7, 9, …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довательность нечетных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93600" y="2894040"/>
            <a:ext cx="9145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, 9, 16, 25, …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довательность квадратов натур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60480" y="3933720"/>
            <a:ext cx="91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5, 7, 11, …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довательность простых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"/>
          <p:cNvGrpSpPr/>
          <p:nvPr/>
        </p:nvGrpSpPr>
        <p:grpSpPr>
          <a:xfrm>
            <a:off x="200160" y="4888080"/>
            <a:ext cx="9218520" cy="1106280"/>
            <a:chOff x="200160" y="4888080"/>
            <a:chExt cx="9218520" cy="1106280"/>
          </a:xfrm>
        </p:grpSpPr>
        <mc:AlternateContent>
          <mc:Choice xmlns:a14="http://schemas.microsoft.com/office/drawing/2010/main" Requires="a14">
            <p:sp>
              <p:nvSpPr>
                <p:cNvPr id="84" name="Объект 2"/>
                <p:cNvSpPr txBox="1"/>
                <p:nvPr/>
              </p:nvSpPr>
              <p:spPr>
                <a:xfrm>
                  <a:off x="200160" y="4916160"/>
                  <a:ext cx="2016360" cy="107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Прямоугольник 1"/>
            <p:cNvSpPr/>
            <p:nvPr/>
          </p:nvSpPr>
          <p:spPr>
            <a:xfrm>
              <a:off x="272160" y="4888080"/>
              <a:ext cx="9146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- последовательность чисел, обратных натуральны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162080" y="189000"/>
            <a:ext cx="6985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задания последовате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400536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1280" y="907920"/>
            <a:ext cx="442944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 помощью формулы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-ого члена – позволяет вычислить член последовательности с любым заданным ном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596360" y="422100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4570560" y="928800"/>
            <a:ext cx="4464000" cy="222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ЕККУРЕН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 слова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ursio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возвра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= 1;  х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+1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+1)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 2; 3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5160" y="4014720"/>
            <a:ext cx="4429080" cy="2228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Е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 помощью о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писать последовательность, все члены которой с нечётными номерами равны -10, а с чётными номерами равны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81000" y="2957400"/>
            <a:ext cx="4429080" cy="57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a0a10"/>
                </a:solidFill>
                <a:latin typeface="Arial"/>
              </a:rPr>
              <a:t>5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3</a:t>
            </a:r>
            <a:r>
              <a:rPr b="1" lang="ru-RU" sz="2800" spc="-1" strike="noStrike" baseline="30000">
                <a:solidFill>
                  <a:srgbClr val="0a0a1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5 + 2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570560" y="2813040"/>
            <a:ext cx="4464000" cy="1006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2·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71280" y="907920"/>
            <a:ext cx="4429440" cy="210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 помощью формулы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-ого члена – позволяет вычислить член последовательности с любым заданным ном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= 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65160" y="4014720"/>
            <a:ext cx="4429080" cy="2594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Е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 помощью о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писать последовательность, все члены которой с нечётными номерами равны -10, а с чётными номерами равны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0; 10; -10; 10; -10; 10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4570560" y="2813040"/>
            <a:ext cx="4464000" cy="149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2·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3·2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4570560" y="2813040"/>
            <a:ext cx="4464000" cy="197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2·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3·2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4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4·6=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4570560" y="2813040"/>
            <a:ext cx="4464000" cy="2463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2·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3·2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4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4·6=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5·24=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4570560" y="2813040"/>
            <a:ext cx="4464000" cy="294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2·1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3·2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4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4·6=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5·24=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+1)x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6·120=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000" y="2957400"/>
            <a:ext cx="4429080" cy="106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a0a10"/>
                </a:solidFill>
                <a:latin typeface="Arial"/>
              </a:rPr>
              <a:t>5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3</a:t>
            </a:r>
            <a:r>
              <a:rPr b="1" lang="ru-RU" sz="2800" spc="-1" strike="noStrike" baseline="30000">
                <a:solidFill>
                  <a:srgbClr val="0a0a1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5 + 2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Х</a:t>
            </a:r>
            <a:r>
              <a:rPr b="1" lang="ru-RU" sz="2800" spc="-1" strike="noStrike" baseline="-25000">
                <a:solidFill>
                  <a:srgbClr val="0a0a10"/>
                </a:solidFill>
                <a:latin typeface="Arial"/>
              </a:rPr>
              <a:t>45 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= 3</a:t>
            </a:r>
            <a:r>
              <a:rPr b="1" lang="ru-RU" sz="2800" spc="-1" strike="noStrike" baseline="30000">
                <a:solidFill>
                  <a:srgbClr val="0a0a1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a0a10"/>
                </a:solidFill>
                <a:latin typeface="Arial"/>
              </a:rPr>
              <a:t>45 + 2 = 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990720" y="115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Последовательность задана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39520" y="765000"/>
            <a:ext cx="149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 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284720" y="649116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160" y="1265400"/>
            <a:ext cx="9144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a0a1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10"/>
                </a:solidFill>
                <a:latin typeface="Arial"/>
              </a:rPr>
              <a:t>Впишите пропущенные члены последова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; ___; 81; ___ ; 625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85280" y="208764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16          25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687840" y="2774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39640" y="30686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990720" y="36828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Последовательность задана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284720" y="649116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73280" y="1343160"/>
            <a:ext cx="76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a0a1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10"/>
                </a:solidFill>
                <a:latin typeface="Arial"/>
              </a:rPr>
              <a:t>Впишите пропущенные члены последова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687840" y="2774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028960" y="23274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15240" y="1019160"/>
            <a:ext cx="2116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643400" y="23274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5; ___; ___; ___; 9;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193120" y="232740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6       7     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062000" y="6350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10"/>
                </a:solidFill>
                <a:latin typeface="Arial"/>
              </a:rPr>
              <a:t>Последовательность задана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284720" y="649116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23960" y="1766880"/>
            <a:ext cx="708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a0a1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10"/>
                </a:solidFill>
                <a:latin typeface="Arial"/>
              </a:rPr>
              <a:t>Впишите пропущенные члены последова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687840" y="2774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539640" y="30686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331440" y="1397160"/>
            <a:ext cx="208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n</a:t>
            </a:r>
            <a:r>
              <a:rPr b="1" lang="ru-RU" sz="36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4"/>
          <p:cNvSpPr/>
          <p:nvPr/>
        </p:nvSpPr>
        <p:spPr>
          <a:xfrm>
            <a:off x="2094480" y="275112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___; __; 3; 11; __;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007360" y="2751120"/>
            <a:ext cx="39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- 3    -1            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8:35:33Z</dcterms:created>
  <dc:creator>Болбас А. А.</dc:creator>
  <dc:description/>
  <dc:language>en-US</dc:language>
  <cp:lastModifiedBy>Оксана</cp:lastModifiedBy>
  <dcterms:modified xsi:type="dcterms:W3CDTF">2015-02-21T14:48:00Z</dcterms:modified>
  <cp:revision>161</cp:revision>
  <dc:subject>Числовые последовательности</dc:subject>
  <dc:title>Урок по алгебре  в 9 классе</dc:title>
</cp:coreProperties>
</file>