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C3AA-9F80-4C0C-99E4-D56C76A8E5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дитерская фабрика производит продукцию трех видов: торты, пирожные и рулеты. Для их производства используется сырье трех типов: мука 1 кг, молоко 1 л., сахар 1 кг. Нормы расхода каждого из них на одну продукцию и объем расхода сырья на один день заданы таблиц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ежедневный объем выпуска каждого вида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57E3-0528-40FE-B4D3-792E0C015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ежедневно фабрика выпуск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тортов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пирожных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рулетов. Тогда в соответствии с расходом сырья каждого вида имеем сист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0,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0,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,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0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0,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0,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0,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0,0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3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12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6,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= -3,2/-0,064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= -12,8/-0,064 = 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-6,08/-0,064 = 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фабрика выпускает ежедневно 50 тортов, 200 пирожных и 95 рул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1150-4BC7-434E-AF15-30451E58D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обильный завод производит продукцию трех видов: легковые автомобили, грузовые автомобили, автобусы. Для их производства используются материалы трех типов: оцинкованная сталь 1250*2500*0,65 мм, листовой алюминий 1,5*1500*3000 мм,  чугун. Нормы расхода каждого из них на одну продукцию и объем расхода сырья на один день заданы таблиц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ежедневный объем выпуска каждого вид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45DE-2400-4F11-B5AD-482FF9C48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ежедневно завод выпуск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легковых автомобилей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грузовых автомобилей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автобусов. Тогда в соответствии с расходом сырья каждого вида имеем сист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28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28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57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24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25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3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17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18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3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2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37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1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67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= 33750/2250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= 11250/2250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6750/2250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фабрика выпускает 15 легковых автомобилей, 5 грузовых автомобилей и 3 автоб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6B08-85F5-40D0-9375-F1B0854FF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йная фабрика производит продукцию трех видов: рубашки, брюки, юбки. Для их производства используются материалы трех типов: хлопковая ткань 1200х680 мм, сатин 1300х680 мм, нити швейные 200 м. Нормы расхода каждого из них на одну продукцию и объем расхода сырья на один день заданы таблиц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ежедневный объем выпуска каждого вид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1312-A79F-4B6C-8937-9C4F9A4CC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ежедневно завод выпуск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рубашек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брюк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юбок. Тогда в соответствии с расходом сырья каждого вида имеем сист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6,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5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23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,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14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1,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0,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386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6,4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962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834,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8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= -962,4/-6,416 = 1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= -834,08/-6,416 = 1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-802/-6,416 = 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фабрика выпускает 150 рубашек, 130 брюк и 125 ю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1DB5-9ABD-41E0-AB07-441587980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трицы и основанный на нем раздел математики - матричн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ебра - имеют чрезвычайно важное значение для экономистов. Объясняется это тем, что значительная часть математических моделей экономических объектов и процессов записывается в достаточно простой, а главное - компактной матрич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пособов решения экономических задач с помощью матриц является метод, основанный на использовании формулы Крамера. Этот способ позволяет с минимальными затратами труда и времени обрабатывать разнообразный статистически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экономической задачи с помощью формулы Крамера исходные данные представляются в виде системы уравнений, в которой число уравнений системы равно числу переменных, т.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огда матрица этой системы является квадратной, а ее определитель ∆ = |А| называется определителем матр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C115-F43D-417C-BB6B-85FFE1AB4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решение системы двух уравнений с двумя переменными, в которой хотя бы один из коэффициентов при переменных отличен от ну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этой системы исключим переме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множив первое уравнение на 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торое, на (-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сложив их. Затем исключим переме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множив первое уравнение на (-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второе – на 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акже сложив их. В результате получим сист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₁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B09-BE15-4515-8622-051F50B77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ение в скобках есть определитель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₁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₂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₁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₂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₁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₂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₁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, ∆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₁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₂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имет вид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= ∆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= ∆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олученной системы следует, что если определитель системы ∆ ≠ 0, то система имеет единственное решение, определяемое по формулам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= ∆₁/∆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= ∆₂/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27DE-6E70-4A52-BD1D-78CFBE76C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∆ = 0, а ∆₁ ≠ 0 (или ∆₂ ≠ 0), то система несовместная, так как в этом случае приводится к ви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= ∆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= ∆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∆ = ∆₁ = ∆₂ = 0, то система неопределенная и имеет бесконечное множество решений, так как в этом случае приводится к ви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= 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∆ - определитель матрицы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∆ȷ - определитель матрицы, получаемой из матрицы А заме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 столбца столбцом свободных членов. Тогда, если  ∆ ≠ 0, то система имеет единственное решение, определяемое по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ȷ = ∆ȷ / ∆ (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,2,…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получила название формулы Крам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решение некоторых задач с применением вышеописа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C966-97F2-4976-8ECA-C4C68B48A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бельная фабрика выпускает изделия трех видов: стулья, столы и шкафы. Для их производства используются материалы трех типов: ЛДСП 2500х1830х25мм, МДФ 2800*2070*6 мм, ДВПО 2745*1220*3,2. Нормы расхода каждого из них на одно изделие и объем расхода материалов на один день заданы таблиц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ежедневный объем выпуска каждого вида издел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D68-1B42-47EE-9922-1B34E6D82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ежедневно фабрика выпуск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стульев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столов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шкафов. Тогда в соответствии с расходом материалов каждого вида имеем сист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1,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5,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15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7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1,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4,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11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3,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12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0,0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28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9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= 28,8/0,096 = 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= 38,4/0,096 =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9,6/0,096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фабрика выпускает ежедневно 300 стульев, 400 столов, 100 шка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0130-E248-4F3D-9FE8-33DC0FEA4D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ография производит печать продукции трех видов: газеты, журналы, книги. Для их производства используется сырье трех типов: бумага 297×420 мм, краска для печати 1 л., бумвинил 1 м². Нормы расхода каждого из них на одну продукцию и объем расхода сырья на один день заданы таблиц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ежедневный объем выпуска каждого вид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46B2-DDEA-4FE4-8628-6922D0EFE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ежедневно типография выпуск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газет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журналов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книг. Тогда в соответствии с расходом материалов каждого вида имеем сист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2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15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237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+ 2,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+ 5,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17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26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13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66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-26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₁ = -13200/(-26,4) = 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₂ = -6600/(-26,4) = 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₃ = -2640/(-26,4)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типография выпускает ежедневно 500 газет, 250 журналов и 100 кни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1D8D-66FE-4723-9E54-F294C4EB5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52A-C732-49DC-A247-2B1628D4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916-FA85-449B-93CD-17DC9D55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A2E-AA4F-4B22-B865-676D69B3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038-5D20-402C-A8C8-860D8710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ADDD-CF78-473E-8390-2809AD5A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CBEB-D46F-4080-A942-7FDE5CB9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B190-7BF5-4408-A746-4E1746BC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0A08-BFB8-483A-886C-9FB5319D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48FC-FBB7-408C-8DF4-B6FC236A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99D2-20FE-4E5E-AAEA-1429AAD9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9CF0-8AF5-4D83-A744-FD36A302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A59-9548-4032-9452-13CC37DA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63BC-A54E-4C8E-9408-2BE6056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73AD-59D0-4A6A-B3F7-6CF6A332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FC51-F457-4620-A992-7734B89F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470D-7A05-4ECD-B050-7808CAF2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C659-4794-49C4-9A73-47EE45B3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DD4BD-59C5-47FE-8F39-226F07CB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20FB7-A516-4C11-B57A-5A65D15D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B3721-E937-49B7-B4A2-539C7584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8E1DE-0C43-41E8-8178-B5EF6A11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709E2-DE97-4FC9-AAAC-4779EC56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DCB-CA46-41C1-9023-C2C09ECA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D5DBE-FAF8-44ED-AD5E-D174A0E6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FE3D7-670B-4316-990A-A236836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AD4BC-9D14-4DDE-AEB5-FC6896C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36538-087D-4C1D-AA6D-A5AF9A3A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B5580-45B5-4C6F-9EB9-B4F89348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8F51C-D646-4DF7-93F5-27118362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FA277-310C-4218-BED7-4ED168FD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A94D-9E98-4AC0-8801-2D89904F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EFE7-4468-4C35-9917-939367CF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E20C-5303-43FC-9B0D-5F2D333B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754-0DED-4952-957F-05560690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4551-63FC-4DA3-A37A-A836FAF7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24B1-969B-4930-9144-7D1700D4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776E9-DBAF-416D-831D-E5A8898A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61FA-C134-4CD3-BD05-2601EFA5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8861-87E6-4E82-AE8E-5404451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7036-A4B1-4CC0-B692-85BB6E0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04EA-14C7-4F73-BF9A-2EBB2FC5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4091-49D0-44B2-A75A-0E0916D5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5B117-A02A-4037-B93C-6FA33A71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1EB-14ED-4A90-A0D7-E2FCCAAE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3A0-7278-49E5-BD4E-01444A05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2C7-5A72-4E6A-991B-42925922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1EE-2D28-4195-BFA9-7C55841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939-C321-4CA5-9F29-C84EF39D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CA10-D2E4-4065-8C49-C1C51586918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1696-E63C-4EB7-8F10-07B31439175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8921-CE60-444D-B410-6032EB0198E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3A61-5794-40D9-84FC-8174A8CF68A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КРАЕВОЕ ГОСУДАРСТВЕННОЕ БЮДЖЕТНОЕ ПРОФЕССИОНА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«АЧИНСКИЙ  КОЛЛЕДЖ ОТРАСЛЕВЫХ ТЕХНОЛОГИЙ И БИЗНЕСА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(КГБПОУ «АЧИНСКИЙ КОЛЛЕДЖ ОТРАСЛЕВЫХ ТЕХНОЛОГИЙ И БИЗНЕСА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Решение задач в экономике методом Краме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4214520"/>
            <a:ext cx="8329680" cy="14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0" lang="ru-RU" sz="1100" spc="-1" strike="noStrike">
                <a:solidFill>
                  <a:srgbClr val="424456"/>
                </a:solidFill>
                <a:latin typeface="Georgia"/>
              </a:rPr>
              <a:t>Номинация: </a:t>
            </a:r>
            <a:r>
              <a:rPr b="0" lang="ru-RU" sz="11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0" lang="ru-RU" sz="11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1" lang="ru-RU" sz="1100" spc="-1" strike="noStrike">
                <a:solidFill>
                  <a:srgbClr val="424456"/>
                </a:solidFill>
                <a:latin typeface="Georgia"/>
              </a:rPr>
              <a:t>4. Использование математических методов для решения </a:t>
            </a:r>
            <a:r>
              <a:rPr b="1" lang="ru-RU" sz="11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1" lang="ru-RU" sz="11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1" lang="ru-RU" sz="11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1" lang="ru-RU" sz="11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1" lang="ru-RU" sz="1100" spc="-1" strike="noStrike">
                <a:solidFill>
                  <a:srgbClr val="424456"/>
                </a:solidFill>
                <a:latin typeface="Georgia"/>
              </a:rPr>
              <a:t>профессионально ориентированных задач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Студент:</a:t>
            </a: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424456"/>
                </a:solidFill>
                <a:latin typeface="Georgia"/>
              </a:rPr>
              <a:t>Гранько Дмитрий Александрович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1" lang="ru-RU" sz="1200" spc="-1" strike="noStrike">
                <a:solidFill>
                  <a:srgbClr val="424456"/>
                </a:solidFill>
                <a:latin typeface="Georgia"/>
              </a:rPr>
              <a:t>2 курс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Руководитель: </a:t>
            </a:r>
            <a:r>
              <a:rPr b="0" lang="ru-RU" sz="1200" spc="-1" strike="noStrike">
                <a:solidFill>
                  <a:srgbClr val="424456"/>
                </a:solidFill>
                <a:latin typeface="Georgia"/>
              </a:rPr>
              <a:t>	</a:t>
            </a:r>
            <a:r>
              <a:rPr b="1" lang="ru-RU" sz="1200" spc="-1" strike="noStrike">
                <a:solidFill>
                  <a:srgbClr val="424456"/>
                </a:solidFill>
                <a:latin typeface="Georgia"/>
              </a:rPr>
              <a:t>Янченко Нина Александровн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дача 3: Кондитерская фабрика производит продукцию трех видов: торты, пирожные и рулеты. Для их производства используется сырье трех типов: мука 1 кг, молоко 1 л., сахар 1 кг. Нормы расхода каждого из них на одну продукцию и объем расхода сырья на один день заданы таблицей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йти ежедневный объем выпуска каждого вида продук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D:\учебное\3.jpg"/>
          <p:cNvPicPr/>
          <p:nvPr/>
        </p:nvPicPr>
        <p:blipFill>
          <a:blip r:embed="rId1"/>
          <a:stretch/>
        </p:blipFill>
        <p:spPr>
          <a:xfrm>
            <a:off x="785880" y="3000240"/>
            <a:ext cx="792000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усть ежедневно фабрика выпускает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тортов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пирожных 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рулетов. Тогда в соответствии с расходом сырья каждого вида имеем систему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,6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0,3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0,8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21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,7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0,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0,6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23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0,6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0,1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0,4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8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0,06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₁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3,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₂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12,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₃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6,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= -3,2/-0,064= 5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= -12,8/-0,064 = 2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-6,08/-0,064 = 9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вет: фабрика выпускает ежедневно 50 тортов, 200 пирожных и 95 рулет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Левая фигурная скобка 3"/>
          <p:cNvSpPr/>
          <p:nvPr/>
        </p:nvSpPr>
        <p:spPr>
          <a:xfrm>
            <a:off x="714240" y="2286000"/>
            <a:ext cx="214560" cy="85716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857160"/>
              <a:gd name="textAreaBottom" fmla="*/ 8517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дача 4: Автомобильный завод производит продукцию трех видов: легковые автомобили, грузовые автомобили, автобусы. Для их производства используются материалы трех типов: оцинкованная сталь 1250*2500*0,65 мм, листовой алюминий 1,5*1500*3000 мм,  чугун. Нормы расхода каждого из них на одну продукцию и объем расхода сырья на один день заданы таблицей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йти ежедневный объем выпуска каждого вида продукци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D:\учебное\4.jpg"/>
          <p:cNvPicPr/>
          <p:nvPr/>
        </p:nvPicPr>
        <p:blipFill>
          <a:blip r:embed="rId1"/>
          <a:stretch/>
        </p:blipFill>
        <p:spPr>
          <a:xfrm>
            <a:off x="1071720" y="2643120"/>
            <a:ext cx="71992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усть ежедневно завод выпускает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легковых автомобилей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грузовых автомобилей 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автобусов. Тогда в соответствии с расходом сырья каждого вида имеем систему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3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280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28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578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3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240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25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399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17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18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300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225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₁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3375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₂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1125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₃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675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= 33750/2250 = 1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= 11250/2250 = 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6750/2250 = 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вет: фабрика выпускает 15 легковых автомобилей, 5 грузовых автомобилей и 3 автобус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Левая фигурная скобка 4"/>
          <p:cNvSpPr/>
          <p:nvPr/>
        </p:nvSpPr>
        <p:spPr>
          <a:xfrm>
            <a:off x="785880" y="2357280"/>
            <a:ext cx="142920" cy="9288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928800"/>
              <a:gd name="textAreaBottom" fmla="*/ 9252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5400" y="10800"/>
                  <a:pt x="0" y="10800"/>
                </a:cubicBezTo>
                <a:cubicBezTo>
                  <a:pt x="54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дача 5: Швейная фабрика производит продукцию трех видов: рубашки, брюки, юбки. Для их производства используются материалы трех типов: хлопковая ткань 1200х680 мм, сатин 1300х680 мм, нити швейные 200 м. Нормы расхода каждого из них на одну продукцию и объем расхода сырья на один день заданы таблицей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йти ежедневный объем выпуска каждого вида продукци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2" descr="D:\учебное\5.jpg"/>
          <p:cNvPicPr/>
          <p:nvPr/>
        </p:nvPicPr>
        <p:blipFill>
          <a:blip r:embed="rId1"/>
          <a:stretch/>
        </p:blipFill>
        <p:spPr>
          <a:xfrm>
            <a:off x="785880" y="2500200"/>
            <a:ext cx="7912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усть ежедневно завод выпускает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рубашек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брюк 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юбок. Тогда в соответствии с расходом сырья каждого вида имеем систему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,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6,3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5,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239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6,1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141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0,7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1,3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0,9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386,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6,41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₁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962,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₂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834,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₃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80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= -962,4/-6,416 = 15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= -834,08/-6,416 = 13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-802/-6,416 = 1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вет: фабрика выпускает 150 рубашек, 130 брюк и 125 юбок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Левая фигурная скобка 3"/>
          <p:cNvSpPr/>
          <p:nvPr/>
        </p:nvSpPr>
        <p:spPr>
          <a:xfrm>
            <a:off x="714240" y="2071800"/>
            <a:ext cx="214560" cy="92844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928440"/>
              <a:gd name="textAreaBottom" fmla="*/ 92304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новы высшей математики: Учеб. пособие для вузов/В.С. Шипачев; под ред.акад. А.Н. Тихонова. —5-е изд.,стер. — М. Высш. Шк., 2003. — 279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сшая математика для экономистов: учебное пособие для студентов экономических специальностей высших учебных заведений /Н.Ш Кремер, Б.А. Путко. — М.: Банки и биржи ЮНИТИ, 1997. – 239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атематика. Задачник : учеб. Пособие для образоват. Учреждений нач. и сред. Проф. образования / М.И. Башмаков. — 3-е изд., стер. — М.: Издательский центр «Акадения», 2013. —416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дним из способов решения экономических задач с помощью матриц является метод, основанный на использовании формулы Крамера. Этот способ позволяет с минимальными затратами труда и времени обрабатывать разнообразный статистический материал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₂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₂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₁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₁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Левая фигурная скобка 6"/>
          <p:cNvSpPr/>
          <p:nvPr/>
        </p:nvSpPr>
        <p:spPr>
          <a:xfrm>
            <a:off x="714240" y="1857240"/>
            <a:ext cx="142920" cy="8575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57520"/>
              <a:gd name="textAreaBottom" fmla="*/ 85392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Левая фигурная скобка 8"/>
          <p:cNvSpPr/>
          <p:nvPr/>
        </p:nvSpPr>
        <p:spPr>
          <a:xfrm>
            <a:off x="714240" y="4143240"/>
            <a:ext cx="142920" cy="9288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928800"/>
              <a:gd name="textAreaBottom" fmla="*/ 9252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5400" y="10800"/>
                  <a:pt x="0" y="10800"/>
                </a:cubicBezTo>
                <a:cubicBezTo>
                  <a:pt x="54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∆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₁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₂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₁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, ∆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₁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₁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=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∆ ∙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₁ = ∆₁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∆ ∙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₂ = ∆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∆ ≠ 0, то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₁ = ∆₁/∆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₂ = ∆₂/∆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497400" y="1214280"/>
                <a:ext cx="1003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8"/>
              <p:cNvSpPr txBox="1"/>
              <p:nvPr/>
            </p:nvSpPr>
            <p:spPr>
              <a:xfrm>
                <a:off x="3441600" y="2857680"/>
                <a:ext cx="916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9"/>
              <p:cNvSpPr txBox="1"/>
              <p:nvPr/>
            </p:nvSpPr>
            <p:spPr>
              <a:xfrm>
                <a:off x="7083360" y="2857680"/>
                <a:ext cx="917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Левая фигурная скобка 9"/>
          <p:cNvSpPr/>
          <p:nvPr/>
        </p:nvSpPr>
        <p:spPr>
          <a:xfrm>
            <a:off x="714240" y="4357800"/>
            <a:ext cx="142920" cy="785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85880"/>
              <a:gd name="textAreaBottom" fmla="*/ 7822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785880"/>
            <a:ext cx="8229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сли ∆ = 0, а ∆₁ ≠ 0 (или ∆₂ ≠ 0), то система несовместна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0 ∙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₁ = ∆₁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0 ∙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₂ = ∆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сли ∆ = ∆₁ = ∆₂ = 0, то система неопределенная и имеет бесконечное множество реше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0 ∙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₁ = 0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0 ∙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₂ = 0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сть ∆ - определитель матрицы системы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а ∆ȷ - определитель матрицы, получаемой из матрицы А заменой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го столбца столбцом свободных членов. Тогда, если  ∆ ≠ 0, то система имеет единственное решение, определяемое по формуле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ȷ = ∆ȷ / ∆ (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= 1,2,…,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а формула получила название формулы Крамер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Левая фигурная скобка 6"/>
          <p:cNvSpPr/>
          <p:nvPr/>
        </p:nvSpPr>
        <p:spPr>
          <a:xfrm>
            <a:off x="785880" y="1285920"/>
            <a:ext cx="71280" cy="57132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571320"/>
              <a:gd name="textAreaBottom" fmla="*/ 56952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Левая фигурная скобка 7"/>
          <p:cNvSpPr/>
          <p:nvPr/>
        </p:nvSpPr>
        <p:spPr>
          <a:xfrm>
            <a:off x="785880" y="3000240"/>
            <a:ext cx="71280" cy="5000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500040"/>
              <a:gd name="textAreaBottom" fmla="*/ 49824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5400" y="10800"/>
                  <a:pt x="0" y="10800"/>
                </a:cubicBezTo>
                <a:cubicBezTo>
                  <a:pt x="54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дача 1: Мебельная фабрика выпускает изделия трех видов: стулья, столы и шкафы. Для их производства используются материалы трех типов: ЛДСП 2500х1830х25мм, МДФ 2800*2070*6 мм, ДВПО 2745*1220*3,2. Нормы расхода каждого из них на одно изделие и объем расхода материалов на один день заданы таблицей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йти ежедневный объем выпуска каждого вида издели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5" descr="D:\учебное\1.JPG"/>
          <p:cNvPicPr/>
          <p:nvPr/>
        </p:nvPicPr>
        <p:blipFill>
          <a:blip r:embed="rId1"/>
          <a:stretch/>
        </p:blipFill>
        <p:spPr>
          <a:xfrm>
            <a:off x="676440" y="2500200"/>
            <a:ext cx="7896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усть ежедневно фабрика выпускает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стульев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столов 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шкафов. Тогда в соответствии с расходом материалов каждого вида имеем систему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0,9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1,8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5,7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156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0,7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1,3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4,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119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0,4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3,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127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0,0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₁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28,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₂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38,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₃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9,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= 28,8/0,096 = 3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= 38,4/0,096 = 4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9,6/0,096 = 1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вет: фабрика выпускает ежедневно 300 стульев, 400 столов, 100 шкаф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Левая фигурная скобка 3"/>
          <p:cNvSpPr/>
          <p:nvPr/>
        </p:nvSpPr>
        <p:spPr>
          <a:xfrm>
            <a:off x="714240" y="2286000"/>
            <a:ext cx="214560" cy="92880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928800"/>
              <a:gd name="textAreaBottom" fmla="*/ 9234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дача 2: Типография производит печать продукции трех видов: газеты, журналы, книги. Для их производства используется сырье трех типов: бумага 297×420 мм, краска для печати 1 л., бумвинил 1 м². Нормы расхода каждого из них на одну продукцию и объем расхода сырья на один день заданы таблицей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йти ежедневный объем выпуска каждого вида продукци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2" descr="D:\учебное\2.jpg"/>
          <p:cNvPicPr/>
          <p:nvPr/>
        </p:nvPicPr>
        <p:blipFill>
          <a:blip r:embed="rId1"/>
          <a:stretch/>
        </p:blipFill>
        <p:spPr>
          <a:xfrm>
            <a:off x="857160" y="2786040"/>
            <a:ext cx="7896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усть ежедневно типография выпускает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газет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журналов 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книг. Тогда в соответствии с расходом материалов каждого вида имеем систему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2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150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2375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,3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+ 2,1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+ 5,4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171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12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26,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₁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132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₂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66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∆₃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= -264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₁ = -13200/(-26,4) = 5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₂ = -6600/(-26,4) = 25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₃ = -2640/(-26,4) = 1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вет: типография выпускает ежедневно 500 газет, 250 журналов и 100 кни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Левая фигурная скобка 3"/>
          <p:cNvSpPr/>
          <p:nvPr/>
        </p:nvSpPr>
        <p:spPr>
          <a:xfrm>
            <a:off x="714240" y="2286000"/>
            <a:ext cx="214560" cy="85716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857160"/>
              <a:gd name="textAreaBottom" fmla="*/ 8517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09:25:44Z</dcterms:created>
  <dc:creator>silent24</dc:creator>
  <dc:description/>
  <dc:language>en-US</dc:language>
  <cp:lastModifiedBy>Пользователь</cp:lastModifiedBy>
  <dcterms:modified xsi:type="dcterms:W3CDTF">2015-01-17T07:41:58Z</dcterms:modified>
  <cp:revision>25</cp:revision>
  <dc:subject/>
  <dc:title>Решение задач в экономике методом Крамера</dc:title>
</cp:coreProperties>
</file>