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gif" ContentType="image/gif"/>
  <Override PartName="/ppt/media/image14.jpeg" ContentType="image/jpeg"/>
  <Override PartName="/ppt/media/image13.jpeg" ContentType="image/jpeg"/>
  <Override PartName="/ppt/media/image20.gif" ContentType="image/gif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2.jpeg" ContentType="image/jpeg"/>
  <Override PartName="/ppt/media/image27.gif" ContentType="image/gif"/>
  <Override PartName="/ppt/media/image26.jpeg" ContentType="image/jpeg"/>
  <Override PartName="/ppt/media/image1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527C-85DE-4254-8FC6-5DD670FEF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27AD7-DA79-4D93-81B3-27DDFE886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2B17-7CEE-4CD5-BA08-9C2B6CC32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3023-9E15-434C-87A8-3BCEE0BF33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2FE9-3680-4448-9D63-038B57BA3E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B85D-E5C2-472C-8306-824479A6E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37357-A9C0-4499-81F0-9C95CE341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3B718-466C-4DB3-A8B6-6A90867D6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780B-652E-4F87-9CDF-21F2A04E8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DAF4-334A-47ED-B7D5-325257B1E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48426-B2BC-43B2-A0B7-0138C9DB0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013C-138F-4764-8327-4FD452D9D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D5ACAB-2921-4A2A-B373-DFB3150DF016}" type="slidenum">
              <a:rPr b="0" lang="ru-RU" sz="18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825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Чтобы спорилось нужное дело, 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Чтобы в жизни не знать неудач, 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Мы в поход отправляемся смело 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В мир загадок и сложных задач. 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Математику без границ открываю. 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Всем успехов пожелаю. 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Думать, мыслить, не зевать, 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Быстро все в уме считать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1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теорема – проблема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1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равнение – сравнение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1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решение – сомнение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1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задача – неудач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487520" cy="1557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5400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онкурс 5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981000"/>
            <a:ext cx="8424720" cy="530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театр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ниатюр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305080" cy="174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Конкурс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Найди лишне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лово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айди лишнее сл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197000"/>
            <a:ext cx="8229600" cy="54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ктар, сотка, ме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ус, квадрат, пр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ямая, отрезок, уг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апеция, круг, ром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ет, гипотенуза, осн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агаемое, множитель, су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рд, тонна, цент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угольник, прямоугольник, ром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Конкурс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Эстафета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74072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Конкурс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371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Зашифрованна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ловица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140360" y="1341360"/>
            <a:ext cx="46195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 есми якенн ятид бзе загал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на ашаприяв цова вес одаст приотт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82520" y="1127160"/>
            <a:ext cx="3249720" cy="4243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онкурс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4360" y="2060640"/>
            <a:ext cx="7848360" cy="345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Немного лирики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1440"/>
            <a:ext cx="300816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56000" y="272880"/>
            <a:ext cx="43308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лукоморья дуб зелёный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латая цепь на дубе том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нём и ночью кот учёны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ё ходит по цепи кру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2276640"/>
            <a:ext cx="367200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7 30 48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40 10 01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26 138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40 3 501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3456000" cy="3141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72880"/>
            <a:ext cx="30081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11640" y="272880"/>
            <a:ext cx="447516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шка сын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    к отцу пришел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спросила кроха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Что тако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    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орош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что тако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    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хо?-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434960"/>
            <a:ext cx="339408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46 38 1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16 14 20!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5 14 21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4 0 17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8360" y="115920"/>
            <a:ext cx="338292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870200" y="549360"/>
            <a:ext cx="7273800" cy="5302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МАТЕМАТИКА БЕЗ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РАНИЦ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20080" y="4508640"/>
            <a:ext cx="2023920" cy="2349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80" y="407880"/>
            <a:ext cx="1908000" cy="6303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75160" y="272880"/>
            <a:ext cx="5111640" cy="65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ая берёз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моим окно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акрылась снегом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 серебро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ушистых ветка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ежною каймо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устились кист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ой бахр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стоит берез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нной тишин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горят снежин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олотом огн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434960"/>
            <a:ext cx="30081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 126 14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2 17 43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6 42... 511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04 83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0! 16 39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14 700 142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12 349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 114 0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-27000"/>
            <a:ext cx="324000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Конкурс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математическа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арада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619280" y="1484280"/>
            <a:ext cx="934920" cy="136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43720" y="1428840"/>
            <a:ext cx="934920" cy="136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95640" y="4365720"/>
            <a:ext cx="935280" cy="136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5880" y="1214280"/>
            <a:ext cx="7429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исе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 мо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в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г возьмите,</a:t>
            </a: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тор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з слова «гордецы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етьи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ошадей вы погоните,</a:t>
            </a: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етверт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дет блеянье овц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ят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г такой же как и первы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ей буквой в алфавите являет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ест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сли отгадаешь ты все верн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в математике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азде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учишь ты та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57120" y="1000080"/>
            <a:ext cx="8229600" cy="52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кружится, что ложить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 землю, и на крыш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о чем поэт зимою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ночам поэмы пишет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ервое словечко, а второе просто «на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, а третье? Угадайте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бежит по проводам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ши, что получилось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рочти наоборо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путайся, чита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задом напе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Конкурс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Художники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214360" cy="2314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курс № 1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84320" y="1428840"/>
            <a:ext cx="6702480" cy="2786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раз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4200" y="714240"/>
            <a:ext cx="871560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Каждый человек подобен дро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336600"/>
                </a:solidFill>
                <a:uFillTx/>
                <a:latin typeface="Arial"/>
              </a:rPr>
              <a:t>Числитель</a:t>
            </a: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 то, что человек из себя представля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336600"/>
                </a:solidFill>
                <a:uFillTx/>
                <a:latin typeface="Arial"/>
              </a:rPr>
              <a:t>Знаменател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то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Конкурс 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60480" y="1484280"/>
            <a:ext cx="7283520" cy="4276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Лейся песня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480" y="334800"/>
            <a:ext cx="1908000" cy="6303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860480" y="1413000"/>
            <a:ext cx="7283520" cy="4276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 новых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треч  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480" y="195120"/>
            <a:ext cx="1908000" cy="6302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онкурс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85920" y="3071880"/>
            <a:ext cx="628632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1040" y="1706400"/>
            <a:ext cx="8242560" cy="3872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онкурс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32720" y="4292640"/>
            <a:ext cx="2190600" cy="230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714240" y="857160"/>
            <a:ext cx="7777440" cy="530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Минута славы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936800" cy="1909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5400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онкурс 3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981000"/>
            <a:ext cx="8425080" cy="1727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Чёрный ящик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87280" y="2708280"/>
            <a:ext cx="712980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87280" y="1152360"/>
            <a:ext cx="3888000" cy="27054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519280" y="4143240"/>
            <a:ext cx="4175280" cy="2551320"/>
            <a:chOff x="2519280" y="4143240"/>
            <a:chExt cx="4175280" cy="25513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2519280" y="4143240"/>
              <a:ext cx="4175280" cy="25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519280" y="4143240"/>
              <a:ext cx="4175280" cy="25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680000" y="1224000"/>
            <a:ext cx="410364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47880" y="803160"/>
            <a:ext cx="2939760" cy="286884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4896000" y="4143240"/>
            <a:ext cx="3741480" cy="2551320"/>
            <a:chOff x="4896000" y="4143240"/>
            <a:chExt cx="3741480" cy="2551320"/>
          </a:xfrm>
        </p:grpSpPr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4896000" y="4143240"/>
              <a:ext cx="3741480" cy="25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896000" y="4143240"/>
              <a:ext cx="3741480" cy="25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751280" y="936720"/>
            <a:ext cx="3672000" cy="2735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936720" y="4032360"/>
            <a:ext cx="324000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040360" y="4403880"/>
            <a:ext cx="3095640" cy="14284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936720" y="720720"/>
            <a:ext cx="2806560" cy="2878200"/>
            <a:chOff x="936720" y="720720"/>
            <a:chExt cx="2806560" cy="2878200"/>
          </a:xfrm>
        </p:grpSpPr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936720" y="720720"/>
              <a:ext cx="2806560" cy="28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936720" y="720720"/>
              <a:ext cx="2806560" cy="28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714920" y="1285920"/>
            <a:ext cx="3349440" cy="253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428840" y="4357800"/>
            <a:ext cx="2171520" cy="2122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5400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онкурс 4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9640" y="907920"/>
            <a:ext cx="8425080" cy="530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Поэтический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2774880" cy="1352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7:14:03Z</dcterms:created>
  <dc:creator>1</dc:creator>
  <dc:description/>
  <dc:language>en-US</dc:language>
  <cp:lastModifiedBy>1</cp:lastModifiedBy>
  <cp:lastPrinted>2014-12-17T15:22:32Z</cp:lastPrinted>
  <dcterms:modified xsi:type="dcterms:W3CDTF">2014-12-18T06:01:36Z</dcterms:modified>
  <cp:revision>91</cp:revision>
  <dc:subject/>
  <dc:title>Слайд 1</dc:title>
</cp:coreProperties>
</file>