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27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F05-2BB5-428C-B4BD-236A13DA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5ED-085D-43F1-85E7-360421A4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DE7E-637E-471C-B9B0-264AB941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10F-3FE5-4B5C-BE93-9FDC6198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E281-CE29-4491-B509-1F5EE24E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5C88-D8F9-46A7-A31F-B900B4C6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4AC-37D2-487A-B4A7-17A3CD61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68BB-E6D7-47A1-B47C-0D51C517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E03-F2D1-44CB-8146-D6351941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141-4725-494D-B7F2-CEDC45A6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218C-093F-453F-B8BD-1C2E686D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5FA-0C3E-4548-82B9-358C36B3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F303-80D3-4A61-8A73-AAB4E5322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thology.ru/Egypt.html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4;&#1088;&#1077;&#1074;&#1085;&#1080;&#1081;_&#1045;&#1075;&#1080;&#1087;&#1077;&#1090;" TargetMode="External"/><Relationship Id="rId3" Type="http://schemas.openxmlformats.org/officeDocument/2006/relationships/hyperlink" Target="http://ru.wikipedia.org/wiki/&#1041;&#1086;&#1075;" TargetMode="External"/><Relationship Id="rId4" Type="http://schemas.openxmlformats.org/officeDocument/2006/relationships/hyperlink" Target="http://ru.wikipedia.org/wiki/&#1057;&#1086;&#1083;&#1085;&#1094;&#1077;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16.png"/><Relationship Id="rId8" Type="http://schemas.openxmlformats.org/officeDocument/2006/relationships/image" Target="../media/image19.png"/><Relationship Id="rId9" Type="http://schemas.openxmlformats.org/officeDocument/2006/relationships/image" Target="../media/image22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16.png"/><Relationship Id="rId8" Type="http://schemas.openxmlformats.org/officeDocument/2006/relationships/image" Target="../media/image19.png"/><Relationship Id="rId9" Type="http://schemas.openxmlformats.org/officeDocument/2006/relationships/image" Target="../media/image22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16.png"/><Relationship Id="rId8" Type="http://schemas.openxmlformats.org/officeDocument/2006/relationships/image" Target="../media/image19.png"/><Relationship Id="rId9" Type="http://schemas.openxmlformats.org/officeDocument/2006/relationships/image" Target="../media/image22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16.png"/><Relationship Id="rId8" Type="http://schemas.openxmlformats.org/officeDocument/2006/relationships/image" Target="../media/image19.png"/><Relationship Id="rId9" Type="http://schemas.openxmlformats.org/officeDocument/2006/relationships/image" Target="../media/image22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16.png"/><Relationship Id="rId8" Type="http://schemas.openxmlformats.org/officeDocument/2006/relationships/image" Target="../media/image19.png"/><Relationship Id="rId9" Type="http://schemas.openxmlformats.org/officeDocument/2006/relationships/image" Target="../media/image22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1371600"/>
            <a:ext cx="5943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50021"/>
                </a:solidFill>
                <a:latin typeface="Bookman Old Style"/>
              </a:rPr>
              <a:t>Боги Древнего Егип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742840" y="3657240"/>
            <a:ext cx="44197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0" y="3048120"/>
            <a:ext cx="5257800" cy="167616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676160" y="990360"/>
            <a:ext cx="6553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Сехмет или Сохмет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("могучая"), в египетской мифологии </a:t>
            </a: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богин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войны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и палящего солнца, дочь Ра, жена Птаха, мать бога растительности Неферту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ященное животное Сехмет — львица. Богиню изображали в виде женщины с головой львицы и почитали во всем Егип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990720" cy="190476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3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3022560" cy="4114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61" name="Rectangle 3" descr=""/>
          <p:cNvPicPr/>
          <p:nvPr/>
        </p:nvPicPr>
        <p:blipFill>
          <a:blip r:embed="rId3"/>
          <a:stretch/>
        </p:blipFill>
        <p:spPr>
          <a:xfrm>
            <a:off x="5029200" y="1143000"/>
            <a:ext cx="3124080" cy="41911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057040" y="837720"/>
            <a:ext cx="61722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0000"/>
                </a:solidFill>
                <a:uFillTx/>
                <a:latin typeface="Times New Roman"/>
              </a:rPr>
              <a:t>Себек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– в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египетской мифологии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 бог воды и разлива священной реки Ни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зображался чаще всего с головой крокодила – считается, что данный бог отпугивает силы тьмы, а также защищает всех богов и люд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990720" y="1600200"/>
            <a:ext cx="1095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ectangle 3" descr=""/>
          <p:cNvPicPr/>
          <p:nvPr/>
        </p:nvPicPr>
        <p:blipFill>
          <a:blip r:embed="rId2"/>
          <a:stretch/>
        </p:blipFill>
        <p:spPr>
          <a:xfrm>
            <a:off x="2286000" y="1371600"/>
            <a:ext cx="2286000" cy="39625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65" name="Rectangle 3" descr=""/>
          <p:cNvPicPr/>
          <p:nvPr/>
        </p:nvPicPr>
        <p:blipFill>
          <a:blip r:embed="rId3"/>
          <a:stretch/>
        </p:blipFill>
        <p:spPr>
          <a:xfrm>
            <a:off x="5486400" y="1295280"/>
            <a:ext cx="2362320" cy="39625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981080" y="7621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Тот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, в египетской мифологии бог луны, мудрости, счета и письма, покровитель наук, писцов, священных книг, создатель календа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вященными животными бога Тот были ибис и павиан, и поэтому бога часто изображали в виде человека с головой ибиса, иногда с папирусом и письменным прибором в ру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1295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ectangle 3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3302280" cy="4343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69" name="Rectangle 3" descr=""/>
          <p:cNvPicPr/>
          <p:nvPr/>
        </p:nvPicPr>
        <p:blipFill>
          <a:blip r:embed="rId3"/>
          <a:stretch/>
        </p:blipFill>
        <p:spPr>
          <a:xfrm>
            <a:off x="4876920" y="1066680"/>
            <a:ext cx="3429000" cy="4419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133360" y="914040"/>
            <a:ext cx="6095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Щедрым и добрым богом Нила, повелителем наводнений, которые приносят на поля плодовитый ил, является египетский </a:t>
            </a: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бог Хап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н опекал берега, чтобы они не засыхали, пашни – чтобы давали щедрые урожаи, луга – чтобы росла для скота сочная тр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12189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Rectangle 3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2971800" cy="42674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73" name="Rectangle 3" descr=""/>
          <p:cNvPicPr/>
          <p:nvPr/>
        </p:nvPicPr>
        <p:blipFill>
          <a:blip r:embed="rId3"/>
          <a:stretch/>
        </p:blipFill>
        <p:spPr>
          <a:xfrm>
            <a:off x="5029200" y="1066680"/>
            <a:ext cx="3144960" cy="42674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057040" y="914040"/>
            <a:ext cx="61722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Анубис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считают создателем погребальных обрядов, покровителем некрополей, и называют богом бальзам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Анубис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также помогал судить умерших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Анубис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изображали в виде волка, шакала или дикой собаки Саб черного цвета (или человека с головой шакала или собаки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1371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ctangle 3" descr=""/>
          <p:cNvPicPr/>
          <p:nvPr/>
        </p:nvPicPr>
        <p:blipFill>
          <a:blip r:embed="rId2"/>
          <a:stretch/>
        </p:blipFill>
        <p:spPr>
          <a:xfrm>
            <a:off x="2209680" y="1066680"/>
            <a:ext cx="2276640" cy="45259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77" name="Rectangle 3" descr=""/>
          <p:cNvPicPr/>
          <p:nvPr/>
        </p:nvPicPr>
        <p:blipFill>
          <a:blip r:embed="rId3"/>
          <a:stretch/>
        </p:blipFill>
        <p:spPr>
          <a:xfrm>
            <a:off x="5638680" y="1066680"/>
            <a:ext cx="2419560" cy="4343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837720"/>
            <a:ext cx="807696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Times New Roman"/>
              </a:rPr>
              <a:t>Р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—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древнеегипетский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бог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солнц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верховное божество древних египтян. Его имя означает «Солнц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Р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почитался как царь и отец богов. Отождествлялся с богом Амоном. Изображался в облике фара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391520" y="1752480"/>
            <a:ext cx="895320" cy="12956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66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Найди и расскажи о Боге Сол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Rectangle 3" descr=""/>
          <p:cNvPicPr/>
          <p:nvPr/>
        </p:nvPicPr>
        <p:blipFill>
          <a:blip r:embed="rId2"/>
          <a:stretch/>
        </p:blipFill>
        <p:spPr>
          <a:xfrm>
            <a:off x="1828800" y="1600200"/>
            <a:ext cx="1165320" cy="21859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0" name="Rectangle 3" descr=""/>
          <p:cNvPicPr/>
          <p:nvPr/>
        </p:nvPicPr>
        <p:blipFill>
          <a:blip r:embed="rId3"/>
          <a:stretch/>
        </p:blipFill>
        <p:spPr>
          <a:xfrm>
            <a:off x="6553080" y="3886200"/>
            <a:ext cx="957240" cy="21859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1" name="Rectangle 3" descr=""/>
          <p:cNvPicPr/>
          <p:nvPr/>
        </p:nvPicPr>
        <p:blipFill>
          <a:blip r:embed="rId4"/>
          <a:stretch/>
        </p:blipFill>
        <p:spPr>
          <a:xfrm>
            <a:off x="685800" y="1600200"/>
            <a:ext cx="1008000" cy="2187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2" name="Rectangle 3" descr=""/>
          <p:cNvPicPr/>
          <p:nvPr/>
        </p:nvPicPr>
        <p:blipFill>
          <a:blip r:embed="rId5"/>
          <a:stretch/>
        </p:blipFill>
        <p:spPr>
          <a:xfrm>
            <a:off x="3276720" y="1600200"/>
            <a:ext cx="1055520" cy="2133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4648320" y="1600200"/>
            <a:ext cx="1143000" cy="2133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2666880" y="3886200"/>
            <a:ext cx="990720" cy="2152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6172200" y="1600200"/>
            <a:ext cx="1066680" cy="2133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4419720" y="3886200"/>
            <a:ext cx="1218960" cy="22096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7467480" y="1523880"/>
            <a:ext cx="990720" cy="2210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66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Найди и расскажи о Боге Осири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1828800" y="1600200"/>
            <a:ext cx="1165320" cy="21859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90" name="Rectangle 3" descr=""/>
          <p:cNvPicPr/>
          <p:nvPr/>
        </p:nvPicPr>
        <p:blipFill>
          <a:blip r:embed="rId3"/>
          <a:stretch/>
        </p:blipFill>
        <p:spPr>
          <a:xfrm>
            <a:off x="6553080" y="3886200"/>
            <a:ext cx="957240" cy="21859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91" name="Rectangle 3" descr=""/>
          <p:cNvPicPr/>
          <p:nvPr/>
        </p:nvPicPr>
        <p:blipFill>
          <a:blip r:embed="rId4"/>
          <a:stretch/>
        </p:blipFill>
        <p:spPr>
          <a:xfrm>
            <a:off x="685800" y="1600200"/>
            <a:ext cx="1008000" cy="2187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92" name="Rectangle 3" descr=""/>
          <p:cNvPicPr/>
          <p:nvPr/>
        </p:nvPicPr>
        <p:blipFill>
          <a:blip r:embed="rId5"/>
          <a:stretch/>
        </p:blipFill>
        <p:spPr>
          <a:xfrm>
            <a:off x="3276720" y="1600200"/>
            <a:ext cx="1055520" cy="2133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4648320" y="1600200"/>
            <a:ext cx="1143000" cy="2133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2666880" y="3886200"/>
            <a:ext cx="990720" cy="2152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6172200" y="1600200"/>
            <a:ext cx="1066680" cy="2133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4419720" y="3886200"/>
            <a:ext cx="1218960" cy="22096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7467480" y="1523880"/>
            <a:ext cx="990720" cy="2210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66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Какой Бог покровитель умерш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2"/>
          <a:stretch/>
        </p:blipFill>
        <p:spPr>
          <a:xfrm>
            <a:off x="1828800" y="1600200"/>
            <a:ext cx="1165320" cy="21859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00" name="Rectangle 3" descr=""/>
          <p:cNvPicPr/>
          <p:nvPr/>
        </p:nvPicPr>
        <p:blipFill>
          <a:blip r:embed="rId3"/>
          <a:stretch/>
        </p:blipFill>
        <p:spPr>
          <a:xfrm>
            <a:off x="6553080" y="3886200"/>
            <a:ext cx="957240" cy="21859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01" name="Rectangle 3" descr=""/>
          <p:cNvPicPr/>
          <p:nvPr/>
        </p:nvPicPr>
        <p:blipFill>
          <a:blip r:embed="rId4"/>
          <a:stretch/>
        </p:blipFill>
        <p:spPr>
          <a:xfrm>
            <a:off x="685800" y="1600200"/>
            <a:ext cx="1008000" cy="2187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02" name="Rectangle 3" descr=""/>
          <p:cNvPicPr/>
          <p:nvPr/>
        </p:nvPicPr>
        <p:blipFill>
          <a:blip r:embed="rId5"/>
          <a:stretch/>
        </p:blipFill>
        <p:spPr>
          <a:xfrm>
            <a:off x="3276720" y="1600200"/>
            <a:ext cx="1055520" cy="2133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4648320" y="1600200"/>
            <a:ext cx="1143000" cy="2133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2666880" y="3886200"/>
            <a:ext cx="990720" cy="2152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6172200" y="1600200"/>
            <a:ext cx="1066680" cy="2133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4419720" y="3886200"/>
            <a:ext cx="1218960" cy="22096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7467480" y="1523880"/>
            <a:ext cx="990720" cy="2210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95280" y="1600200"/>
            <a:ext cx="3200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Ануби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ectangle 3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36232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66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Какой бог научил людей земледелию, виноградарству и виноделию?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Rectangle 3" descr=""/>
          <p:cNvPicPr/>
          <p:nvPr/>
        </p:nvPicPr>
        <p:blipFill>
          <a:blip r:embed="rId2"/>
          <a:stretch/>
        </p:blipFill>
        <p:spPr>
          <a:xfrm>
            <a:off x="1828800" y="1600200"/>
            <a:ext cx="1165320" cy="21859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12" name="Rectangle 3" descr=""/>
          <p:cNvPicPr/>
          <p:nvPr/>
        </p:nvPicPr>
        <p:blipFill>
          <a:blip r:embed="rId3"/>
          <a:stretch/>
        </p:blipFill>
        <p:spPr>
          <a:xfrm>
            <a:off x="6553080" y="3886200"/>
            <a:ext cx="957240" cy="21859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13" name="Rectangle 3" descr=""/>
          <p:cNvPicPr/>
          <p:nvPr/>
        </p:nvPicPr>
        <p:blipFill>
          <a:blip r:embed="rId4"/>
          <a:stretch/>
        </p:blipFill>
        <p:spPr>
          <a:xfrm>
            <a:off x="685800" y="1600200"/>
            <a:ext cx="1008000" cy="2187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14" name="Rectangle 3" descr=""/>
          <p:cNvPicPr/>
          <p:nvPr/>
        </p:nvPicPr>
        <p:blipFill>
          <a:blip r:embed="rId5"/>
          <a:stretch/>
        </p:blipFill>
        <p:spPr>
          <a:xfrm>
            <a:off x="3276720" y="1600200"/>
            <a:ext cx="1055520" cy="2133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4648320" y="1600200"/>
            <a:ext cx="1143000" cy="2133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2666880" y="3886200"/>
            <a:ext cx="990720" cy="2152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172200" y="1600200"/>
            <a:ext cx="1066680" cy="2133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4419720" y="3886200"/>
            <a:ext cx="1218960" cy="22096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7467480" y="1523880"/>
            <a:ext cx="990720" cy="2210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295280" y="15998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Осири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Rectangle 3" descr=""/>
          <p:cNvPicPr/>
          <p:nvPr/>
        </p:nvPicPr>
        <p:blipFill>
          <a:blip r:embed="rId2"/>
          <a:stretch/>
        </p:blipFill>
        <p:spPr>
          <a:xfrm>
            <a:off x="5181480" y="914400"/>
            <a:ext cx="2590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66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Какой бог поможет египтянину научиться пис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Rectangle 3" descr=""/>
          <p:cNvPicPr/>
          <p:nvPr/>
        </p:nvPicPr>
        <p:blipFill>
          <a:blip r:embed="rId2"/>
          <a:stretch/>
        </p:blipFill>
        <p:spPr>
          <a:xfrm>
            <a:off x="1828800" y="1600200"/>
            <a:ext cx="1165320" cy="21859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24" name="Rectangle 3" descr=""/>
          <p:cNvPicPr/>
          <p:nvPr/>
        </p:nvPicPr>
        <p:blipFill>
          <a:blip r:embed="rId3"/>
          <a:stretch/>
        </p:blipFill>
        <p:spPr>
          <a:xfrm>
            <a:off x="6553080" y="3886200"/>
            <a:ext cx="957240" cy="21859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25" name="Rectangle 3" descr=""/>
          <p:cNvPicPr/>
          <p:nvPr/>
        </p:nvPicPr>
        <p:blipFill>
          <a:blip r:embed="rId4"/>
          <a:stretch/>
        </p:blipFill>
        <p:spPr>
          <a:xfrm>
            <a:off x="685800" y="1600200"/>
            <a:ext cx="1008000" cy="2187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26" name="Rectangle 3" descr=""/>
          <p:cNvPicPr/>
          <p:nvPr/>
        </p:nvPicPr>
        <p:blipFill>
          <a:blip r:embed="rId5"/>
          <a:stretch/>
        </p:blipFill>
        <p:spPr>
          <a:xfrm>
            <a:off x="3276720" y="1600200"/>
            <a:ext cx="1055520" cy="2133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4648320" y="1600200"/>
            <a:ext cx="1143000" cy="2133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2666880" y="3886200"/>
            <a:ext cx="990720" cy="2152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6172200" y="1600200"/>
            <a:ext cx="1066680" cy="2133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4419720" y="3886200"/>
            <a:ext cx="1218960" cy="22096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7467480" y="1523880"/>
            <a:ext cx="990720" cy="2210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Бог Т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057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3" descr=""/>
          <p:cNvPicPr/>
          <p:nvPr/>
        </p:nvPicPr>
        <p:blipFill>
          <a:blip r:embed="rId2"/>
          <a:stretch/>
        </p:blipFill>
        <p:spPr>
          <a:xfrm>
            <a:off x="1447920" y="1143000"/>
            <a:ext cx="3181320" cy="44956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7" name="Rectangle 3" descr=""/>
          <p:cNvPicPr/>
          <p:nvPr/>
        </p:nvPicPr>
        <p:blipFill>
          <a:blip r:embed="rId3"/>
          <a:stretch/>
        </p:blipFill>
        <p:spPr>
          <a:xfrm>
            <a:off x="5029200" y="1143000"/>
            <a:ext cx="3014640" cy="45259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Гор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 — бог неба, царственности и солнца; живого древнеегипетского царя представляли воплощением бога Х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43600" y="1066680"/>
            <a:ext cx="190512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3" descr=""/>
          <p:cNvPicPr/>
          <p:nvPr/>
        </p:nvPicPr>
        <p:blipFill>
          <a:blip r:embed="rId2"/>
          <a:stretch/>
        </p:blipFill>
        <p:spPr>
          <a:xfrm>
            <a:off x="1523880" y="914400"/>
            <a:ext cx="3051360" cy="47545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51" name="Rectangle 3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3205440" cy="4724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828440" y="838080"/>
            <a:ext cx="6553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Осири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 в египетской мифологии бог производительных сил природы, владыка загробного мира, судья в царстве мерт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a50021"/>
                </a:solidFill>
                <a:uFillTx/>
                <a:latin typeface="Times New Roman"/>
              </a:rPr>
              <a:t>Он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научил египтян земледелию, виноградарству и виноделию, добыче и обработке медной и золотой руды, врачебному искусству, строительству городов, учредил культ бог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1905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0" y="762120"/>
            <a:ext cx="5334120" cy="51116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980720" y="838080"/>
            <a:ext cx="6705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Times New Roman"/>
              </a:rPr>
              <a:t>Апоп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- в египетской мифологии, огромный змей, олицетворяющий мрак и зло, извечный враг бога солнца 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Апоп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обитает в глубине земли, где и происходит его борьба с 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гда ночью Ра начинает плаванье по подземному Нилу, Апоп, желая погубить его, выпивает из реки всю в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сражении с 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Апоп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Ра выходит победителем и заставляет его изрыгнуть всю воду обрат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17575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86000" y="1066680"/>
            <a:ext cx="5486400" cy="4114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Директор</cp:lastModifiedBy>
  <dcterms:modified xsi:type="dcterms:W3CDTF">2015-03-08T17:06:1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