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6A9-5CCA-42EC-A2D6-1A10D8F7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EAD-D8C1-4FA6-933B-AB48891D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1DF-A911-4437-B943-E0A9407F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259-BDCC-4D4A-9209-A589FFA7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9F4-C281-436D-AAE5-83E3C4DB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EB6-93DC-4B41-8919-37470D9E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C76-0080-4C23-8D68-F45BE714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42A-8AEA-47F3-8CB1-F1DECB7F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8A0F-187D-4780-A92C-6C780515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833-C43F-4EFA-ACAB-9D666BBA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0E8-CF6E-4D5B-B462-4E6C6614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76F-A864-42FB-B218-7B49E298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7C3F-EF2D-402F-983E-7C7A321AA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92428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entury Schoolbook"/>
              </a:rPr>
              <a:t>Всероссийский день семьи, любви и вер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55700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entury Schoolbook"/>
              </a:rPr>
              <a:t>8 июля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41749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Всероссийский день семьи, любви и верности впервые отмечался в 2008 году, который был объявлен годом семьи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Идея праздника возникла несколько лет назад у жителей города Мурома (Владимирской области), где покоятся мощи святых супругов Петра и Февронии, покровителей христианского брака, чья память совершается 8 июля.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384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Инициатива празднования Дня семьи поддержана всеми традиционными религиозными организациями России — ведь идея празднования Дня семьи, любви и верности не имеет конфессиональных границ. В каждой религии есть примеры семейной верности и любв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У нового семейного праздника уже есть медаль, которую будут вручать 8 июля, и очень нежный символ — ромаш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1360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Schoolbook"/>
              </a:rPr>
              <a:t>С Днем семьи, любви и вернос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700360" y="1628640"/>
            <a:ext cx="4032360" cy="4967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164360" y="6400800"/>
            <a:ext cx="19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07:05:13Z</dcterms:created>
  <dc:creator>alib</dc:creator>
  <dc:description/>
  <dc:language>en-US</dc:language>
  <cp:lastModifiedBy>Дом</cp:lastModifiedBy>
  <dcterms:modified xsi:type="dcterms:W3CDTF">2015-03-07T14:37:28Z</dcterms:modified>
  <cp:revision>10</cp:revision>
  <dc:subject/>
  <dc:title>Всероссийский день семьи, любви и верности </dc:title>
</cp:coreProperties>
</file>