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AFE-2E20-41FA-B1DE-CE340D5F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41C-DABF-40B8-B2BC-C39C2C2F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A9C-103F-40C7-BB6E-B88127FD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37A-E365-4EC0-A89E-481A3618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8234-1C71-423E-A7D1-47DF7734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F358-EA17-444F-BD18-CA44A845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4A39-05A7-4308-B67C-5E89606A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5F08-198A-4143-8C1D-7570EDC7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72B0-5B00-43B8-B8CD-F4BBACB6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C357-C680-423C-9117-E5ED207B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FE00-A040-4D99-854C-9BE930F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969-8B8D-45F6-97EA-01BF4A33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8C01-5F01-4375-A49E-1AC7141B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D632-9FBC-4EEF-8AB9-87CAACFB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8255-F232-4D7C-A404-2CF46F59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F293-F005-4424-8FE9-4D4BA491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ED07-5DFC-49F0-B1F6-22F388AD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09C-CED6-4E52-9D98-25731365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A50-CE67-4249-ABE7-E55CF0BB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96B-40BC-43DA-A36E-B875783A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80C-58E3-4100-9B0B-51B43855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601-C9C1-4C60-A09A-BB804DEB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508-93ED-480D-80A4-6B1E40F3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D15-7529-43C6-9C6D-10A7B5B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E108-D7B8-409D-A4A6-39DFD07C7F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000" y="55440"/>
              <a:ext cx="3622680" cy="6137640"/>
              <a:chOff x="5409000" y="55440"/>
              <a:chExt cx="3622680" cy="61376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056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264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4800"/>
                <a:ext cx="439920" cy="39528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6744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240" y="264492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3696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96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0800" y="1033200"/>
              <a:ext cx="1015560" cy="1262520"/>
              <a:chOff x="415080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160" y="107100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12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084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840" y="300960"/>
              <a:ext cx="896400" cy="817200"/>
              <a:chOff x="5649840" y="300960"/>
              <a:chExt cx="896400" cy="817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1440" y="786960"/>
                <a:ext cx="179280" cy="36216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520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7160" y="400680"/>
                <a:ext cx="318960" cy="15300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6240" y="5258880"/>
              <a:ext cx="1059120" cy="825840"/>
              <a:chOff x="966240" y="5258880"/>
              <a:chExt cx="1059120" cy="825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560" y="55234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12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7600" y="53834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560" cy="1146600"/>
              <a:chOff x="375840" y="44784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56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2160" y="3712320"/>
              <a:ext cx="1156320" cy="1607760"/>
              <a:chOff x="738216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688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760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052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4612-0437-4929-A939-1A1B6103A656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Польша 2007 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7"/>
          <p:cNvSpPr txBox="1"/>
          <p:nvPr/>
        </p:nvSpPr>
        <p:spPr>
          <a:xfrm>
            <a:off x="826920" y="333360"/>
            <a:ext cx="6769440" cy="30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Мои любимые</a:t>
            </a:r>
            <a:endParaRPr b="1" lang="en-US" sz="6600" spc="1" strike="noStrike">
              <a:ln w="9360">
                <a:solidFill>
                  <a:srgbClr val="99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динозавры</a:t>
            </a:r>
            <a:endParaRPr b="1" lang="en-US" sz="6600" spc="1" strike="noStrike">
              <a:ln w="9360">
                <a:solidFill>
                  <a:srgbClr val="99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356000" y="2852640"/>
            <a:ext cx="47880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c8ff"/>
                </a:solidFill>
                <a:latin typeface="Verdana"/>
              </a:rPr>
              <a:t>Исследование выполнил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c8ff"/>
                </a:solidFill>
                <a:latin typeface="Verdana"/>
              </a:rPr>
              <a:t>ученица 3А класс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c8ff"/>
                </a:solidFill>
                <a:latin typeface="Verdana"/>
              </a:rPr>
              <a:t>МАОУ СОШ № 45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c8ff"/>
                </a:solidFill>
                <a:latin typeface="Verdana"/>
              </a:rPr>
              <a:t>Авраменко София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c8ff"/>
                </a:solidFill>
                <a:latin typeface="Verdana"/>
              </a:rPr>
              <a:t>Научный руководитель: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c8ff"/>
                </a:solidFill>
                <a:latin typeface="Verdana"/>
              </a:rPr>
              <a:t>Авраменко Ю.В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Брахиозавр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Длина: 23 м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Период: юрский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208 - 146 млн лет назад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еста обитания: Северная Америка, Африк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собенности: этот исполин весил 80 тонн – больше, чем 12 африканских слонов, вместе взятых. У него была очень длинная шея, как у жираф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Передние ноги брахиозавра длиннее задних. Питался листьями, объедая их с высоких деревьев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3" name="Picture 8" descr="i?id=338904936-15-24"/>
          <p:cNvPicPr/>
          <p:nvPr/>
        </p:nvPicPr>
        <p:blipFill>
          <a:blip r:embed="rId1"/>
          <a:stretch/>
        </p:blipFill>
        <p:spPr>
          <a:xfrm>
            <a:off x="5724360" y="1197000"/>
            <a:ext cx="2592720" cy="1860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i?id=68376821-17-24"/>
          <p:cNvPicPr/>
          <p:nvPr/>
        </p:nvPicPr>
        <p:blipFill>
          <a:blip r:embed="rId2"/>
          <a:stretch/>
        </p:blipFill>
        <p:spPr>
          <a:xfrm>
            <a:off x="5148360" y="4076640"/>
            <a:ext cx="26524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Почему они так называются?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39640" y="836640"/>
          <a:ext cx="7993080" cy="586728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Аллозавр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Страшный ящер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Барионикс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Тяжелый кого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Бронтозавр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Обманчивый ящер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Диплодок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Двойной луч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Майязавр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Ящер - нянька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Орнитолест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тичий вор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Стегозавр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Бронированный ящер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Тираннозавр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Ящер - титан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Трицератопс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Три рога на голове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70819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Почему они вымерли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Динозавры вымерли 65 млн лет назад. Точного ответа на вопрос: «почему?» не знает никто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Одни ученые считают, что к этому привело общее похолодание на Земле из-за активной вулканической деятельности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Другие – падение огромного метеорита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744228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Почему они вымерли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В конце мелового периода на Землю упал метеорит диаметром около 6 км. При столкновении его с Землей в воздух должны были подняться тучи пыли, которые на много лет закрыли Солнце. Это повлекло за собой длительной похолодание и гибель растений. очень скоро травоядные динозавры вымерли от недостатка пищи, а вслед за ними исчезли и хищники. В пользу этой гипотезы говорит гигантский кратер на северном побережье Мексик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1" name="Picture 4" descr="i?id=379196977-18-24"/>
          <p:cNvPicPr/>
          <p:nvPr/>
        </p:nvPicPr>
        <p:blipFill>
          <a:blip r:embed="rId1"/>
          <a:stretch/>
        </p:blipFill>
        <p:spPr>
          <a:xfrm>
            <a:off x="6804000" y="5445000"/>
            <a:ext cx="20052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Выводы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В ходе исследования я познакомилась с самыми интересными видами динозавров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Узнала, почему они так называются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Познакомилась с гипотезами гибели динозавров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Список литературы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Джинни Джонсон От диплодока до стегозавра. – М.: «Премьера», 2000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А.В.Пахневич Динозавры. – М.: «Астрель», 2004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арина Шульман Динозавры. – М.: «Росмэн»,2006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Энциклопедия знаний от Тины Канделаки. – М.:»Астрель»,2007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240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Обозвали динозавров ужасными,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А они бывают самыми разными: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Одни – растения жуют,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Охотятся другие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Одни огромны и страшны –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Другие малыши.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На четырёх,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На двух ногах –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Тут водятся любые.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Все динозавры древние –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Ужасно хороши!!!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                           </a:t>
            </a:r>
            <a:r>
              <a:rPr b="0" lang="ru-RU" sz="3000" spc="-1" strike="noStrike">
                <a:solidFill>
                  <a:srgbClr val="000066"/>
                </a:solidFill>
                <a:latin typeface="Verdana"/>
              </a:rPr>
              <a:t>Наталья Манушкина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i?id=354356201-13-24"/>
          <p:cNvPicPr/>
          <p:nvPr/>
        </p:nvPicPr>
        <p:blipFill>
          <a:blip r:embed="rId1"/>
          <a:stretch/>
        </p:blipFill>
        <p:spPr>
          <a:xfrm>
            <a:off x="7308720" y="69228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2737733-19-24"/>
          <p:cNvPicPr/>
          <p:nvPr/>
        </p:nvPicPr>
        <p:blipFill>
          <a:blip r:embed="rId2"/>
          <a:stretch/>
        </p:blipFill>
        <p:spPr>
          <a:xfrm>
            <a:off x="6156360" y="2421000"/>
            <a:ext cx="1932120" cy="1442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i?id=130897498-00-24"/>
          <p:cNvPicPr/>
          <p:nvPr/>
        </p:nvPicPr>
        <p:blipFill>
          <a:blip r:embed="rId3"/>
          <a:stretch/>
        </p:blipFill>
        <p:spPr>
          <a:xfrm>
            <a:off x="7093080" y="4437000"/>
            <a:ext cx="157320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Цель исследования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a0a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a0aff"/>
                </a:solidFill>
                <a:latin typeface="Verdana"/>
              </a:rPr>
              <a:t>Познакомиться с разными группами динозавров, причинами их вымирания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Давайте знакомиться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Когда мне было 5 лет, я вместе с мамой и бабушкой отправилась….в Парк Юрского периода.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Не удивляйтесь, это парк семейного отдыха в Польше в городе Солец.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Там я увидела фигуры динозавров в натуральную величину и захотела познакомиться с этими древними животными поближе.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Verdana"/>
              </a:rPr>
              <a:t>С тех пор я интересуюсь динозаврами. Сегодня я  расскажу вам о моих самых любимых динозаврах.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2708280" cy="203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27082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Компсогнат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Длина: 60 см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ериод: Юрский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(208 - 146 млн лет назад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Места обитания: Германия и Франци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Особенности: один из самых маленьких динозавров, не крупнее цыплёнка. Легкие кости, длинный хвост и длинные ноги говорят о том, что он быстро бегал. Основная пища – мелкие рептилии (внутри окаменевшего скелета обнаружены остатки ящерицы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9" descr="i?id=38225513-14-24"/>
          <p:cNvPicPr/>
          <p:nvPr/>
        </p:nvPicPr>
        <p:blipFill>
          <a:blip r:embed="rId1"/>
          <a:stretch/>
        </p:blipFill>
        <p:spPr>
          <a:xfrm>
            <a:off x="5580000" y="3716280"/>
            <a:ext cx="2519280" cy="2087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i?id=227736410-22-24"/>
          <p:cNvPicPr/>
          <p:nvPr/>
        </p:nvPicPr>
        <p:blipFill>
          <a:blip r:embed="rId2"/>
          <a:stretch/>
        </p:blipFill>
        <p:spPr>
          <a:xfrm>
            <a:off x="5580000" y="1268280"/>
            <a:ext cx="24494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Стегоцерас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Длина: 2 м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Период: меловой (146 - 65 млн лет назад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еста обитания: Северная Америк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собенности: крупная голова стегоцераса была покрыта наростами и шишками. Сходясь в поединке, самцы опускали голову, а шею и хвост держали параллельно земле. Хвост служил противовесом тяжелой голове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6" name="Picture 10" descr="i?id=118070790-17-24"/>
          <p:cNvPicPr/>
          <p:nvPr/>
        </p:nvPicPr>
        <p:blipFill>
          <a:blip r:embed="rId1"/>
          <a:stretch/>
        </p:blipFill>
        <p:spPr>
          <a:xfrm>
            <a:off x="5508720" y="1522440"/>
            <a:ext cx="2448000" cy="1625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i?id=159331244-16-24"/>
          <p:cNvPicPr/>
          <p:nvPr/>
        </p:nvPicPr>
        <p:blipFill>
          <a:blip r:embed="rId2"/>
          <a:stretch/>
        </p:blipFill>
        <p:spPr>
          <a:xfrm>
            <a:off x="5508720" y="4149720"/>
            <a:ext cx="2519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Трицератопс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Длина: 9 м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Период:меловой (146 - 65 млн лет назад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еста обитания: Северная Америк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собенности: это один из самых крупных и самых распространённых рогатых динозавров. Весил до 10 тонн. Череп достигал 2 м в длину. Жили стадами, устраивали поединки: бодались, сцепившись рогам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0" name="Picture 8" descr="i?id=67138767-06-24"/>
          <p:cNvPicPr/>
          <p:nvPr/>
        </p:nvPicPr>
        <p:blipFill>
          <a:blip r:embed="rId1"/>
          <a:stretch/>
        </p:blipFill>
        <p:spPr>
          <a:xfrm>
            <a:off x="6012000" y="4076640"/>
            <a:ext cx="2449440" cy="1812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i?id=90085031-15-24"/>
          <p:cNvPicPr/>
          <p:nvPr/>
        </p:nvPicPr>
        <p:blipFill>
          <a:blip r:embed="rId2"/>
          <a:stretch/>
        </p:blipFill>
        <p:spPr>
          <a:xfrm>
            <a:off x="4859280" y="1389240"/>
            <a:ext cx="27370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Тираннозавр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Длина: до 15 м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Период:меловой (146 - 65 млн лет назад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Места обитания: Северная Америка, Ази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Особенности: это один из самых грозных хищников. Достигал 6 м в высоту и весил больше африканского слона. Был и охотником, и трупоедом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Picture 8" descr="i?id=54716772-22-24"/>
          <p:cNvPicPr/>
          <p:nvPr/>
        </p:nvPicPr>
        <p:blipFill>
          <a:blip r:embed="rId1"/>
          <a:stretch/>
        </p:blipFill>
        <p:spPr>
          <a:xfrm>
            <a:off x="6300720" y="4797360"/>
            <a:ext cx="2219400" cy="1552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i?id=27039057-18-24"/>
          <p:cNvPicPr/>
          <p:nvPr/>
        </p:nvPicPr>
        <p:blipFill>
          <a:blip r:embed="rId2"/>
          <a:stretch/>
        </p:blipFill>
        <p:spPr>
          <a:xfrm>
            <a:off x="4572000" y="2349360"/>
            <a:ext cx="1770120" cy="194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i?id=297030076-01-24"/>
          <p:cNvPicPr/>
          <p:nvPr/>
        </p:nvPicPr>
        <p:blipFill>
          <a:blip r:embed="rId3"/>
          <a:stretch/>
        </p:blipFill>
        <p:spPr>
          <a:xfrm>
            <a:off x="6824520" y="1197000"/>
            <a:ext cx="1555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Аллозавр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Длина: до 12 м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Период: юрский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208 - 146 млн лет назад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еста обитания: Северная Америка, Африка, Австралия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собенности: могучие аллозавры весили 1-2 тонны, в высоту достигали 4,5 м.Эти кровожадные хищники охотились стаями. Вместе они могли одолеть животного более крупного по размерам, чем они сам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9" name="Picture 8" descr="i?id=167002065-20-24"/>
          <p:cNvPicPr/>
          <p:nvPr/>
        </p:nvPicPr>
        <p:blipFill>
          <a:blip r:embed="rId1"/>
          <a:stretch/>
        </p:blipFill>
        <p:spPr>
          <a:xfrm>
            <a:off x="5724360" y="1413000"/>
            <a:ext cx="2664000" cy="2077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i?id=77784221-00-24"/>
          <p:cNvPicPr/>
          <p:nvPr/>
        </p:nvPicPr>
        <p:blipFill>
          <a:blip r:embed="rId2"/>
          <a:stretch/>
        </p:blipFill>
        <p:spPr>
          <a:xfrm>
            <a:off x="5076720" y="4044960"/>
            <a:ext cx="28083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6:05:55Z</dcterms:created>
  <dc:creator>Your User Name</dc:creator>
  <dc:description/>
  <dc:language>en-US</dc:language>
  <cp:lastModifiedBy>Администратор</cp:lastModifiedBy>
  <dcterms:modified xsi:type="dcterms:W3CDTF">2015-03-08T17:54:16Z</dcterms:modified>
  <cp:revision>17</cp:revision>
  <dc:subject/>
  <dc:title>динозавры</dc:title>
</cp:coreProperties>
</file>