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167-704C-4593-B361-052AAE85C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985-C82E-4132-B3BB-EA5F640CA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AAF-4E10-4F9E-98EB-5511F1EE0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AAA-C343-4413-A0D2-4ADA6FA08E4B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B491-8910-4DB7-A223-F5AD4E378778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B9E-0492-4FA9-ADDB-77FB248B0A56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3B84-4A2E-411C-B8CB-DA86ADA6C1BD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626B-7835-455C-B310-4472E4F9885C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B00F-538C-4B1B-BB24-81AB78B316D3}" type="slidenum">
              <a:rPr b="1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A5A-72A3-4AAA-ABEB-1C64D6A94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A64-67E9-4431-B58E-3A5FB1D84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E44-B9B6-46D5-A274-5C0A4BD3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025-979A-4E9F-A599-E8F14B6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C75-7FB3-4DA8-94D8-33E506FD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AAE-F87B-4293-88FC-93AA6019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334-A7BA-4714-A44C-D665927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3F0-52F5-4C3B-90E2-C9E8A64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D5A-A263-4FD8-9C4D-65CA48EE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6AF-653E-4A4E-9DC5-DAA7761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AB6-28D1-462C-9D27-CE07531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793-3D36-43C3-967F-610E648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F15-E83A-44DD-98E4-50E2349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F8A-1B8E-4592-9FD9-6DD95CB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1AFE-03CF-439A-BEAB-CC336F61D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504120" y="665280"/>
            <a:ext cx="2633400" cy="242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609480" y="4602240"/>
            <a:ext cx="2840040" cy="390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500040" y="712800"/>
            <a:ext cx="2554200" cy="418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5"/>
          <a:stretch/>
        </p:blipFill>
        <p:spPr>
          <a:xfrm>
            <a:off x="5967360" y="4237200"/>
            <a:ext cx="2841840" cy="263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6"/>
          <a:stretch/>
        </p:blipFill>
        <p:spPr>
          <a:xfrm>
            <a:off x="3492360" y="347760"/>
            <a:ext cx="2737080" cy="262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7"/>
          <a:stretch/>
        </p:blipFill>
        <p:spPr>
          <a:xfrm>
            <a:off x="3946680" y="3933720"/>
            <a:ext cx="1903320" cy="229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321300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Греко-персидские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7920" y="4941720"/>
            <a:ext cx="9144000" cy="19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афонской битве греки дали первый отпор персам. Этот бой показал, что тяжеловооруженной, хорошо обученной пехоте не страшна иррегулярная конница. На месте сражения на Марафонском поле, рядом с братской могилой воинов, павших за родину, был воздвигнут памятник в честь вождя греков Мильтиада. Сцены из марафонской битвы были изображены в одном из портиков, находившихся на главной площади Аф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920" y="11160"/>
            <a:ext cx="9088560" cy="493056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48006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ерсы перестали считаться непобеди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обеда в Марафонской битве воодушевила греков на борь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35000" y="112680"/>
            <a:ext cx="8885160" cy="10303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15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В чем значение победы афинян в Марафонской би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марафонская"/>
          <p:cNvPicPr/>
          <p:nvPr/>
        </p:nvPicPr>
        <p:blipFill>
          <a:blip r:embed="rId4"/>
          <a:stretch/>
        </p:blipFill>
        <p:spPr>
          <a:xfrm>
            <a:off x="1676520" y="1295280"/>
            <a:ext cx="5638680" cy="332748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5046840" y="1219320"/>
            <a:ext cx="3976560" cy="53316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5000" y="112680"/>
            <a:ext cx="8885160" cy="64944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одготовка эллинов к новой во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триера2"/>
          <p:cNvPicPr/>
          <p:nvPr/>
        </p:nvPicPr>
        <p:blipFill>
          <a:blip r:embed="rId2"/>
          <a:stretch/>
        </p:blipFill>
        <p:spPr>
          <a:xfrm>
            <a:off x="152280" y="838080"/>
            <a:ext cx="5105520" cy="3165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04920" y="4343400"/>
            <a:ext cx="7315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предложению </a:t>
            </a:r>
            <a:r>
              <a:rPr b="1" lang="ru-RU" sz="2600" spc="-1" strike="noStrike">
                <a:solidFill>
                  <a:srgbClr val="800000"/>
                </a:solidFill>
                <a:latin typeface="Book Antiqua"/>
              </a:rPr>
              <a:t>Фемистокла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афиняне построили 200 три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4920" y="54100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Греки создали </a:t>
            </a:r>
            <a:r>
              <a:rPr b="1" lang="en-US" sz="2600" spc="-1" strike="noStrike">
                <a:solidFill>
                  <a:srgbClr val="800000"/>
                </a:solidFill>
                <a:latin typeface="Book Antiqua"/>
              </a:rPr>
              <a:t>союз тридцати эллинских государств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для борьбы с пе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29200" y="1219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Три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105520" y="1752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военный корабль с тремя рядами ве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стратег-Фемистокл"/>
          <p:cNvPicPr/>
          <p:nvPr/>
        </p:nvPicPr>
        <p:blipFill>
          <a:blip r:embed="rId3"/>
          <a:stretch/>
        </p:blipFill>
        <p:spPr>
          <a:xfrm>
            <a:off x="6934320" y="2743200"/>
            <a:ext cx="17334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6" descr="карта_нашествие ксеркса1"/>
          <p:cNvPicPr/>
          <p:nvPr/>
        </p:nvPicPr>
        <p:blipFill>
          <a:blip r:embed="rId2"/>
          <a:srcRect l="6769" t="0" r="1924" b="0"/>
          <a:stretch/>
        </p:blipFill>
        <p:spPr>
          <a:xfrm>
            <a:off x="2290680" y="1001880"/>
            <a:ext cx="6629400" cy="41702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  <p:sp>
        <p:nvSpPr>
          <p:cNvPr id="92" name="Rectangle 6"/>
          <p:cNvSpPr/>
          <p:nvPr/>
        </p:nvSpPr>
        <p:spPr>
          <a:xfrm>
            <a:off x="2057400" y="5562720"/>
            <a:ext cx="2209680" cy="53316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35000" y="112680"/>
            <a:ext cx="8885160" cy="64944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580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Вторжение персов в Элл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057400" y="5562720"/>
            <a:ext cx="708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480 г. до н.э.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– вторжение персов во главе с царем Ксерксом в Элл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2028960" y="3024360"/>
            <a:ext cx="1600200" cy="64260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a"/>
                </a:solidFill>
                <a:latin typeface="Book Antiqua"/>
              </a:rPr>
              <a:t>Фермоп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7"/>
          <p:cNvSpPr/>
          <p:nvPr/>
        </p:nvSpPr>
        <p:spPr>
          <a:xfrm rot="1965600">
            <a:off x="3497400" y="2949480"/>
            <a:ext cx="509400" cy="290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35000" y="112680"/>
            <a:ext cx="8885160" cy="64944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580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Бой в Фермопильском уще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28600" y="990720"/>
            <a:ext cx="3124080" cy="91440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80880" y="113364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 Antiqua"/>
              </a:rPr>
              <a:t>480 г. до н.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фермопильское сражение копия"/>
          <p:cNvPicPr/>
          <p:nvPr/>
        </p:nvPicPr>
        <p:blipFill>
          <a:blip r:embed="rId2"/>
          <a:stretch/>
        </p:blipFill>
        <p:spPr>
          <a:xfrm>
            <a:off x="3505320" y="990720"/>
            <a:ext cx="5492520" cy="3009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1523880" y="4343400"/>
            <a:ext cx="488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Объединенное греческое войско во главе с царем Спарты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Леонидом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вступило в бой с пе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объединенное войско"/>
          <p:cNvPicPr/>
          <p:nvPr/>
        </p:nvPicPr>
        <p:blipFill>
          <a:blip r:embed="rId3"/>
          <a:stretch/>
        </p:blipFill>
        <p:spPr>
          <a:xfrm>
            <a:off x="6527880" y="3886200"/>
            <a:ext cx="252864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35000" y="112680"/>
            <a:ext cx="8885160" cy="64944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Бой в Фермопильском уще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219640" y="1600200"/>
            <a:ext cx="3772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Царь Леонид и </a:t>
            </a: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300 спартан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 Antiqua"/>
              </a:rPr>
              <a:t>ценой своей жизни прикрыли отход основного греческого во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6 из 7826"/>
          <p:cNvPicPr/>
          <p:nvPr/>
        </p:nvPicPr>
        <p:blipFill>
          <a:blip r:embed="rId2"/>
          <a:stretch/>
        </p:blipFill>
        <p:spPr>
          <a:xfrm>
            <a:off x="250920" y="765000"/>
            <a:ext cx="48258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ртинка 11 из 781"/>
          <p:cNvPicPr/>
          <p:nvPr/>
        </p:nvPicPr>
        <p:blipFill>
          <a:blip r:embed="rId2"/>
          <a:stretch/>
        </p:blipFill>
        <p:spPr>
          <a:xfrm>
            <a:off x="155520" y="46080"/>
            <a:ext cx="6257880" cy="4476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11280" y="522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чища Ксеркса хлынули в Среднюю Грецию, грабя её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шению Народного собрания жители Аттики покинули родные места и перебрались на о. Сала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Картинка 16 из 24"/>
          <p:cNvPicPr/>
          <p:nvPr/>
        </p:nvPicPr>
        <p:blipFill>
          <a:blip r:embed="rId2"/>
          <a:stretch/>
        </p:blipFill>
        <p:spPr>
          <a:xfrm>
            <a:off x="1979640" y="306864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08720" y="2421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ерсы вошли в Афины и разрушили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Картинка 7 из 49"/>
          <p:cNvPicPr/>
          <p:nvPr/>
        </p:nvPicPr>
        <p:blipFill>
          <a:blip r:embed="rId2"/>
          <a:stretch/>
        </p:blipFill>
        <p:spPr>
          <a:xfrm>
            <a:off x="155520" y="46080"/>
            <a:ext cx="5648400" cy="4133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58920" y="450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еркс, наблюдающий за Саламинским сра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9 из 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4 из 798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чале 5-го века, царь Персидской державы Дарий Первый задумал подчинить себе новые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8244000" y="6597720"/>
            <a:ext cx="900000" cy="260280"/>
          </a:xfrm>
          <a:custGeom>
            <a:avLst/>
            <a:gdLst>
              <a:gd name="textAreaLeft" fmla="*/ 16560 w 900000"/>
              <a:gd name="textAreaRight" fmla="*/ 883440 w 900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74615" h="21600">
                <a:moveTo>
                  <a:pt x="0" y="0"/>
                </a:moveTo>
                <a:lnTo>
                  <a:pt x="74615" y="0"/>
                </a:lnTo>
                <a:lnTo>
                  <a:pt x="74615" y="21600"/>
                </a:lnTo>
                <a:lnTo>
                  <a:pt x="0" y="21600"/>
                </a:lnTo>
                <a:close/>
              </a:path>
              <a:path fill="lightenLess" w="74615" h="21600">
                <a:moveTo>
                  <a:pt x="0" y="0"/>
                </a:moveTo>
                <a:lnTo>
                  <a:pt x="74615" y="0"/>
                </a:lnTo>
                <a:lnTo>
                  <a:pt x="73215" y="1400"/>
                </a:lnTo>
                <a:lnTo>
                  <a:pt x="1400" y="1400"/>
                </a:lnTo>
                <a:close/>
              </a:path>
              <a:path fill="darken" w="74615" h="21600">
                <a:moveTo>
                  <a:pt x="74615" y="0"/>
                </a:moveTo>
                <a:lnTo>
                  <a:pt x="74615" y="21600"/>
                </a:lnTo>
                <a:lnTo>
                  <a:pt x="73215" y="20200"/>
                </a:lnTo>
                <a:lnTo>
                  <a:pt x="73215" y="1400"/>
                </a:lnTo>
                <a:close/>
              </a:path>
              <a:path fill="darkenLess" w="74615" h="21600">
                <a:moveTo>
                  <a:pt x="74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215" y="20200"/>
                </a:lnTo>
                <a:close/>
              </a:path>
              <a:path fill="lighten" w="74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615" h="21600">
                <a:moveTo>
                  <a:pt x="3730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74615" h="21600">
                <a:moveTo>
                  <a:pt x="3730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74615" h="21600">
                <a:moveTo>
                  <a:pt x="34731" y="8224"/>
                </a:moveTo>
                <a:lnTo>
                  <a:pt x="38596" y="8224"/>
                </a:lnTo>
                <a:lnTo>
                  <a:pt x="38596" y="15221"/>
                </a:lnTo>
                <a:lnTo>
                  <a:pt x="39884" y="15221"/>
                </a:lnTo>
                <a:lnTo>
                  <a:pt x="39884" y="16144"/>
                </a:lnTo>
                <a:lnTo>
                  <a:pt x="34731" y="16144"/>
                </a:lnTo>
                <a:lnTo>
                  <a:pt x="34731" y="15221"/>
                </a:lnTo>
                <a:lnTo>
                  <a:pt x="36020" y="15221"/>
                </a:lnTo>
                <a:lnTo>
                  <a:pt x="36020" y="9129"/>
                </a:lnTo>
                <a:lnTo>
                  <a:pt x="34731" y="912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Саламинская победа стала решающей в ходе греко-персидских вой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Картинка 9 из 5479"/>
          <p:cNvPicPr/>
          <p:nvPr/>
        </p:nvPicPr>
        <p:blipFill>
          <a:blip r:embed="rId2"/>
          <a:stretch/>
        </p:blipFill>
        <p:spPr>
          <a:xfrm>
            <a:off x="3059280" y="2060640"/>
            <a:ext cx="5619600" cy="453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278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итве при Платеях остатки армии персов были разбиты при Плате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74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4951" h="21600">
                <a:moveTo>
                  <a:pt x="174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4951" h="21600">
                <a:moveTo>
                  <a:pt x="14899" y="8224"/>
                </a:moveTo>
                <a:lnTo>
                  <a:pt x="18764" y="8224"/>
                </a:lnTo>
                <a:lnTo>
                  <a:pt x="18764" y="15221"/>
                </a:lnTo>
                <a:lnTo>
                  <a:pt x="20052" y="15221"/>
                </a:lnTo>
                <a:lnTo>
                  <a:pt x="20052" y="16144"/>
                </a:lnTo>
                <a:lnTo>
                  <a:pt x="14899" y="16144"/>
                </a:lnTo>
                <a:lnTo>
                  <a:pt x="14899" y="15221"/>
                </a:lnTo>
                <a:lnTo>
                  <a:pt x="16188" y="15221"/>
                </a:lnTo>
                <a:lnTo>
                  <a:pt x="16188" y="9129"/>
                </a:lnTo>
                <a:lnTo>
                  <a:pt x="14899" y="912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85800" y="2362320"/>
            <a:ext cx="8077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53880" y="2095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рь Дарий отправил военный флот на покорение Элла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11640" y="148428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том 490г до н.э. гонец принёс в Афины страшную весть: «В Марафонской бухте показались корабли персов. Вооружайтес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528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тратег - военачаль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олжность стратега Народное собрание избрало Мильтиада, хорошо знавшего военные приёмы пер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тысячное афинское войско двинулось на встречу вра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Картинка 8 из 21"/>
          <p:cNvPicPr/>
          <p:nvPr/>
        </p:nvPicPr>
        <p:blipFill>
          <a:blip r:embed="rId2"/>
          <a:stretch/>
        </p:blipFill>
        <p:spPr>
          <a:xfrm>
            <a:off x="4643280" y="1628640"/>
            <a:ext cx="3984840" cy="446436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мощью послали в Спарту, те пообещали помочь, но не теперь, а позже. Не помогли афинянам и другие гре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ь город Платеи прислал отря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Картинка 37 из 798"/>
          <p:cNvPicPr/>
          <p:nvPr/>
        </p:nvPicPr>
        <p:blipFill>
          <a:blip r:embed="rId2"/>
          <a:stretch/>
        </p:blipFill>
        <p:spPr>
          <a:xfrm>
            <a:off x="0" y="260280"/>
            <a:ext cx="4427640" cy="632772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Картинка 7 из 399"/>
          <p:cNvPicPr/>
          <p:nvPr/>
        </p:nvPicPr>
        <p:blipFill>
          <a:blip r:embed="rId2"/>
          <a:stretch/>
        </p:blipFill>
        <p:spPr>
          <a:xfrm>
            <a:off x="1116000" y="46080"/>
            <a:ext cx="6551640" cy="681192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Картинка 2 из 39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429240" cy="603900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яне завладели семью кораблями. На остальных кораблях персы отплыли в море, стремясь достичь Афин раньше, чем это сделает греческое войско. Афиняне также устремились в город и, опередив противника, достигли его раньше, чем персидское войско. Мильтиад расположил свое войско на восточной стороне Афин. Персы, подойдя на своих кораблях к Фалеру (Фалер был тогда гаванью афинян) и увидев, что афинское войско стоит у города и готово к битве, не отважились высадиться. Персидский флот повернул назад и поплыл обратно в Ази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ю греки потеряли 192 человека, персы — 6 400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51000" y="85680"/>
            <a:ext cx="827244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5:19:25Z</dcterms:created>
  <dc:creator>Леонид</dc:creator>
  <dc:description/>
  <dc:language>en-US</dc:language>
  <cp:lastModifiedBy>Sanek</cp:lastModifiedBy>
  <dcterms:modified xsi:type="dcterms:W3CDTF">2012-02-21T13:51:5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70000000000010250300207f7000400038000</vt:lpwstr>
  </property>
</Properties>
</file>