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6BB5-9DCE-434F-ABE2-9C26D00F5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53E-736A-468F-AD85-322F6FDF0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4CC-8212-4BC6-B279-4AE8CCF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A48-F3F1-4EEC-A952-DADEF1B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D6E-FF04-4868-8DB1-BC0F53B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084-5BDC-463F-9759-CCC84C19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CCC-C40A-4F65-98D1-25F7C316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6BA-EF0D-4D0D-A168-0E979E72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DAF-D4F3-4DF4-8EBF-ECD19B9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990-07D7-46B4-9EBF-CA803BAD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E36-784C-4BC9-A2FF-9BA8577C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01E-9701-47E9-92EA-FA4A12B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2E7-8BD4-4C81-8347-153637F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6CC-0356-4262-8C21-E8A1721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EEB-2E19-458E-AE59-2CC0D3EBE1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psearch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0&amp;img_url=http%3A%2F%2Fshkola7gnomov.ru%2Fpictures%2Fbig%2F8506.jpg%3F26.03.13.05.35.00&amp;pos=14&amp;rpt=simage&amp;lr=240&amp;nojs=1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s.sitecity.ru/users/i/indiapicture/storage/lalbum_0506081245.p_0506081325_8455.jpg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wiz&amp;fp=0&amp;img_url=http%3A%2F%2Fwww.dekatop.com%2Fwp-content%2Fuploads%2F2011%2F04%2Fprom_05.jpg&amp;text=&#1085;&#1072;&#1088;&#1086;&#1076;&#1085;&#1099;&#1077;%20&#1087;&#1088;&#1086;&#1084;&#1099;&#1089;&#1083;&#1099;&amp;noreask=1&amp;pos=4&amp;lr=240&amp;rpt=simage&amp;nojs=1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yandex.ru/yandsearch?fp=0&amp;img_url=http%3A%2F%2Fcs4149.vk.me%2Fu45658957%2F105512956%2Fs_bbe31610.jpg&amp;iorient=&amp;ih=&amp;icolor=&amp;site=&amp;text=&#1088;&#1077;&#1073;&#1077;&#1085;&#1086;&#1082;&amp;iw=&amp;wp=&amp;pos=19&amp;recent=&amp;type=&amp;isize=&amp;rpt=simage&amp;itype=&amp;nojs=1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yandex.ru/yandsearch?fp=0&amp;img_url=http%3A%2F%2Fprimamedia.ru%2Ffiles%2F138636.jpg&amp;iorient=&amp;ih=&amp;icolor=&amp;site=&amp;text=&#1076;&#1077;&#1090;&#1089;&#1072;&#1076;&amp;iw=&amp;wp=&amp;pos=2&amp;recent=&amp;type=&amp;isize=&amp;rpt=simage&amp;itype=&amp;nojs=1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prv2.lori-images.net%2Ftraditsionnyi-ornament-travka-ili-hmel-narodnogo-0000178722-preview.jpg&amp;iorient=&amp;ih=&amp;icolor=&amp;site=&amp;text=%20&#1091;&#1079;&#1086;&#1088;%20&#1085;&#1072;&#1088;&#1086;&#1076;&#1085;&#1099;&#1077;%20&#1087;&#1088;&#1086;&#1084;&#1099;&#1089;&#1083;&#1099;&amp;iw=&amp;wp=&amp;pos=12&amp;recent=&amp;type=&amp;isize=&amp;rpt=simage&amp;itype=&amp;nojs=1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yandex.ru/yandsearch?fp=0&amp;img_url=http%3A%2F%2Fschulen.eduhi.at%2Flipss%2Fsystem-images%2Fimages2%2Fbild3.gif&amp;iorient=&amp;ih=&amp;icolor=&amp;site=&amp;text=&#1085;&#1072;&#1094;&#1080;&#1086;&#1085;&#1072;&#1083;&#1100;&#1085;&#1099;&#1077;%20&#1082;&#1086;&#1089;&#1090;&#1102;&#1084;&#1099;%20&#1085;&#1072;&#1088;&#1086;&#1076;&#1086;&#1074;%20&#1084;&#1080;&#1088;&#1072;&amp;iw=&amp;wp=&amp;pos=14&amp;recent=&amp;type=&amp;isize=&amp;rpt=simage&amp;itype=&amp;nojs=1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wiz&amp;fp=0&amp;img_url=http%3A%2F%2Fi018.radikal.ru%2F1201%2F42%2F7147c2adb2c5.jpg&amp;text=&#1085;&#1072;&#1088;&#1086;&#1076;&#1085;&#1099;&#1077;%20&#1087;&#1088;&#1086;&#1084;&#1099;&#1089;&#1083;&#1099;&amp;noreask=1&amp;pos=0&amp;lr=240&amp;rpt=simage&amp;nojs=1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volgatehprom.ru/images/idoblog/upload/62/transport_1.gif" TargetMode="External"/><Relationship Id="rId8" Type="http://schemas.openxmlformats.org/officeDocument/2006/relationships/image" Target="../media/image32.png"/><Relationship Id="rId9" Type="http://schemas.openxmlformats.org/officeDocument/2006/relationships/hyperlink" Target="http://images.yandex.ru/yandsearch?source=psearch&amp;p=1&amp;text=&#1085;&#1072;%20&#1089;&#1091;&#1096;&#1077;%20&#1085;&#1072;%20&#1074;&#1086;&#1076;&#1077;%20&#1074;%20&#1085;&#1077;&#1073;&#1077;%20&#1078;&#1080;&#1074;&#1086;&#1090;&#1085;&#1099;&#1081;%20&#1084;&#1080;&#1088;&amp;fp=1&amp;img_url=http%3A%2F%2Fi046.radikal.ru%2F0912%2F71%2F3599c0f472f4.jpg&amp;pos=51&amp;rpt=simage&amp;lr=240&amp;nojs=1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images.yandex.ru/yandsearch?source=psearch&amp;p=1&amp;text=&#1085;&#1072;%20&#1089;&#1091;&#1096;&#1077;%20&#1085;&#1072;%20&#1074;&#1086;&#1076;&#1077;%20&#1074;%20&#1085;&#1077;&#1073;&#1077;%20&#1078;&#1080;&#1074;&#1086;&#1090;&#1085;&#1099;&#1081;%20&#1084;&#1080;&#1088;&amp;fp=1&amp;img_url=http%3A%2F%2Fi.crackedcdn.com%2Fphpimages%2Farticle%2F3%2F3%2F2%2F125332_v1.jpg&amp;pos=53&amp;rpt=simage&amp;lr=240&amp;nojs=1" TargetMode="External"/><Relationship Id="rId12" Type="http://schemas.openxmlformats.org/officeDocument/2006/relationships/image" Target="../media/image34.jpeg"/><Relationship Id="rId13" Type="http://schemas.openxmlformats.org/officeDocument/2006/relationships/hyperlink" Target="http://images.yandex.ru/yandsearch?source=psearch&amp;p=1&amp;text=&#1085;&#1072;%20&#1089;&#1091;&#1096;&#1077;%20&#1085;&#1072;%20&#1074;&#1086;&#1076;&#1077;%20&#1074;%20&#1085;&#1077;&#1073;&#1077;%20&#1078;&#1080;&#1074;&#1086;&#1090;&#1085;&#1099;&#1081;%20&#1084;&#1080;&#1088;&amp;fp=1&amp;img_url=http%3A%2F%2Favatars.yandex.net%2Fget-tv-shows%2F1336232807631M36082%2Flarge&amp;pos=33&amp;rpt=simage&amp;lr=240&amp;nojs=1" TargetMode="External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aksakal.info/uploads/posts/2012-11/1353851710_12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hyperlink" Target="http://stranamasterov.ru/img4/i2012/08/28/tatary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wiz&amp;fp=3&amp;img_url=http%3A%2F%2Fimg-fotki.yandex.ru%2Fget%2F6519%2F97881847.2%2F0_85c45_c8255039_L.jpg&amp;p=3&amp;text=&#1095;&#1077;&#1083;&#1086;&#1074;&#1077;&#1082;%20&#1080;%20&#1087;&#1088;&#1080;&#1088;&#1086;&#1076;&#1072;&amp;noreask=1&amp;pos=91&amp;lr=240&amp;rpt=simage&amp;nojs=1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yandex.ru/yandsearch?source=wiz&amp;fp=3&amp;img_url=http%3A%2F%2Flifeglobe.net%2Fmedia%2Fentry%2F1196%2Funusualfruitandvegetables28_3.jpg&amp;p=3&amp;text=&#1095;&#1077;&#1083;&#1086;&#1074;&#1077;&#1082;%20&#1080;%20&#1087;&#1088;&#1080;&#1088;&#1086;&#1076;&#1072;&amp;noreask=1&amp;pos=99&amp;lr=240&amp;rpt=simage&amp;nojs=1" TargetMode="External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www.opoccuu.com%2Fzkrem04.jpg&amp;iorient=&amp;ih=&amp;icolor=&amp;site=&amp;text=&#1089;&#1087;&#1072;&#1089;&#1089;&#1082;&#1072;&#1103;%20&#1073;&#1072;&#1096;&#1085;&#1103;%20&#1082;&#1088;&#1077;&#1084;&#1083;&#1103;&amp;iw=&amp;wp=&amp;pos=0&amp;recent=&amp;type=&amp;isize=&amp;rpt=simage&amp;itype=&amp;nojs=1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yandex.ru/yandsearch?source=wiz&amp;fp=0&amp;img_url=http%3A%2F%2Fsupercook.ru%2Fdecoration%2Fimages-decoration-bow%2Fbant-u-005.jpg&amp;text=&#1087;&#1086;&#1076;&#1072;&#1088;&#1086;&#1082;&amp;noreask=1&amp;pos=8&amp;lr=240&amp;rpt=simage&amp;nojs=1" TargetMode="External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psearch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0&amp;img_url=http%3A%2F%2Fndce.edu.ru%2Fkatalog_img%2Fbook%2F1007339jpg.jpg&amp;pos=17&amp;rpt=simage&amp;lr=240&amp;nojs=1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source=psearch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0&amp;img_url=http%3A%2F%2Fmy-shop.ru%2F_files%2Fproduct%2F2%2F49%2F489320.jpg&amp;pos=15&amp;rpt=simage&amp;lr=240&amp;nojs=1" TargetMode="External"/><Relationship Id="rId8" Type="http://schemas.openxmlformats.org/officeDocument/2006/relationships/image" Target="../media/image45.jpeg"/><Relationship Id="rId9" Type="http://schemas.openxmlformats.org/officeDocument/2006/relationships/hyperlink" Target="http://images.yandex.ru/yandsearch?source=psearch&amp;p=1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1&amp;img_url=http%3A%2F%2Fpedkniga.ru%2Fupload%2Fmyshop_loaded%2F929%2F1407046_thumb_160.jpg&amp;pos=43&amp;rpt=simage&amp;lr=240&amp;nojs=1" TargetMode="External"/><Relationship Id="rId10" Type="http://schemas.openxmlformats.org/officeDocument/2006/relationships/image" Target="../media/image46.jpeg"/><Relationship Id="rId11" Type="http://schemas.openxmlformats.org/officeDocument/2006/relationships/hyperlink" Target="http://images.yandex.ru/yandsearch?source=psearch&amp;p=4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4&amp;img_url=http%3A%2F%2Ffiles.books.ru%2Fpic%2F335001-336000%2F335034%2F335034.jpg&amp;pos=139&amp;rpt=simage&amp;lr=240&amp;nojs=1" TargetMode="External"/><Relationship Id="rId12" Type="http://schemas.openxmlformats.org/officeDocument/2006/relationships/image" Target="../media/image47.jpeg"/><Relationship Id="rId13" Type="http://schemas.openxmlformats.org/officeDocument/2006/relationships/hyperlink" Target="http://images.yandex.ru/yandsearch?source=psearch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0&amp;img_url=http%3A%2F%2Fshkola7gnomov.ru%2Fpictures%2Fbig%2F8506.jpg%3F26.03.13.05.35.00&amp;pos=14&amp;rpt=simage&amp;lr=240&amp;nojs=1" TargetMode="External"/><Relationship Id="rId14" Type="http://schemas.openxmlformats.org/officeDocument/2006/relationships/image" Target="../media/image2.jpeg"/><Relationship Id="rId15" Type="http://schemas.openxmlformats.org/officeDocument/2006/relationships/hyperlink" Target="http://images.yandex.ru/yandsearch?source=psearch&amp;p=4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4&amp;img_url=http%3A%2F%2Fpoppenhouse.alloy.ru%2Fmedia%2Fimages%2F2012%2F08%2F18%2Ffront_170x170%2Fec0f1918-f1ed-4f72-a375-33d7791329df.jpeg&amp;pos=131&amp;rpt=simage&amp;lr=240&amp;nojs=1" TargetMode="External"/><Relationship Id="rId16" Type="http://schemas.openxmlformats.org/officeDocument/2006/relationships/image" Target="../media/image48.jpeg"/><Relationship Id="rId17" Type="http://schemas.openxmlformats.org/officeDocument/2006/relationships/hyperlink" Target="http://images.yandex.ru/yandsearch?source=psearch&amp;p=3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3&amp;img_url=http%3A%2F%2Fpedkniga.ru%2Fupload%2Fmyshop_loaded%2Fb34%2F1486631_thumb_160.jpg&amp;pos=90&amp;rpt=simage&amp;lr=240&amp;nojs=1" TargetMode="External"/><Relationship Id="rId18" Type="http://schemas.openxmlformats.org/officeDocument/2006/relationships/image" Target="../media/image49.jpeg"/><Relationship Id="rId19" Type="http://schemas.openxmlformats.org/officeDocument/2006/relationships/hyperlink" Target="http://images.yandex.ru/yandsearch?source=psearch&amp;p=4&amp;text=&#1085;&#1088;&#1072;&#1074;&#1089;&#1090;&#1074;&#1077;&#1085;&#1085;&#1086;-&#1087;&#1072;&#1090;&#1088;&#1080;&#1086;&#1090;&#1080;&#1095;&#1077;&#1089;&#1082;&#1086;&#1077;%20&#1074;&#1086;&#1089;&#1087;&#1080;&#1090;&#1072;&#1085;&#1080;&#1077;%20&#1076;&#1077;&#1090;&#1077;&#1081;%204-5%20&#1083;&#1077;&#1090;&amp;fp=4&amp;img_url=http%3A%2F%2F900igr.net%2Fdatai%2Fpedagogika%2FPosobija-po-patrioticheskomu-vospitaniju%2F0025-026-Moj-rodnoj-dom-N.-Arapova-Piskareva-Programma.png&amp;pos=145&amp;rpt=simage&amp;lr=240&amp;nojs=1" TargetMode="External"/><Relationship Id="rId20" Type="http://schemas.openxmlformats.org/officeDocument/2006/relationships/image" Target="../media/image50.jpeg"/><Relationship Id="rId21" Type="http://schemas.openxmlformats.org/officeDocument/2006/relationships/hyperlink" Target="http://900igr.net/datai/istorija/Istorija-drevnego-cheloveka/0020-013-JUrta.jpg" TargetMode="External"/><Relationship Id="rId22" Type="http://schemas.openxmlformats.org/officeDocument/2006/relationships/image" Target="../media/image51.jpeg"/><Relationship Id="rId23" Type="http://schemas.openxmlformats.org/officeDocument/2006/relationships/hyperlink" Target="http://images.yandex.ru/yandsearch?source=psearch&amp;text=&#1078;&#1080;&#1083;&#1080;&#1097;&#1077;%20&#1095;&#1077;&#1083;&#1086;&#1074;&#1077;&#1082;&#1072;%20&#1087;&#1088;&#1077;&#1079;&#1077;&#1085;&#1090;&#1072;&#1094;&#1080;&#1103;&amp;fp=0&amp;img_url=http%3A%2F%2F900igr.net%2Fdatai%2Fmkhk%2FZHilische-cheloveka%2F0005-005-Izba-traditsionnyj-dom-russkogo-cheloveka.jpg&amp;pos=29&amp;rpt=simage&amp;lr=240&amp;nojs=1" TargetMode="External"/><Relationship Id="rId24" Type="http://schemas.openxmlformats.org/officeDocument/2006/relationships/image" Target="../media/image52.jpeg"/><Relationship Id="rId25" Type="http://schemas.openxmlformats.org/officeDocument/2006/relationships/image" Target="../media/image53.jpe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images.tiu.ru%2F175078_w0_h80_7000v77.jpg&amp;iorient=&amp;ih=&amp;icolor=&amp;site=&amp;text=&#1082;&#1072;&#1088;&#1090;&#1072;%20&#1088;&#1086;&#1089;&#1089;&#1080;&#1080;&amp;iw=&amp;wp=&amp;pos=5&amp;recent=&amp;type=&amp;isize=&amp;rpt=simage&amp;itype=&amp;noj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yandex.ru/yandsearch?fp=0&amp;img_url=http%3A%2F%2Fmap.avtograd.ru%2Fimages%2Fall_city.gif&amp;iorient=&amp;ih=&amp;icolor=&amp;site=&amp;text=&#1082;&#1072;&#1088;&#1090;&#1072;%20&#1090;&#1086;&#1083;&#1100;&#1103;&#1090;&#1090;&#1080;&amp;iw=&amp;wp=&amp;pos=1&amp;recent=&amp;type=&amp;isize=&amp;rpt=simage&amp;itype=&amp;nojs=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cs4128.userapi.com%2Fg29815280%2Fa_a9be6229.jpg&amp;iorient=&amp;ih=&amp;icolor=&amp;site=&amp;text=&#1092;&#1083;&#1072;&#1075;%20&#1088;&#1086;&#1089;&#1089;&#1080;&#1080;&amp;iw=&amp;wp=&amp;pos=0&amp;recent=&amp;type=&amp;isize=&amp;rpt=simage&amp;itype=&amp;nojs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source=wiz&amp;fp=0&amp;img_url=http%3A%2F%2Ffeminastyle.ru%2Fid59977%2Ffile%2F4249&amp;text=&#1089;&#1077;&#1084;&#1100;&#1103;&amp;noreask=1&amp;pos=1&amp;lr=240&amp;rpt=simage&amp;nojs=1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yandex.ru/yandsearch?fp=0&amp;img_url=http%3A%2F%2Fadwizer.ru%2Fmedia%2F02-files%2Fflag-and-gerb%2Frussia.jpg&amp;iorient=&amp;ih=&amp;icolor=&amp;site=&amp;text=&#1075;&#1077;&#1088;&#1073;%20&#1088;&#1086;&#1089;&#1089;&#1080;&#1080;&amp;iw=&amp;wp=&amp;pos=2&amp;recent=&amp;type=&amp;isize=&amp;rpt=simage&amp;itype=&amp;nojs=1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yandex.ru/yandsearch?fp=0&amp;img_url=http%3A%2F%2Fimg-fotki.yandex.ru%2Fget%2F3301%2Fcyrsiv.3%2F0_1737_75ea08b0_XL&amp;iorient=&amp;ih=&amp;icolor=&amp;site=&amp;text=%20&#1092;&#1083;&#1072;&#1075;%20&#1090;&#1086;&#1083;&#1100;&#1103;&#1090;&#1090;&#1080;&amp;iw=&amp;wp=&amp;pos=1&amp;recent=&amp;type=&amp;isize=&amp;rpt=simage&amp;itype=&amp;nojs=1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www.hrono.ru%2Fheraldicum%2Frussia%2Fsubjects%2Ftowns%2Fimages%2Ftogliat2.gif&amp;iorient=&amp;ih=&amp;icolor=&amp;site=&amp;text=%20&#1092;&#1083;&#1072;&#1075;%20&#1090;&#1086;&#1083;&#1100;&#1103;&#1090;&#1090;&#1080;&amp;iw=&amp;wp=&amp;pos=5&amp;recent=&amp;type=&amp;isize=&amp;rpt=simage&amp;itype=&amp;nojs=1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fp=0&amp;img_url=http%3A%2F%2Fwap.mplaza.ru%2Fparser%2Fimages%2F6b1ab7338f95fbc0b191d026f3c1ae85.jpg&amp;iorient=&amp;ih=&amp;icolor=&amp;site=&amp;text=&#1087;&#1091;&#1090;&#1080;&#1085;&amp;iw=&amp;wp=&amp;pos=10&amp;recent=&amp;type=&amp;isize=&amp;rpt=simage&amp;itype=&amp;nojs=1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www.snowbd.ru/fs/a_news_photo/14441_pic.png" TargetMode="External"/><Relationship Id="rId6" Type="http://schemas.openxmlformats.org/officeDocument/2006/relationships/image" Target="../media/image14.png"/><Relationship Id="rId7" Type="http://schemas.openxmlformats.org/officeDocument/2006/relationships/hyperlink" Target="http://images.yandex.ru/yandsearch?fp=0&amp;img_url=http%3A%2F%2Fsavok.name%2Fuploads%2F23%2F85.jpg&amp;iorient=&amp;ih=&amp;icolor=&amp;site=&amp;text=&#1086;&#1090;&#1082;&#1088;&#1099;&#1090;&#1082;&#1080;%20&#1085;&#1072;%2023%20&#1092;&#1077;&#1074;&#1088;&#1072;&#1083;&#1103;&amp;iw=&amp;wp=&amp;pos=26&amp;recent=&amp;type=&amp;isize=&amp;rpt=simage&amp;itype=&amp;nojs=1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www.pozitiff.info/uploads/posts/2011-07/1310513100_10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wiz&amp;fp=0&amp;img_url=http%3A%2F%2Fimg1.liveinternet.ru%2Fimages%2Fattach%2Fc%2F2%2F84%2F124%2F84124111_3329a0bcaa88.jpg&amp;text=&#1078;&#1080;&#1074;&#1086;&#1090;&#1085;&#1099;&#1077;%20&#1082;&#1088;&#1072;&#1089;&#1085;&#1086;&#1081;%20&#1082;&#1085;&#1080;&#1075;&#1080;&amp;noreask=1&amp;pos=7&amp;lr=240&amp;rpt=simage&amp;nojs=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900igr.net/datai/biologija/Dikie/0011-009-ZHilische-belki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yandex.ru/yandsearch?source=wiz&amp;fp=0&amp;img_url=http%3A%2F%2F4.bp.blogspot.com%2F-2vxz-utXWj0%2FTr7deSNIZoI%2FAAAAAAAACCc%2F_HUoJVYwDz4%2Fs1600%2F1315259646_247438326_7---.jpg&amp;text=&#1088;&#1077;&#1073;&#1077;&#1085;&#1086;&#1082;&amp;noreask=1&amp;pos=2&amp;lr=240&amp;rpt=simage&amp;nojs=1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fp=0&amp;img_url=http%3A%2F%2Fwww.sunhome.ru%2FUsersGallery%2Fwallpapers%2F33%2F11193328.jpg&amp;iorient=&amp;ih=&amp;icolor=&amp;site=&amp;text=&#1076;&#1077;&#1088;&#1077;&#1074;&#1100;&#1103;&amp;iw=&amp;wp=&amp;pos=5&amp;recent=&amp;type=&amp;isize=&amp;rpt=simage&amp;itype=&amp;nojs=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yandex.ru/yandsearch?fp=0&amp;img_url=http%3A%2F%2Fimg1.labirint.ru%2Fbooks%2F41629%2Fbig.jpg&amp;iorient=&amp;ih=&amp;icolor=&amp;site=&amp;text=&#1079;&#1077;&#1083;&#1077;&#1085;&#1072;&#1103;%20&#1072;&#1087;&#1090;&#1077;&#1082;&#1072;&amp;iw=&amp;wp=&amp;pos=16&amp;recent=&amp;type=&amp;isize=&amp;rpt=simage&amp;itype=&amp;nojs=1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x-team.ru/upload/blog/b7b/b7b62a79edb6b052a3951301f5db110c.jpg" TargetMode="Externa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yandex.ru/yandsearch?source=wiz&amp;fp=0&amp;img_url=http%3A%2F%2F4.bp.blogspot.com%2F-2vxz-utXWj0%2FTr7deSNIZoI%2FAAAAAAAACCc%2F_HUoJVYwDz4%2Fs1600%2F1315259646_247438326_7---.jpg&amp;text=&#1088;&#1077;&#1073;&#1077;&#1085;&#1086;&#1082;&amp;noreask=1&amp;pos=2&amp;lr=240&amp;rpt=simage&amp;nojs=1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yandex.ru/yandsearch?source=wiz&amp;fp=0&amp;img_url=http%3A%2F%2Fimg1.liveinternet.ru%2Fimages%2Ffoto%2Fb%2F3%2F136%2F3170136%2Ff_17551130.jpg&amp;text=&#1088;&#1077;&#1073;&#1077;&#1085;&#1086;&#1082;&amp;noreask=1&amp;pos=4&amp;lr=240&amp;rpt=simage&amp;nojs=1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images.yandex.ru/yandsearch?fp=0&amp;img_url=http%3A%2F%2Fwww.perm.ru%2Fpics%2F1245137794.jpg&amp;iorient=&amp;ih=&amp;icolor=&amp;site=&amp;text=&#1076;&#1086;&#1084;&amp;iw=&amp;wp=&amp;pos=0&amp;recent=&amp;type=&amp;isize=&amp;rpt=simage&amp;itype=&amp;nojs=1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images.yandex.ru/yandsearch?fp=0&amp;img_url=http%3A%2F%2Fassets.sport.ro%2Fassets%2Fprotv%2F2013%2F07%2F03%2Fimage_galleries%2F33526%2Fcladiri-dansatoare-acestea-sunt-cele-mai-ciudate-constructii-din-lume_1_size2.jpg&amp;iorient=&amp;ih=&amp;icolor=&amp;site=&amp;text=&#1076;&#1086;&#1084;&amp;iw=&amp;wp=&amp;pos=27&amp;recent=&amp;type=&amp;isize=&amp;rpt=simage&amp;itype=&amp;nojs=1" TargetMode="External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533520" y="53352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оте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равственно-  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3657600" y="228600"/>
            <a:ext cx="3048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позволяет шире приобщить детей к текущей жизни в доступных им формах нравственных переживаний. Дидактическая игра по нравственно-патриотическому воспитанию позволяет открыть комплекс разнообразной деятельности детей: мысли, чувства, переживания, сопереживания, поиски активных способов решения игровой задачи, подчинение их условиям и обстоятельствам игры, отношения детей в игре. Предлагаемые игры и упражнения могут проводить воспитатель, педагог-психолог на прогулке во время утреннего приема, в вечерние часы, в период свободной деятельности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im2-tub-ru.yandex.net/i?id=272150235-5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2590920"/>
            <a:ext cx="1143000" cy="1676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04920" y="4634640"/>
            <a:ext cx="2819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й адрес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ть умение и знание детей называть свой  домашний адрес,  улицу города Тольятти, номер дома, квартиры, телефона ,этаж закрепить знание права на жильё, неприкосновенность жил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м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встают в круг, воспитатель передаёт мяч ребёнку и говорит: Я живу на … этаже», ребёнок продолжает, называя свой этаж, и передаёт мяч соседу и т. д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657600" y="4636080"/>
            <a:ext cx="29718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етский сад 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й детей о дет. саде, о работниках дет сада..  Какие обязанности они выполняют. Где находятся группа, столовая, и т.д. .Закрепить умение ориентироваться по плану в простран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 и иллюстрации  детского сада, работников дет.сада. Планы дет сада, 1, 2 этажа,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тографиям и иллюстрациям дети узнают и рассказывают о работниках дет.сада .По плану дети ориентируются в простран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914400" y="20574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ебенок учится т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видит у себя в дом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http://ns.sitecity.ru/users/i/indiapicture/storage/lalbum_0506081245.p_0506081325_8455.jpg">
            <a:hlinkClick r:id="rId7"/>
          </p:cNvPr>
          <p:cNvPicPr/>
          <p:nvPr/>
        </p:nvPicPr>
        <p:blipFill>
          <a:blip r:embed="rId8"/>
          <a:srcRect l="15003" t="683" r="12939" b="0"/>
          <a:stretch/>
        </p:blipFill>
        <p:spPr>
          <a:xfrm>
            <a:off x="914400" y="7924680"/>
            <a:ext cx="1219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733920" y="167760"/>
            <a:ext cx="2819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Узнай о ком я говорю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онимание и осознание детьми своей индивидуальности и чувства собственного достоинства, уважения к мнению другого человека, помочь детям осмыслить различия и сходство между люд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описывает портрет ребенка, дети отгадывают не примут в ней участие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28600" y="4809240"/>
            <a:ext cx="2819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должи пословиц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ить с устным народным словотворчеством, развивать речь, память , логическ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начинает пословицу, дети ее продолж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733920" y="4740480"/>
            <a:ext cx="281916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промысл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народными промыслами, прививать интерес к русским традициям, учить узнавать и отличать различ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зображения с предметами  народного  твор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воспитатель показывает картинку с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жением предметов  народных промысе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04920" y="168840"/>
            <a:ext cx="2819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дорожку в детский сад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ить умение детей ориентироваться по плану местности, уметь объяснять расположение объектов по отношению друг к другу. Закреплять умение  определять направление движения. Развивать абстрактн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стности (микрорайона) макет местности микро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риентируются по плану и на мак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http://im6-tub-ru.yandex.net/i?id=368101347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7848720"/>
            <a:ext cx="180036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http://im7-tub-ru.yandex.net/i?id=232964918-36-72&amp;n=21">
            <a:hlinkClick r:id="rId7"/>
          </p:cNvPr>
          <p:cNvPicPr/>
          <p:nvPr/>
        </p:nvPicPr>
        <p:blipFill>
          <a:blip r:embed="rId8"/>
          <a:srcRect l="7954" t="15999" r="32343" b="0"/>
          <a:stretch/>
        </p:blipFill>
        <p:spPr>
          <a:xfrm>
            <a:off x="4191120" y="3124080"/>
            <a:ext cx="1371600" cy="120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http://im6-tub-ru.yandex.net/i?id=60262861-62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3429000"/>
            <a:ext cx="1457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304920" y="246600"/>
            <a:ext cx="274320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тицы нашего города(края)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знакомить детей с птицами родного города(края).Прививать любовь к родине, родному краю, к животному миру , желание помочь и ухаживать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ями птиц, альбом «Птицы нашего города, края», составленный совместно с родител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Воспитатель демонстрирует детям карточки с изображениями птиц, просит назвать и определить, живет птица в нашем городе или 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733920" y="135360"/>
            <a:ext cx="281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бери у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народными промыслами, прививать интерес к русским традициям, учить узнавать и отличать различ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нарисованным узором и полем, расчерченным для рис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 рисуют подбирают у узор по образу, называют вид народного промыс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733920" y="4813920"/>
            <a:ext cx="2743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бери наряд  кукл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национальной одеждой, прививать интерес к национальной культуре., любовь к Родине, Родному кра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, национальные костюмы для куклы, картинки и иллюстрации с изображением народных костюм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 одевают куклу в национальную одеж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04920" y="4710600"/>
            <a:ext cx="2819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атства недр земли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расширять представление детей о богатстве недр земли полезными ископаемыми (уголь, минералы, железная руда, драгоценные камни). Расширять представления детей о внутреннем  строении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ция камушек, ископаемых земли, картинки и иллюстрации природных ресурс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оспитатель показывает детям картинку (природное ископаемое) предлагает назвать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http://im4-tub-ru.yandex.net/i?id=521141768-61-72&amp;n=21">
            <a:hlinkClick r:id="rId5"/>
          </p:cNvPr>
          <p:cNvPicPr/>
          <p:nvPr/>
        </p:nvPicPr>
        <p:blipFill>
          <a:blip r:embed="rId6"/>
          <a:srcRect l="3118" t="5341" r="3500" b="20005"/>
          <a:stretch/>
        </p:blipFill>
        <p:spPr>
          <a:xfrm>
            <a:off x="4114800" y="3048120"/>
            <a:ext cx="228600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http://im7-tub-ru.yandex.net/i?id=217961098-70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19720" y="7315200"/>
            <a:ext cx="857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3733920" y="241920"/>
            <a:ext cx="28954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узо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народными промыслами, прививать интерес к русским традициям, учить узнавать и отличать различ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ные картинки с изображениями народных промыс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обирают картинки из разрезных  фрагмен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04920" y="247320"/>
            <a:ext cx="2819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р предмет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общить представление детей о том, что в окружающем мире многие предметы изготовлены человеком из материалов природного или искусственного происхождения (применяя различные материалы, человек изучает и использует их свойства). Воспитывать познавательную активность. Закрепить умения образовывать  слова прилагатель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инки и изображения предметов оби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д игры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гун - чугунный, дерево- деревянный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34640"/>
            <a:ext cx="28954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уше, в небе, по воде, под водой (транспорт)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, закрепление в речи предлогов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 ; таблица, на которой изображены небо, море,   картинки: поезд, самолет, пароход, грузовая машина, легковая машина, автобу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: Воспитатель просит детей назвать маленькие картинки, а потом найти место для каждой из них на большой картине и состав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733920" y="4738320"/>
            <a:ext cx="281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уше, в небе, по воде, под водой (животный мир )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, закрепление в речи предлогов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 ; таблица, на которой изображены небо, море,   картинки: животного ми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: Воспитатель просит детей назвать маленькие картинки, а потом найти место для каждой из них на большой картине и составить предло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ttp://im0-tub-ru.yandex.net/i?id=210631594-4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19520"/>
            <a:ext cx="1400040" cy="142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http://volgatehprom.ru/images/idoblog/upload/62/transport_1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7920" y="7543800"/>
            <a:ext cx="1485720" cy="129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http://im5-tub-ru.yandex.net/i?id=361869719-56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76960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http://im6-tub-ru.yandex.net/i?id=442576313-54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7696080"/>
            <a:ext cx="99072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http://im0-tub-ru.yandex.net/i?id=491106756-37-72&amp;n=2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8153280"/>
            <a:ext cx="10573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3733920" y="246600"/>
            <a:ext cx="2819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ывание и толкование загадок  об  (Армии, солдатах, Родине, растительном  и животном мир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устным народным творчеством, способствовать самовыражению детей, умению загадывать и отгадывать загадки на нравстаенно-патриотическую те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и картинки с отгадк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воспитатель загадывает, дети отгадывают загад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28600" y="4817160"/>
            <a:ext cx="2895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жи как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память , речь, формировать навы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а  определений к сло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,  Родины, флага, герба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Воспитатель показывает карточку и предлагает назвать что нарисована на ней  одним  и подобрать определения к н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огромная, могучая, красивая, бескрайняя и т.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3733920" y="4724280"/>
            <a:ext cx="2819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ставь семей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память , речь, формировать навы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а  однокоренных родственных сл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 Родины, флага, герба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Воспитатель показывает карточку и предлагает назвать что нарисована на ней  одним  и подобрать родственные однокоренные слова  к нем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, родной, родители, родственник, роди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- геройский, героический, героизм..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- защитник, защищать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304920" y="152280"/>
            <a:ext cx="28954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му что нужно для работы?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ть умение   употреблять винительный  и дательный  падеж  существительных .Развивать ре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мышление память .Закреплять знания о профессиях люд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людей разных професс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у - повареш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http://aksakal.info/uploads/posts/2012-11/1353851710_1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2971800"/>
            <a:ext cx="2409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0"/>
          <p:cNvSpPr/>
          <p:nvPr/>
        </p:nvSpPr>
        <p:spPr>
          <a:xfrm>
            <a:off x="228600" y="152280"/>
            <a:ext cx="28195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жи как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закрепление умения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ывать  прилагательные от существительных , формировать знания о национальных языках своей Родины, развивать речь, 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людей разных националь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татарин-  татарский, мордвин -  мордовский…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2"/>
          <p:cNvSpPr/>
          <p:nvPr/>
        </p:nvSpPr>
        <p:spPr>
          <a:xfrm>
            <a:off x="3733920" y="228600"/>
            <a:ext cx="2895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 профессию»  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детей о профессиях. Формировать умения разделять профессии на мужские и женск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людей разных професс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зрослый перечисляет действия человека определенной профессии, а дети отгадывают, что это за професс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04920" y="4744800"/>
            <a:ext cx="281916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мею право.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область правовых знаний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южетных картинок к статьям «Конвенции ООН о правах ребенка». Картинки с изображением ситуаций, не рассматриваемых в «Конвенции» (ребенок катается на велосипеде, играет в прятки, поливает цветы и т.п.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очередно выбирают  картинку и  объясняют причину своего выбора, остальные обсуждают правильность принят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3733920" y="4724280"/>
            <a:ext cx="28191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то что делает?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  на подбор глаголов к существительным..Развивать речь, логическое мышление, пам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людей разных професси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- варит, жарит и т. д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http://im2-tub-ru.yandex.net/i?id=21393836-06-72"/>
          <p:cNvPicPr/>
          <p:nvPr/>
        </p:nvPicPr>
        <p:blipFill>
          <a:blip r:embed="rId5"/>
          <a:stretch/>
        </p:blipFill>
        <p:spPr>
          <a:xfrm>
            <a:off x="4343400" y="72388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ttp://im3-tub-ru.yandex.net/i?id=84496823-28-72"/>
          <p:cNvPicPr/>
          <p:nvPr/>
        </p:nvPicPr>
        <p:blipFill>
          <a:blip r:embed="rId6"/>
          <a:stretch/>
        </p:blipFill>
        <p:spPr>
          <a:xfrm>
            <a:off x="4800600" y="2819520"/>
            <a:ext cx="1085760" cy="142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http://stranamasterov.ru/img4/i2012/08/28/tatar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90720" y="30481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6"/>
          <p:cNvSpPr/>
          <p:nvPr/>
        </p:nvSpPr>
        <p:spPr>
          <a:xfrm>
            <a:off x="304920" y="152280"/>
            <a:ext cx="2819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мы? Какие мы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человеке , знакомить с внешним строением тела и его возможностями, развивать умение сравнивать и устанавливать простейшие причинно-следственные связи, вызывать интерес к познанию себя, воспитывать бережное отношение к себе и к окружающему миру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ы и изображения человека(мужчины и женщ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картинки с изображениями и предлагает детям найти сходства и отлич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3733920" y="228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3733920" y="228600"/>
            <a:ext cx="2819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е сл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ть желание следовать тому,, что достойно подражания, объективно оценивать поведение , воспитывать доброжелательное и толерантное  отношение к людям,  умение сравнивать и устанавливать простейшие причинно-следственные связ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ы и изображения люде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- добрые, больные – здоровые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228600" y="4724280"/>
            <a:ext cx="2819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енности жизни в современном город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предметами обихода, их функциями и назначением., воспитывать бережное отношение к предметам созданными человеком.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ы и изображения различных предметов созданных людь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очередно выбирают картинку и объясняют для чего нужен этот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0"/>
          <p:cNvSpPr/>
          <p:nvPr/>
        </p:nvSpPr>
        <p:spPr>
          <a:xfrm>
            <a:off x="3733920" y="4724280"/>
            <a:ext cx="28191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рода и челов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том что создано человеком и что дает человеку природа. Формировать навыки бережного отношения  к при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ки и иллюстрации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Воспитатель проводит беседу , и предлагает рассказать что сделано человеком,, а что природой и как человек использует природу для того чтобы люд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жилос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1" descr="http://im5-tub-ru.yandex.net/i?id=103762245-17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7772400"/>
            <a:ext cx="154296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http://im5-tub-ru.yandex.net/i?id=684400756-04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769608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04920" y="228600"/>
            <a:ext cx="289548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сообразительность, чувство юмора, закреплять правила поведения в общественных местах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в том месте где он остановился дети говорят «И я…если эти слова подходят по смыс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шла в магазин…Там очень много товара, я решила купить себе кофточку, а платить не стала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3657600" y="228600"/>
            <a:ext cx="289548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 страну часов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тем как можно узнать время без часов Рассказать о том , что в Москве на кремле есть самые главные часы нашей Родины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ы , картинки и иллюстрации с изображением кремлевских часов и других 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 рассказывает   о том , что раньше люди узнавали время по крику петух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цвет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т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ли часы…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228600" y="4724280"/>
            <a:ext cx="281952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одарок (букет) ты хотел бы подарить маме, бабушке,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нимание , доброжелательность, готовность доставлять близким удовольствие и радость. Закреплять умение общаться в вежливой форме, считаться с интересами другого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праздников и праздничных подар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о том, что все любят получать пода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их след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нос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гда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3733920" y="4724280"/>
            <a:ext cx="28954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аздники ты знаешь 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сообразительность,, память, закрепить знания о праздниках, (народные, государственные, религиозные)  закреплять правила поведения в общественных места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с изображением праздников, открытки к разным праздни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о том что праздники бывают разные, показывает карточки и открытки. Предлагает подобрать карточку с праздником, а к ней тематическую открытку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http://im0-tub-ru.yandex.net/i?id=724142509-3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048120"/>
            <a:ext cx="1371600" cy="1276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http://im7-tub-ru.yandex.net/i?id=252439200-5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7772400"/>
            <a:ext cx="1123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8"/>
          <p:cNvSpPr/>
          <p:nvPr/>
        </p:nvSpPr>
        <p:spPr>
          <a:xfrm>
            <a:off x="3733920" y="142200"/>
            <a:ext cx="27432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ьбедиль М.Ф. Народы мира. Учебное пособие для средней школы. -С-Пб.: Лань,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лобрыкина О.А. Речь и общение.- Ярославль: Академия К., 199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Бондаренко А.К.Дидактические игры в детском саду М.Просвящение, 199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артаньян Э.. История с географией. - Самара: Бахрах, 199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жухова Л.Н. С любовью о доме. - Самара, 200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Куцакова Л.В., Губарева Ю.Н. 1000 развив.игр для детей 5-8 лет. - М.: АСТ Астрель, 200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3733920" y="4800600"/>
            <a:ext cx="28191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Линкольн. М. Первооткрыватели. Путешествия. Космос. — М: Рос-мэнД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 следам прошлого. Книга для начального обучения истории. - М: Терра,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мни род свой. - Тольятти: 13.. Серия «Что есть что». Время. Флаги. - Слово, 199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иповский В.Д. Родная старина. - Н.Новгород, 1993. 11.Сорокина А.И  Дидактические игры в детском саду М.Просвещение.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Швайко Г.С.Игры и игровые упражнения для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шина Ю.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http://im5-tub-ru.yandex.net/i?id=578797118-45-72&amp;n=21">
            <a:hlinkClick r:id="rId5"/>
          </p:cNvPr>
          <p:cNvPicPr/>
          <p:nvPr/>
        </p:nvPicPr>
        <p:blipFill>
          <a:blip r:embed="rId6"/>
          <a:stretch/>
        </p:blipFill>
        <p:spPr>
          <a:xfrm rot="21040200">
            <a:off x="398520" y="500652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im2-tub-ru.yandex.net/i?id=244471907-37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95280" y="4876920"/>
            <a:ext cx="76212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http://im3-tub-ru.yandex.net/i?id=553250318-65-72&amp;n=21">
            <a:hlinkClick r:id="rId9"/>
          </p:cNvPr>
          <p:cNvPicPr/>
          <p:nvPr/>
        </p:nvPicPr>
        <p:blipFill>
          <a:blip r:embed="rId10"/>
          <a:stretch/>
        </p:blipFill>
        <p:spPr>
          <a:xfrm rot="964200">
            <a:off x="2278080" y="5110200"/>
            <a:ext cx="74448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http://im6-tub-ru.yandex.net/i?id=115661754-60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38080" y="632448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im2-tub-ru.yandex.net/i?id=272150235-58-72&amp;n=2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52480" y="632448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http://im3-tub-ru.yandex.net/i?id=326999920-35-72&amp;n=21">
            <a:hlinkClick r:id="rId15"/>
          </p:cNvPr>
          <p:cNvPicPr/>
          <p:nvPr/>
        </p:nvPicPr>
        <p:blipFill>
          <a:blip r:embed="rId16"/>
          <a:srcRect l="16730" t="5946" r="17838" b="-1083"/>
          <a:stretch/>
        </p:blipFill>
        <p:spPr>
          <a:xfrm rot="20303400">
            <a:off x="483840" y="7659360"/>
            <a:ext cx="687240" cy="110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http://im0-tub-ru.yandex.net/i?id=552706522-13-72&amp;n=21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371600" y="7620120"/>
            <a:ext cx="660240" cy="1066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http://im7-tub-ru.yandex.net/i?id=368110159-33-72&amp;n=21">
            <a:hlinkClick r:id="rId19"/>
          </p:cNvPr>
          <p:cNvPicPr/>
          <p:nvPr/>
        </p:nvPicPr>
        <p:blipFill>
          <a:blip r:embed="rId20"/>
          <a:stretch/>
        </p:blipFill>
        <p:spPr>
          <a:xfrm rot="1334400">
            <a:off x="2290680" y="7795800"/>
            <a:ext cx="722520" cy="9763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8"/>
          <p:cNvSpPr/>
          <p:nvPr/>
        </p:nvSpPr>
        <p:spPr>
          <a:xfrm>
            <a:off x="304920" y="228600"/>
            <a:ext cx="28954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ще  челове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жилище человека., о том из чего они сделаны, Прививать любовь к родному  дому, Родине,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с изображением жилища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в том где живет человек,  что жилище бывает  разное яранга, хата, изба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http://900igr.net/datai/istorija/Istorija-drevnego-cheloveka/0020-013-JUrta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057400" y="2819520"/>
            <a:ext cx="1009800" cy="100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http://im6-tub-ru.yandex.net/i?id=381512148-14-72&amp;n=21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7200" y="297180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http://im4-tub-ru.yandex.net/i?id=560529562-22-72&amp;n=21"/>
          <p:cNvPicPr/>
          <p:nvPr/>
        </p:nvPicPr>
        <p:blipFill>
          <a:blip r:embed="rId25"/>
          <a:srcRect l="48016" t="48022" r="0" b="0"/>
          <a:stretch/>
        </p:blipFill>
        <p:spPr>
          <a:xfrm>
            <a:off x="1371600" y="358128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3"/>
          <p:cNvSpPr/>
          <p:nvPr/>
        </p:nvSpPr>
        <p:spPr>
          <a:xfrm>
            <a:off x="304920" y="4810320"/>
            <a:ext cx="2590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а страна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знания детей о нашей Родине, ее стол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й, фотограф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иллюстрации и картины, залает вопросы. Дети отвеча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5" descr="http://im5-tub-ru.yandex.net/i?id=152460876-6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7086600"/>
            <a:ext cx="1990440" cy="128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ttp://im1-tub-ru.yandex.net/i?id=232801465-3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7848720"/>
            <a:ext cx="1965240" cy="900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0"/>
          <p:cNvSpPr/>
          <p:nvPr/>
        </p:nvSpPr>
        <p:spPr>
          <a:xfrm>
            <a:off x="3809880" y="4800600"/>
            <a:ext cx="28195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ая Родина 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знания детей о своей Малой  Родине, об истории нашего города, памятниках и достопримечательност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льятти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люстраций, фотографий города Тольятти и Сама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иллюстрации и картины, залает вопросы. Дети отвечаю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304920" y="380880"/>
            <a:ext cx="289548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и добрых слов» 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на примерах значение слов «простите, извините», воспитывать дружеские отношения, объяснить необходимость извинения, признания вины или доказательства  правоты и справедливости., связь слова и поступка, слово и отнош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о том ,как следует извиняться , где и когда, как применяются эти вежливые слова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3733920" y="228600"/>
            <a:ext cx="28191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по маршруту добрых чувств, поступков, дел и отношений»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тить внимание детей на то, что добрые чувства, поступки и дела вызывают чувство уважения, дружбу и любовь. Формировать дружеские отношения, закреплять правила этикета, правила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разными сюжетами добрых поступков, хорошего и плохого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начинает рассказ о том ,как следует себя вести в том или ином месте, какие поступки хорошие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04920" y="139320"/>
            <a:ext cx="2819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Флаг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Тольятти, Самарской обл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.Сама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закреплению знания флага своей страны,(города, области ,областного центра) закрепить основные цвета флагов, что они обознач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осы красного, синего и белого ц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детям флаг России, убирает и предлагает выложить разноцветные полоски в том порядке, в котором они находятся на флаге Ро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http://im5-tub-ru.yandex.net/i?id=84770582-0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3581280"/>
            <a:ext cx="1100160" cy="671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3733920" y="138960"/>
            <a:ext cx="2819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Герб 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Тольятти, Самарской обл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.Сама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закреплению знания герба своей страны,(города, области ,областного центра) закрепить знания о том что нарисовано на гербе  и что это об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ка герба разрезанная на 6-8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детям герб России,   и предлагает  детям составить герб одно целое из частей кар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0880" y="4814640"/>
            <a:ext cx="2743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о своей  семье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редставление о себе как о члене семьи. Показать значение семьи в жизни человека. Формировать желание рассказывать о членах своей семьи, гордиться ими, любить их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альбом  , составленный совместно с родителями с  семейными фотографиями  с генеалогическим древом семь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im5-tub-ru.yandex.net/i?id=80005247-5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7772400"/>
            <a:ext cx="15825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im7-tub-ru.yandex.net/i?id=13165137-70-72&amp;n=21">
            <a:hlinkClick r:id="rId9"/>
          </p:cNvPr>
          <p:cNvPicPr/>
          <p:nvPr/>
        </p:nvPicPr>
        <p:blipFill>
          <a:blip r:embed="rId10"/>
          <a:srcRect l="0" t="0" r="67395" b="46485"/>
          <a:stretch/>
        </p:blipFill>
        <p:spPr>
          <a:xfrm>
            <a:off x="4876920" y="3581280"/>
            <a:ext cx="6271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3"/>
          <p:cNvSpPr/>
          <p:nvPr/>
        </p:nvSpPr>
        <p:spPr>
          <a:xfrm>
            <a:off x="3733920" y="4800600"/>
            <a:ext cx="2743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ти флаг России, города Тольятти, Самарской обл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закреплению знания флага своей страны,(города, области ,областного центра) закрепить основные цвета флагов, что они обознач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картинки с изображением разных флаг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4-6  предложенных флагов  найти ну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http://im7-tub-ru.yandex.net/i?id=433117259-13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57800" y="8001000"/>
            <a:ext cx="1143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304920" y="152280"/>
            <a:ext cx="2743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ти герб  России, города Тольятти, Самарской обл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закреплению знания герба своей страны,(города, области ,областного центра)  , что они обознач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картинки с изображением разных герб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4-6  предложенных гербов найти ну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733920" y="243720"/>
            <a:ext cx="2895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Как я дома помогаю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ть представления о домашних обязанностях женщин и мужчин, девочек и мальчиков. Воспитывать  желание оказывать помощь 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Картинки с изображением людей, которые исполняют разную работу по д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атель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азывает карточку, предлагает составить рассказ по ней и рассказать кто и  какие обязанности  выполняет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28600" y="4639320"/>
            <a:ext cx="2971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лагородные поступ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ывать в детях желание совершать поступки ради других людей. Формировать понимание того, что поступком мы называем не только героизм, но и любое доброе дело ради друго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ячик, картинки и иллюстрации с изображением благородных поступков.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Детям предлагается перечислить благородные поступки по отношению к девочкам (женщинам) и  мальчикам (мужчинам). Воспитатель кидает в руки  мяч одному из игроков, тот  называет благородный поступок и перекидывает мяч следующему игроку по своему жел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657600" y="4817160"/>
            <a:ext cx="2743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Вежливые сл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ывать в детях культуру поведения, вежливость, уважение друг к другу, желание помочь друг дру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южетные картинки, на которых изображены разные ситуации: ребенок толкнул другого,  ребенок поднял упавшую вещь, ребенок жалеет другого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, и 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спитатель показывает карточку и предлагает составить рассказ по картине</a:t>
            </a:r>
            <a:r>
              <a:rPr b="0" i="1" lang="ru-RU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http://im2-tub-ru.yandex.net/i?id=132399687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00200" y="2895480"/>
            <a:ext cx="952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304920" y="135720"/>
            <a:ext cx="2895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городу Тольят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ить с родным городом, с достопримечательностями  города, с памятниками культур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льбом фотографий родного города, иллюстрации и открытки с изображением достопримечательностей г ор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детям фотографии достопримечательностей города, предлагает назв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ttp://im0-tub-ru.yandex.net/i?id=78259303-42-72&amp;n=4"/>
          <p:cNvPicPr/>
          <p:nvPr/>
        </p:nvPicPr>
        <p:blipFill>
          <a:blip r:embed="rId5"/>
          <a:stretch/>
        </p:blipFill>
        <p:spPr>
          <a:xfrm>
            <a:off x="990720" y="3124080"/>
            <a:ext cx="144756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733920" y="164160"/>
            <a:ext cx="2819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де находится памятник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памятниками, учить ориентироваться в родном г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я памя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демонстрирует детям изображения памятников, просит рассказать, где установлен этот памятн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im3-tub-ru.yandex.net/i?id=71838587-10-72"/>
          <p:cNvPicPr/>
          <p:nvPr/>
        </p:nvPicPr>
        <p:blipFill>
          <a:blip r:embed="rId6"/>
          <a:stretch/>
        </p:blipFill>
        <p:spPr>
          <a:xfrm>
            <a:off x="4724280" y="2743200"/>
            <a:ext cx="957240" cy="14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04920" y="4767840"/>
            <a:ext cx="2895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кт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ить детей с  главными людьми   РФ (Путин, Шайгу, Медведев,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известных соотечестве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портреты, предлагает детям назвать того, кто изображен на портрете и рассказать, чем он знамен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4739760"/>
            <a:ext cx="2971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микрорайон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ить знания детей о своем микрорайоне, об административных  зданиях,  построенных  в ближайшем окружении дет.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тографии и иллюстрации, макет микрорайо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тографиям и иллюстрациям дети узнают и рассказывают  о своем микрорайоне, об административных  зданиях,  построенных  в ближайшем окружении дет.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http://im5-tub-ru.yandex.net/i?id=155490248-4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7391520"/>
            <a:ext cx="1409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04920" y="168840"/>
            <a:ext cx="2895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виды спорт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виды спорта: летние, зимние, спортивный инвентарь. Уяснить, что  занимаясь, спортом мы получаем здоровье, отд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разными видами спорта, пиктограммы видов спорта, символическое изображение человеч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 игры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стают в круг, передают друг другу мяч и называют: зимние виды спорта, летние виды спорта,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09880" y="131760"/>
            <a:ext cx="27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их родителей зовут…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ем знания имени и отчества родителей, дедушек , бабушек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 фотоальбо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передавая друг другу мяч, быстро называют фамилию, имя, отчество мамы и па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4814640"/>
            <a:ext cx="281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9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чера- сегодн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9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чувство времени у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9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зрослый предлагает детям выслушав предложения, определить, какого времени оно касается (настоящего или прошлого). Если прошлого, то дети показывают руками сзади себя – было когда-то, если же предложения касается настоящего, то дети разводят ру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733920" y="4734720"/>
            <a:ext cx="2819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городах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чтовые конверты, открыт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едлагает посмотреть на предметы, определить для чего они нужны. Дает понятие о том, что почта- связь между люд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://www.snowbd.ru/fs/a_news_photo/14441_pic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51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http://im4-tub-ru.yandex.net/i?id=33566883-2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7162920"/>
            <a:ext cx="102888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http://www.pozitiff.info/uploads/posts/2011-07/1310513100_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67080" y="2666880"/>
            <a:ext cx="21812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04920" y="247320"/>
            <a:ext cx="2819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 в какой стране живет?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сширить знания детей о мире, людях которые населяют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: картины и иллюстрации с разными странами мира и народом .Развитие речи., логического мышления, формирование умения употреблять суффик -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Воспитатель показывает изображения и просит определить из какой страны этот человек и как его назов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-китаец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-африканец…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28600" y="4736160"/>
            <a:ext cx="2819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по описанию кто это 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, зная детей о животном мире родного края. Прививать любовь к Родному краю, к Роди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ртинки и иллюстрации  с изображением животного мира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описывает животное , дети отгадываю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733920" y="4814640"/>
            <a:ext cx="281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ого какой домик 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, зная детей о животном мире родного края. Пояснить, что животные тоже имеют право на жильё и неприкосновенность ж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картинки и иллюстрации с изображением жилища животных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дведю – берл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е – дуп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733920" y="248760"/>
            <a:ext cx="2666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планете Зем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ить знания детей о том, что  Земля - планета шарообразной формы (используя глобус). Показать какие движения Земля совершает (вращение вокруг себя, вокруг Солнца).  Помочь детям найти на глобусе  воду (океаны, моря, реки), сушу (горы, равнины, леса, пустыни). Воспитывать в детях интерес к изучению  Земли, на которой мы живем - как к план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обус, карты мира, картинки и иллюстрации с изображением планеты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http://im0-tub-ru.yandex.net/i?id=37304110-2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7543800"/>
            <a:ext cx="1619280" cy="127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://900igr.net/datai/biologija/Dikie/0011-009-ZHilische-belk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777240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ttp://im5-tub-ru.yandex.net/i?id=207612266-25-72&amp;n=21">
            <a:hlinkClick r:id="rId9"/>
          </p:cNvPr>
          <p:cNvPicPr/>
          <p:nvPr/>
        </p:nvPicPr>
        <p:blipFill>
          <a:blip r:embed="rId10"/>
          <a:srcRect l="9193" t="0" r="26439" b="0"/>
          <a:stretch/>
        </p:blipFill>
        <p:spPr>
          <a:xfrm>
            <a:off x="2057400" y="3352680"/>
            <a:ext cx="1066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04920" y="243720"/>
            <a:ext cx="2895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какого дерева лист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знания детей о природе родного края., закрепить умение   образовывать относительные  прилагательные (береза –березовый, дуб – дубовый и т. 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с изображением деревьев и кустарников  и листье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картинки с изображением листка, затем дере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733920" y="242640"/>
            <a:ext cx="281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апте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знания детей о лекарственных растениях родного края; о правильном использовании их в лечебных це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арий, картотека лечебных тр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картинку с изображением лечебной травы , дети отгадывают .Рассказывает о ее целебных свой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28600" y="4744440"/>
            <a:ext cx="30481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красная книга 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редких  растениях и животных , птиц нашего края  занесенных 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сную книгу». Прививать любовь к родине, родному краю , чувство ответствен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»малая красная книга», составленная совместно с родителями, картинки и иллюстрации с изображением редких животных и растений, птиц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у с изображением редких животных и раст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дети назыв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т о  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733920" y="4765320"/>
            <a:ext cx="2819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ны и народ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ширять представление детей о странах Земли и их народах. Прививать интерес к жизни людей с различным бытом, культурой и традициями. Прививать уважение к культуре и традициям разных народов мир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обус, карта Мира, куклы в национальных костюмах, записи мелодии песен разных народов, картинки и иллюстрации с изображением разных стран и народов ми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оказывает картинку с изображением с изображением разных стран и народов мира .Рассказывает о 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http://im5-tub-ru.yandex.net/i?id=475814432-34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20040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http://im3-tub-ru.yandex.net/i?id=139525093-12-72&amp;n=21">
            <a:hlinkClick r:id="rId7"/>
          </p:cNvPr>
          <p:cNvPicPr/>
          <p:nvPr/>
        </p:nvPicPr>
        <p:blipFill>
          <a:blip r:embed="rId8"/>
          <a:srcRect l="0" t="6677" r="1013" b="6677"/>
          <a:stretch/>
        </p:blipFill>
        <p:spPr>
          <a:xfrm>
            <a:off x="4572000" y="31240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ttp://www.x-team.ru/upload/blog/b7b/b7b62a79edb6b052a3951301f5db110c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7848720"/>
            <a:ext cx="9619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1"/>
          <a:stretch/>
        </p:blipFill>
        <p:spPr>
          <a:xfrm>
            <a:off x="342900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2"/>
          <a:stretch/>
        </p:blipFill>
        <p:spPr>
          <a:xfrm>
            <a:off x="0" y="4572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3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C:\Users\Павлозавр\Desktop\юля новый эл партфолио\рамки, шаблоны\Фоны для презентаций и бэйджиков\1 (185).jpg"/>
          <p:cNvPicPr/>
          <p:nvPr/>
        </p:nvPicPr>
        <p:blipFill>
          <a:blip r:embed="rId4"/>
          <a:stretch/>
        </p:blipFill>
        <p:spPr>
          <a:xfrm>
            <a:off x="3429000" y="4572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304920" y="240480"/>
            <a:ext cx="2895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 чего построен д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знания строительных материалах, о том из чего строях жилище человека , умение логически мыслить , закреплять умение образовывать имя прилага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разных жилищ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кло- стеклян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-каменный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733920" y="245160"/>
            <a:ext cx="2819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лое – Нежило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знания детей, что здания бывают – жилыми и нежилыми. В жилых проживают люди; в нежилых расположены организации, подсобные помещения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и иллюстрации с изображением разных стро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тель предлагает определить жилое или не жилое пом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- жилой, магазин –нежилой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04920" y="4813920"/>
            <a:ext cx="2819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вершенствовать речь детей как средства общения, воспитывать дружеские взаимоотношения. Закреплять умение образовывать уменьшительно-ласкательные слова .знакомить с разными именами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иша- Мишенька, Даша- Дашенька, Дашуля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33920" y="4894920"/>
            <a:ext cx="2819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Я люблю… 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 уважительное, заботливое отношение к близким людям, друг к другу, развивает коммуникатив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говорит детям: «Каждый из нас что-то или кого-то любит, всем людям присуще это чувство. Я люблю свою семью, свою работу, люблю вас. Расскажите, а кого или что вы любите». Дети рассказывают о своих чувствах и привязанностя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http://im5-tub-ru.yandex.net/i?id=207612266-2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2438280" y="2971800"/>
            <a:ext cx="211428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http://im6-tub-ru.yandex.net/i?id=126738081-51-72&amp;n=21">
            <a:hlinkClick r:id="rId7"/>
          </p:cNvPr>
          <p:cNvPicPr/>
          <p:nvPr/>
        </p:nvPicPr>
        <p:blipFill>
          <a:blip r:embed="rId8"/>
          <a:srcRect l="0" t="0" r="20012" b="-1562"/>
          <a:stretch/>
        </p:blipFill>
        <p:spPr>
          <a:xfrm>
            <a:off x="914400" y="769608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http://im5-tub-ru.yandex.net/i?id=489586614-31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27432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http://im2-tub-ru.yandex.net/i?id=115719324-57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76920" y="3352680"/>
            <a:ext cx="1218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5-03-07T20:59:24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