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917-5512-4D4B-AF6E-12D0A1C8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785-6C6B-4DCA-BBF9-BD0CF5F7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EA7-48AD-4E14-ABC0-DF7E7726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FDA-94CB-43E9-BB28-18543FA4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528C-957E-408B-AD7D-9ACA3B95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295D-59C3-4ED4-B045-35A5A9A3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1F55-F32A-4071-B2CE-2636356D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D9FE-6C6C-4AE9-B56A-F813C066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67CB-4762-46E5-998A-1E8749CB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8539-C2D5-4BD4-A9AA-625E8B5A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1A7E-EE63-4F88-B6CE-84DA46B2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78D-D566-469E-B61B-6B20D751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08C1-C232-4E19-929B-52F8C6B2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7B05-069E-4C97-9963-4C0D4683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3D80-AAAE-49EB-B2BE-4C6E4CBA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9B88-954E-45B8-A0C1-04A9F6A5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378E-BB84-45DD-95FB-D14C2362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C37BB-F35F-4A59-8506-E26F80BC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60633-E9F5-4AFE-BDCB-FD1F52C6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040C2-857A-47F6-BA9A-905332F5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983FB-6A41-4E1C-A198-EDA1B0A6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EFF71-FDAB-4CC7-A114-C21204F8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102-2CB4-4484-AA08-121E720A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678E3-9A68-4164-A85A-F933846D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A24D-2017-4F65-879C-92F9F149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C8FEB-138A-40BA-9B7D-2D738089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F6B3-A94C-4D54-8DA8-C71B363D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DEA7E-6905-4F21-94EA-92DE06B6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4E3E-C8F0-4CDA-9AE5-108DCF72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2F4C-30D1-48D2-BDDE-5FB89944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954E8-110B-4D4C-BB46-8FE4E3AC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79F2F-942A-45CF-B927-112C76E8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66F3A-4009-413F-832C-4E89DCCF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C2CD-20AC-4521-9A01-260DF359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6696F-15C1-422D-80FD-3C10970E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5750E-BD14-4F48-8DE3-D5F9FECD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891C1-59B0-4215-8FDA-659BD62A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CB2D8-8F99-428A-A698-39B4E057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21E14-F2B1-4AF1-B71A-24E40CC1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409E-ACB3-40A8-A22F-EBAD7D07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BEE70-F011-49FB-8746-4A54DE1C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1DDDD-70D2-48FA-ABA8-D302C664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AB58-3897-4F8D-9E50-B902C5BF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86DDE-5C21-4FDD-9C8D-18904725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213-565E-41BD-9FE0-E988BC80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C7990-DAC8-4FB7-BD72-D889C90E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2A648-8593-4C6A-8F7F-1CC28689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A6682-612B-41C4-9B4A-9938F5C0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6E4DA-6472-4871-9354-57C56596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14ED3-C100-4FE4-81C0-E9A8821A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D6A16-08D3-458E-BACA-B8B75037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28B2F-2F54-4809-B5E3-92260BB0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8D984-AECF-414E-A465-9AD8435C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7E09E-FFFD-4AAF-BA31-8B5EAFD4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B16E4-BFF9-4151-B8B8-79B578F2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B02-52F1-41D9-9583-48A0CEFA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41D43-5AD8-4848-8980-23CB9E56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24D33-1FC5-48DF-8EFF-F7BF3301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6ABFB-BEAF-4B96-A93C-04C6D3EE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BDD3B-9462-49EF-A3A6-E2326380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B05DC-C80C-4596-9CCF-11AFB12D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8ED64-89B2-4CF2-9F7D-E84E1DC6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759BD-E434-40FC-A975-01ACD5E0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5BA79-38F6-44A7-A5E1-602C421C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F1E00-BA18-426F-BB84-A26D3694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B132B-86FD-42DE-B666-07ECB155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269-66A5-4E28-9F48-35B6C8BD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D65D0-674D-4064-B701-517596C2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3140F-5534-4718-8EAF-BBB67C69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33A73-2B69-4440-8B13-C7DD280C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44765-A683-4876-9862-15057DEA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C5C2E-A35A-4FB9-9080-717ED9C5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617FE-2225-4B2D-B789-4B63D25B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3CC2E-E1E1-4AA1-A2AE-84981994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2327B-F6D0-4C75-9576-817EF66C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20E04-AF8A-4D76-9445-08B0A360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6DAD1-DDDD-4EE9-808A-70C2EC52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DD2-AD44-4207-BBD5-0BD87990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9A806-6AD8-497A-A9B4-D0B3AF3A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CE811-26EB-45F4-A25F-6814C68E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B7B04-A11C-4305-A1D0-FBBF7ADD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CF7B5-BB9C-467B-88C9-80C102D4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1622C-0834-44CD-B7FB-5D1D8BF1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08530-9C24-4A8F-8BD5-82390528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A170C-6224-4E1C-8E9C-42498BC4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147C9-5082-4B3E-BCE1-5EDD9D76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4D7A7-B7E7-4351-9115-3C456621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98489-0421-4A98-BD61-2FA9C452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741-2E26-483D-9AD4-E8116B14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4D5E8-7B22-4E4F-81ED-2F4DA1D2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18DE6-BBAE-4D42-8591-9A69A304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138E9-A524-4C19-8DB4-1FAF8C0B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48B07-2173-4515-A5BD-89424654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6BDA3-E073-4F15-8FF5-96870A7E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F3BCF-24FF-476B-8F83-488411A2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A0FB3-5E3F-454A-9CFE-6AA7A705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8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7DD1-51F2-4888-A116-2465D2DD024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8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6C96-9C0F-464C-BA7E-7EC801D61B1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8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B25B-4AA4-4871-9748-EB9D77A30872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8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03CC-40E4-4D29-B66A-6180F0EF3D0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8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9683-9AE7-4817-8CAF-54709048FCF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8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0AD9-21D8-43EB-8EA5-F6E7A7CDAE7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8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CFB6-C3A5-4F9C-A200-D64F7906F6B7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8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A5B0-6815-4AE4-94AE-E2CA55DEA75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7" descr="1652426"/>
          <p:cNvPicPr/>
          <p:nvPr/>
        </p:nvPicPr>
        <p:blipFill>
          <a:blip r:embed="rId1"/>
          <a:stretch/>
        </p:blipFill>
        <p:spPr>
          <a:xfrm>
            <a:off x="0" y="0"/>
            <a:ext cx="9396360" cy="75326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20072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Великая Отечественная войн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22июня 1941г. -9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мая 1945 г.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2" name="Военная песня - Журавли.mp3" descr=""/>
          <p:cNvPicPr/>
          <p:nvPr/>
        </p:nvPicPr>
        <p:blipFill>
          <a:blip r:embed="rId2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4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1154160" y="1219320"/>
            <a:ext cx="68356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Виды села Протасов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4038480"/>
            <a:ext cx="1752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9fb8cd"/>
              </a:solidFill>
              <a:latin typeface="Calibri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352680" cy="25225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7009920" y="4114440"/>
            <a:ext cx="1676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Лес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4495680" y="1295280"/>
            <a:ext cx="36576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3" name="Picture 2" descr="http://img-fotki.yandex.ru/get/4704/puliru.bd/0_4c400_cb38c505_XL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Касицын Василий Ефремович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5" name="Содержимое 5" descr="Рисунок2.jpg"/>
          <p:cNvPicPr/>
          <p:nvPr/>
        </p:nvPicPr>
        <p:blipFill>
          <a:blip r:embed="rId1"/>
          <a:stretch/>
        </p:blipFill>
        <p:spPr>
          <a:xfrm>
            <a:off x="2847960" y="1219320"/>
            <a:ext cx="34480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Касицына Мария Михайловн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7" name="Содержимое 3" descr="Рисунок3.jpg"/>
          <p:cNvPicPr/>
          <p:nvPr/>
        </p:nvPicPr>
        <p:blipFill>
          <a:blip r:embed="rId1"/>
          <a:stretch/>
        </p:blipFill>
        <p:spPr>
          <a:xfrm>
            <a:off x="2743200" y="1447920"/>
            <a:ext cx="370836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55112287_54727136_0_20f75_641adad0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32720" cy="11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Cambria"/>
              </a:rPr>
              <a:t>Память о войне…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560" y="1295280"/>
            <a:ext cx="44701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Прошла война, прошла страд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Но боль взывает к людя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Давайте, люди, никог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Об этом не забуде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3-08T18:06:15Z</dcterms:modified>
  <cp:revision>16</cp:revision>
  <dc:subject/>
  <dc:title>Великая Отечественная Война  22июня1941-9  мая1945)</dc:title>
</cp:coreProperties>
</file>