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11.png" ContentType="image/png"/>
  <Override PartName="/ppt/media/image4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7.gif" ContentType="image/gif"/>
  <Override PartName="/ppt/media/image32.jpeg" ContentType="image/jpeg"/>
  <Override PartName="/ppt/media/image8.png" ContentType="image/png"/>
  <Override PartName="/ppt/media/image13.png" ContentType="image/png"/>
  <Override PartName="/ppt/media/image10.gif" ContentType="image/gif"/>
  <Override PartName="/ppt/media/image20.jpeg" ContentType="image/jpeg"/>
  <Override PartName="/ppt/media/image31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25.png" ContentType="image/png"/>
  <Override PartName="/ppt/media/image27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806-C2E5-43C5-BCD8-71E37DAD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71E-AA0F-4208-9DC1-A80289E4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270-54BB-4166-9F85-09FC8FB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2BA-7387-4097-BE42-22C8596D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B6D-2789-43AD-B027-AF50BE9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E86-A204-42D8-8775-91EC827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26D-D860-4A69-A7ED-92F95B3D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BE1-1143-4F33-BA06-0A2B355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CCD-6FF1-4BB3-9990-3595F4D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4CE-440D-477F-8572-281D13D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E4D-D819-4796-B1AA-EEE8814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E2E-6B14-4B13-A46C-7C9B3E8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9AA-693E-4ACE-BD90-9DE174283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472392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Урок истор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в 5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189000"/>
            <a:ext cx="734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импийские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603360" cy="136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4797360"/>
            <a:ext cx="571320" cy="129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1280" y="2637000"/>
            <a:ext cx="914400" cy="91260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2637000"/>
            <a:ext cx="914400" cy="91584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637000"/>
            <a:ext cx="914400" cy="9144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141720"/>
            <a:ext cx="914400" cy="91440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3141720"/>
            <a:ext cx="914400" cy="914400"/>
          </a:xfrm>
          <a:prstGeom prst="ellipse">
            <a:avLst/>
          </a:prstGeom>
          <a:noFill/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404640"/>
            <a:ext cx="756144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ь незабываемых дней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2158920" cy="145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2303640" cy="142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419640" y="4508640"/>
            <a:ext cx="2016000" cy="129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1554120" cy="2136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236000" y="4221000"/>
            <a:ext cx="1371600" cy="2063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050920" y="4581360"/>
            <a:ext cx="1094040" cy="189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651640" y="4581360"/>
            <a:ext cx="1133280" cy="1967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6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904000" cy="3935160"/>
          </a:xfrm>
          <a:prstGeom prst="rect">
            <a:avLst/>
          </a:prstGeom>
          <a:ln w="76320">
            <a:solidFill>
              <a:srgbClr val="000000"/>
            </a:solidFill>
            <a:prstDash val="lgDashDotDot"/>
            <a:miter/>
          </a:ln>
        </p:spPr>
      </p:pic>
      <p:sp>
        <p:nvSpPr>
          <p:cNvPr id="94" name=""/>
          <p:cNvSpPr/>
          <p:nvPr/>
        </p:nvSpPr>
        <p:spPr>
          <a:xfrm>
            <a:off x="1619280" y="573408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Большинство состязаний проходило на стади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33360"/>
            <a:ext cx="7920000" cy="1297080"/>
          </a:xfrm>
          <a:custGeom>
            <a:avLst/>
            <a:gdLst>
              <a:gd name="textAreaLeft" fmla="*/ 1208160 w 7920000"/>
              <a:gd name="textAreaRight" fmla="*/ 6711840 w 7920000"/>
              <a:gd name="textAreaTop" fmla="*/ 75240 h 1297080"/>
              <a:gd name="textAreaBottom" fmla="*/ 7567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605349"/>
                <a:lnTo>
                  <a:pt x="3295" y="1256"/>
                </a:lnTo>
                <a:arcTo wR="21600" hR="20153" stAng="-6699607" swAng="2599215"/>
                <a:lnTo>
                  <a:pt x="18305" y="7556"/>
                </a:lnTo>
                <a:arcTo wR="21600" hR="20153" stAng="-4100393" swAng="605349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80430"/>
                <a:lnTo>
                  <a:pt x="15605" y="13105"/>
                </a:lnTo>
                <a:arcTo wR="21600" hR="20153" stAng="-4575473" swAng="-1649053"/>
                <a:lnTo>
                  <a:pt x="5995" y="19405"/>
                </a:lnTo>
                <a:arcTo wR="21600" hR="20153" stAng="-6224527" swAng="-1080430"/>
                <a:lnTo>
                  <a:pt x="2700" y="14071"/>
                </a:lnTo>
                <a:close/>
              </a:path>
              <a:path fill="none" w="21600" h="21600">
                <a:moveTo>
                  <a:pt x="5995" y="13105"/>
                </a:moveTo>
                <a:arcTo wR="21600" hR="20153" stAng="-6224527" swAng="-475081"/>
                <a:lnTo>
                  <a:pt x="5995" y="19405"/>
                </a:lnTo>
              </a:path>
              <a:path fill="none" w="21600" h="21600">
                <a:moveTo>
                  <a:pt x="15605" y="13105"/>
                </a:moveTo>
                <a:arcTo wR="21600" hR="20153" stAng="-4575473" swAng="475081"/>
                <a:lnTo>
                  <a:pt x="15605" y="19405"/>
                </a:lnTo>
              </a:path>
              <a:path fill="none" w="21600" h="21600">
                <a:moveTo>
                  <a:pt x="3295" y="7556"/>
                </a:moveTo>
                <a:lnTo>
                  <a:pt x="3295" y="13856"/>
                </a:lnTo>
              </a:path>
              <a:path fill="none" w="21600" h="21600">
                <a:moveTo>
                  <a:pt x="18305" y="7556"/>
                </a:moveTo>
                <a:lnTo>
                  <a:pt x="18305" y="13856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0920" y="620640"/>
            <a:ext cx="5113440" cy="787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Вход на стадион в Олимпии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187200">
            <a:off x="2411280" y="0"/>
            <a:ext cx="417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ятибор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4292640"/>
            <a:ext cx="2520720" cy="208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244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2521080" cy="156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376360" cy="160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1596960" cy="260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3780000" y="3716280"/>
            <a:ext cx="148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1482000">
            <a:off x="5695560" y="1773000"/>
            <a:ext cx="34480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ыжки в длин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19546800">
            <a:off x="0" y="1844640"/>
            <a:ext cx="3352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ание копь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19521000">
            <a:off x="0" y="5300640"/>
            <a:ext cx="31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ание дис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1810200">
            <a:off x="6011640" y="5444640"/>
            <a:ext cx="193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 rot="5400000">
            <a:off x="-1098720" y="2655720"/>
            <a:ext cx="302400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е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567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1" name=""/>
          <p:cNvSpPr txBox="1"/>
          <p:nvPr/>
        </p:nvSpPr>
        <p:spPr>
          <a:xfrm rot="305400">
            <a:off x="2195280" y="-20160"/>
            <a:ext cx="54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ыжки в длин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16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1619280" y="0"/>
            <a:ext cx="5977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ание копь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20192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 rot="5400000">
            <a:off x="-1648080" y="3203640"/>
            <a:ext cx="5832360" cy="52380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етание дис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26436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 rot="5400000">
            <a:off x="-1513800" y="2456640"/>
            <a:ext cx="446544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651640" y="1989000"/>
            <a:ext cx="31478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doni MT Black"/>
              </a:rPr>
              <a:t>(греч. </a:t>
            </a: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hippodromos</a:t>
            </a:r>
            <a:r>
              <a:rPr b="0" lang="ru-RU" sz="2400" spc="-1" strike="noStrike">
                <a:solidFill>
                  <a:srgbClr val="000000"/>
                </a:solidFill>
                <a:latin typeface="Bodoni MT Black"/>
              </a:rPr>
              <a:t>, от hippos — лошадь и dromos — бег,</a:t>
            </a:r>
            <a:r>
              <a:rPr b="1" lang="ru-RU" sz="2400" spc="-1" strike="noStrike">
                <a:solidFill>
                  <a:srgbClr val="000000"/>
                </a:solidFill>
                <a:latin typeface="Bodoni MT Black"/>
              </a:rPr>
              <a:t> место для бега) – </a:t>
            </a:r>
            <a:r>
              <a:rPr b="1" lang="ru-RU" sz="2800" spc="-1" strike="noStrike">
                <a:solidFill>
                  <a:srgbClr val="000000"/>
                </a:solidFill>
                <a:latin typeface="Bodoni MT Black"/>
              </a:rPr>
              <a:t>место проведения конных состя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478200">
            <a:off x="2700360" y="26028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пподр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111640" cy="3402000"/>
          </a:xfrm>
          <a:prstGeom prst="rect">
            <a:avLst/>
          </a:prstGeom>
          <a:ln w="76320">
            <a:solidFill>
              <a:srgbClr val="000000"/>
            </a:solidFill>
            <a:prstDash val="lgDash"/>
            <a:miter/>
          </a:ln>
        </p:spPr>
      </p:pic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441520" cy="601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97224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 rot="5400000">
            <a:off x="-1683000" y="2914560"/>
            <a:ext cx="453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ознич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1187280" y="3213000"/>
            <a:ext cx="597708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онки колесни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979640" y="333360"/>
            <a:ext cx="403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8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 урок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299736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Первые Олимпийск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Пять незабываемых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Победители Олимпий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476280"/>
            <a:ext cx="80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бедители Олимпийских игр</a:t>
            </a:r>
            <a:endParaRPr b="0" lang="en-US" sz="4800" spc="1" strike="noStrike">
              <a:ln w="19080">
                <a:solidFill>
                  <a:srgbClr val="99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92720" cy="443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3881520" cy="584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8" name=""/>
          <p:cNvSpPr txBox="1"/>
          <p:nvPr/>
        </p:nvSpPr>
        <p:spPr>
          <a:xfrm>
            <a:off x="2556000" y="558972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ло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-1439640" y="2313000"/>
            <a:ext cx="45352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ида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5866920" y="2278080"/>
            <a:ext cx="468144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еаге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801720" cy="179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77080" y="4581360"/>
            <a:ext cx="801720" cy="18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03280" y="333360"/>
            <a:ext cx="62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ремония заж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импийского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561440" cy="461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1197000"/>
            <a:ext cx="36734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ый атрибут (с 1928) Олимпийских игр; зажженный от солнечных лучей в Олимпии, доставляется эстафетой на торжественное открытие игр, где горит до их закрытия в специальной чаше на олимпийском стади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89000"/>
            <a:ext cx="460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импийский ого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4017960" cy="602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83528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1700280"/>
            <a:ext cx="6913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33 стр. 149 – 154, вопросы устно стр. 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ворческое за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составить рассказ от имени зрителя; попавшего на Олимпийские игры в древнюю Гре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любознательны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то из русских спортсменов стал первым олимпийским чемпион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08720" y="4221000"/>
            <a:ext cx="168444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3280" y="260280"/>
            <a:ext cx="633744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ые Олимпийские игр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04000" y="4149720"/>
            <a:ext cx="1598760" cy="243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1500120" cy="2584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61920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020000" y="3500280"/>
            <a:ext cx="61920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885600" cy="153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700360" y="1989000"/>
            <a:ext cx="3897360" cy="451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16080" y="334800"/>
            <a:ext cx="64198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се - в Олимпию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вященный мир объявлен, дороги безопасн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а победят сильнейшие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065400" cy="341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708360" y="2205000"/>
            <a:ext cx="518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лимп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городок, расположенный 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Южной Греции, мес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лимпийски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661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звалины храма Геры в Олим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608040" cy="98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08360" y="4149720"/>
            <a:ext cx="504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76 г. до н.э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состоялись первы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лимпий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45440" cy="5449680"/>
          </a:xfrm>
          <a:prstGeom prst="rect">
            <a:avLst/>
          </a:prstGeom>
          <a:ln w="76320">
            <a:solidFill>
              <a:srgbClr val="000000"/>
            </a:solidFill>
            <a:prstDash val="lgDashDotDot"/>
            <a:miter/>
          </a:ln>
        </p:spPr>
      </p:pic>
      <p:sp>
        <p:nvSpPr>
          <p:cNvPr id="66" name=""/>
          <p:cNvSpPr txBox="1"/>
          <p:nvPr/>
        </p:nvSpPr>
        <p:spPr>
          <a:xfrm>
            <a:off x="2556000" y="333360"/>
            <a:ext cx="396720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лимп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975280" cy="5516640"/>
          </a:xfrm>
          <a:prstGeom prst="rect">
            <a:avLst/>
          </a:prstGeom>
          <a:ln w="76320">
            <a:solidFill>
              <a:srgbClr val="000000"/>
            </a:solidFill>
            <a:prstDash val="lgDashDotDot"/>
            <a:miter/>
          </a:ln>
        </p:spPr>
      </p:pic>
      <p:sp>
        <p:nvSpPr>
          <p:cNvPr id="68" name=""/>
          <p:cNvSpPr txBox="1"/>
          <p:nvPr/>
        </p:nvSpPr>
        <p:spPr>
          <a:xfrm>
            <a:off x="539640" y="189000"/>
            <a:ext cx="7848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ины храма Зевса в Олимп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95640" y="1844640"/>
            <a:ext cx="482436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лимпийские игры, в античности древнейшие и самые знаменитые из всех греческих игр. Справлялись в чес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в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рез каждые четыре года, ле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был чисто мужской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846520" cy="3166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826920" y="620640"/>
            <a:ext cx="736308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евс Олимпийский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603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5300640"/>
            <a:ext cx="603360" cy="136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140360" y="5300640"/>
            <a:ext cx="60300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156360" y="5300640"/>
            <a:ext cx="60336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95640" y="5300640"/>
            <a:ext cx="603000" cy="13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440240" cy="6597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2830680" cy="462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 rot="223800">
            <a:off x="5435640" y="836280"/>
            <a:ext cx="3024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т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2708280"/>
            <a:ext cx="381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doni MT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Участник состязаний, человек крепкого телосложения, си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1197000"/>
            <a:ext cx="5832360" cy="324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Причины появлени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Олимпийских игр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3141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оклонение бог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Стремление показать силу и ловкость жителей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801720" cy="157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801720" cy="157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37:53Z</dcterms:created>
  <dc:creator>User</dc:creator>
  <dc:description/>
  <dc:language>en-US</dc:language>
  <cp:lastModifiedBy>Директор</cp:lastModifiedBy>
  <dcterms:modified xsi:type="dcterms:W3CDTF">2015-03-08T20:34:14Z</dcterms:modified>
  <cp:revision>87</cp:revision>
  <dc:subject/>
  <dc:title>Слайд 1</dc:title>
</cp:coreProperties>
</file>