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292-2640-410B-940A-4B7FBA0E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445-745C-4A6C-A67A-7612701C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989-7098-4EC4-BF69-3FEAE0FF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53A-A575-4DC9-BA29-127047A2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9FE5-A335-4A96-877C-FB1652D5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C48E-D037-476F-AA44-D10018D1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F122-9B7C-48EF-9461-2BBFF025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2FD9-DE75-4580-B248-315937A9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18C5-5766-45A8-8CBC-FD4CA681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FC60-A8CE-4729-9F3B-DB6E4122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E58C-A579-4560-A0E6-1559545A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8900-B5D1-478E-BFFD-FA77B292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E03B-D418-404A-AB16-7DAED147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31BF-3E95-431E-9D52-5415DC42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502A-B2F6-497F-B3AF-CF0ECEFB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A927-F4D6-44EB-BD24-51476864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7FC9-7217-41D6-BCD6-7C9E2CDE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E13-CB73-4490-8F95-516C79AD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CC2-1FA4-4DDF-8659-7105FEDD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577-C051-41BF-9947-2D3C066C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A7B-D19B-485A-9EC1-358D837C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F92-C7A0-41A9-93D7-2BEE7D04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BED-CFA8-49D8-AC12-3EAF6BFD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C83-896D-4946-A997-40CA8ADE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1B0E-7411-443A-B14A-7D987C2A0D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96E4-1454-4BBF-B989-1800CEB33F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сновные трудности учащихся 5 класс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йцева С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итуация 5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бенок получил четвертную «двойку» по одному из предметов. Что вы будете 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итуация 6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енок не понял домашнего задания по английскому языку. Он дождался прихода родителей с работы и попросил ему помочь. Мама ответила, что изучала в школе немецкий, а папа сказал, что учился так давно, что уже ничего не помнит. Ребенок пошел в школу неподготовленным и получил «двойку». Что вы будете 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93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Советы родителям, разделяющим учебные проблемы детей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778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арайтесь не ругать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ясните, за что поставлена оц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уйт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валите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вьте доступные ц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73360"/>
            <a:ext cx="792504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Я решил (а) для себя, что никогда не буду...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Для меня (или в нашей семье) главное в поддержке учебы ребенка — это...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Подростковый возраст (10 – 15 лет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ивизация деятельности гипофи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нсивный рост те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тройства кровообра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овое созре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56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Адаптация к новым условиям обучения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ышенная тревож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б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етлив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жение работоспособ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ывчив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организован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ушение сна, аппети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5 основных проблем пятиклассник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8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тавание с начальной школ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бинетная система обуч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ена вида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воение новых предме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ложнение учебного матери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огласованность треб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Эмоци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д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ов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у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лн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е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ив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ят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тимиз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жи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л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гресс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очар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зр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ра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ал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н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ча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итуация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бенок в отчаянии от того, что не может решить задачу. При этом на Ваши вопросы о ее содержании с трудом или не отвечает вовсе. Как в этой ситуации должен действовать родитель, который, возможно, и сам не силен в математи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итуация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кануне ребенок долго и упорно учил историю. Но строгий учитель потребовал не только воспроизведения содержания параграфа, но и задал ряд вопросов по нему. В итоге – лишь тройка». Ребенок заявляет, что больше предмет он учить не тому что «бесполезно». Что дела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итуация 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 algn="just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ридя с работы, застаете ребенка в слезах... Поговорив с ребенком, понимаете, что он не знает, как писать сочинение: с чего начать, какова его логика, как выбрать главное. Но самая большая трудность в том, что ребенок абсолютно уверен в том, что у него да не получится. Кроме того, его уже давно ждут друзья, чтобы поиграть во дворе в футбол, ведь он ключевая фигура – вратарь. Как помочь ребенку, не сломав его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итуация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бенок «принес» из школы запись в дневнике: «Отвлекался на уроке, запускал бумажных голубей». Что вы будете 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20:34:19Z</dcterms:created>
  <dc:creator>User</dc:creator>
  <dc:description/>
  <dc:language>en-US</dc:language>
  <cp:lastModifiedBy>User</cp:lastModifiedBy>
  <dcterms:modified xsi:type="dcterms:W3CDTF">2015-02-02T21:06:42Z</dcterms:modified>
  <cp:revision>2</cp:revision>
  <dc:subject/>
  <dc:title>Основные трудности учащихся 5 класса</dc:title>
</cp:coreProperties>
</file>