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07F-891C-4225-BD99-EABA272D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DE3-A8A0-46B9-AFCF-CDB9753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E6B-5394-4591-AE22-C2C384FE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27D-10C3-44BD-BE3A-03571DC8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70B-90A6-4243-B6A0-1B4DEC9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F76-AF06-4A08-A33E-6992E8F7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39C-13D8-4DCD-ADDC-FA5B1FA4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054-1417-4093-AB10-C32EF32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E67-8DEA-447A-BC4B-70033BD5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F06-4AC7-4158-A804-453AAFF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65E-1827-407E-B3D2-C3A07C4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C8F-9F86-4A02-BB89-EA666BB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B99-7CCD-411B-86E0-BA9D8B85AB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89480" y="6308640"/>
            <a:ext cx="2896560" cy="30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-психолог Садыкова Г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68360" y="404640"/>
            <a:ext cx="813600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сихологическое здоровье –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его поддержа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d0b39"/>
                </a:solidFill>
                <a:latin typeface="Arial"/>
              </a:rPr>
              <a:t>Естественные приемы регуляции организм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х, улыбка, юм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ышления о хорошем, приятн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е движения типа потягивания, расслабления мыш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ейзажем за окн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цветов в помещении, фотографий, других приятных или дорогих для человека вещ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енное обращение к высшим силам (Богу, Вселенной, великой иде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ание» (реальное или мысленное) в солнечных луч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ыхание свежего воздух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стих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похвалы, комплиментов кому-либо просто т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d0b39"/>
                </a:solidFill>
                <a:latin typeface="Arial"/>
              </a:rPr>
              <a:t>СПОСОБЫ САМОРЕГУЛЯЦИИ</a:t>
            </a:r>
            <a:br>
              <a:rPr sz="4000"/>
            </a:br>
            <a:r>
              <a:rPr b="0" lang="ru-RU" sz="4000" spc="-1" strike="noStrike">
                <a:solidFill>
                  <a:srgbClr val="cd0b39"/>
                </a:solidFill>
                <a:latin typeface="Arial"/>
              </a:rPr>
              <a:t>САМОВОЗДЕЙСТВ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пособы, связанные с управлением дых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дыханием — это эффективное средство влияния на тонус мышц и эмоциональные центры моз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ленное и глубокое дыхание (с участием мышц живота) понижает возбудимость нервных центров, способствует мышечному расслаблению, то есть релакс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е (грудное) дыхание, наоборот, обеспечивает высокий уровень активности организма, поддерживает нервно-психическую напряж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613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пособы, связанные с управлением тонусом мышц, дви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воздействием психических нагрузок возникают мышечные зажимы, напряжение. Умение их расслаблять позволяет снять нервно-психическую напряженность, быстро восстановить сил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III. Способы, связанные с воздействием с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есное воздействие задействует сознательный механизм самовнушения, идет непосредственное воздействие на психофизиологические функции организ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и самовнушений строятся в виде простых и кратких утверждений, с позитивной направленностью (без частицы «не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доб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IV. Способы, связанные с использованием обра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бразов связано с активным воздействием на центральную нервную систему чувств и представлений. Множество наших позитивных ощущений, наблюдений, впечатлений мы не запоминаем, но если пробудить воспоминания и образы, с ними связанные, то можно пережить их вновь и даже усилить. И если словом мы воздействуем в основном на сознание, то образы, воображение открывают нам доступ к мощным подсознательным резервам псих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  усиления   эффекта    упражн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аксаций, дыхательных и образных     можно рекомендовать использование   ц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спользование ц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685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ы   ощущаете, что Вам недостает жизненной энергии – смело используйт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расный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ам не хватает чувства психологической свободы и умения приспосабливаться к внешним обстоятельствам  -  работайте с </a:t>
            </a:r>
            <a:r>
              <a:rPr b="1" lang="ru-RU" sz="1800" spc="-1" strike="noStrike">
                <a:solidFill>
                  <a:srgbClr val="ff9966"/>
                </a:solidFill>
                <a:latin typeface="Arial"/>
              </a:rPr>
              <a:t>оранжевым цв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Желтый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ожет Вам, если  Вы  чувствуете упадок сил и хотели бы получить заряд активности, если Вы находитесь в конфликте с самим соб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   равнодушии и  чувстве апатии,  при  желании быть более открытым и более спокойным  Вам  поможет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зеленый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Arial"/>
              </a:rPr>
              <a:t>Голубой 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следует  использовать,  если  Вас тяготят  ваши обязанности, если Вы действуете,  не задумываясь о последствиях своих поступ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  Вы проявляете  излишнюю эмоциональность и не контролируете  свои реакции,  используйт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ний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Фиолетовый  ц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казывает большое влияние на область чувств,   именно  его   надо  использовать,  если  Вы   часто по необъяснимым  причинам испытываете горечь, чувствуете  себя   обманутым, вас мучают  сомнения, и Вы  впадаете в состояние  депре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3" descr="x_c51d460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neprijatnost_ehtu_my_perezhivjom.mp3" descr=""/>
          <p:cNvPicPr/>
          <p:nvPr/>
        </p:nvPicPr>
        <p:blipFill>
          <a:blip r:embed="rId2"/>
          <a:stretch/>
        </p:blipFill>
        <p:spPr>
          <a:xfrm>
            <a:off x="8459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Рисунок 3" descr="x_d0e6e8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5" descr="x_f87f4e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Рисунок 3" descr="x_d85eb6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3" descr="x_a71e723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Здоровь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состояние полного  физического, душевного и социального благополучия, а не только отсутствие физических дефектов или болез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Устав Всемирной организации здравоохран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3" descr="x_361462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3" descr="x_6693208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Рисунок 3" descr="x_025087e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3" descr="x_91d55db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Рисунок 3" descr="x_89ac63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3" descr="x_60f4449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3" descr="x_6aa42fc8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3" descr="x_4a9a4b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5" descr="ef45407d75b2d5fd90770b449db0e54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3" descr="e7c7cbf5df43b889affdc477e93a1c2f.jpeg"/>
          <p:cNvPicPr/>
          <p:nvPr/>
        </p:nvPicPr>
        <p:blipFill>
          <a:blip r:embed="rId1"/>
          <a:stretch/>
        </p:blipFill>
        <p:spPr>
          <a:xfrm>
            <a:off x="-27000" y="0"/>
            <a:ext cx="925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aff"/>
                </a:solidFill>
                <a:latin typeface="Arial"/>
              </a:rPr>
              <a:t>Психологическое здоров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9ff"/>
                </a:solidFill>
                <a:latin typeface="Arial"/>
              </a:rPr>
              <a:t>Психологическое здоровье человека связано с особенностями личности, является важной составляющей социального самочувствия человека, с одной стороны, и его жизненных сил, с друг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298c09d05933aabd6c14831cc083170e.jpeg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3" descr="9b5d7d10cff5d0de3655aa06d38a79f2.jpeg"/>
          <p:cNvPicPr/>
          <p:nvPr/>
        </p:nvPicPr>
        <p:blipFill>
          <a:blip r:embed="rId1"/>
          <a:stretch/>
        </p:blipFill>
        <p:spPr>
          <a:xfrm>
            <a:off x="0" y="-27000"/>
            <a:ext cx="9468000" cy="69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Картинка 40 из 168937"/>
          <p:cNvPicPr/>
          <p:nvPr/>
        </p:nvPicPr>
        <p:blipFill>
          <a:blip r:embed="rId1"/>
          <a:stretch/>
        </p:blipFill>
        <p:spPr>
          <a:xfrm>
            <a:off x="304920" y="42840"/>
            <a:ext cx="861048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331f2ccd2630277b060764015abe3569.jpeg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Картинка 68 из 1689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инка 76 из 168937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1284399246_motivator-7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1286026623_motivator-4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289199527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1286026697_motivator-38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33300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Критерии психического здоровья: 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28800"/>
            <a:ext cx="8586720" cy="5268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сихическое равновес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гармоничность организации психики и ее адаптивные возможности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пособность адекватного восприятия окружающей среды и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сознанного совершения поступк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целеустремленность, работоспособность, актив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лноценность семейной жизн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пособность самоуправления поведением в соответствии с норм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чувство ответственности за потомство и близких членов семь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критический подход к обстоятельствам жиз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автономность личности, самоактуализация, уверенность в себе, необидчивость (умение освободиться от затаенных обид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зависимость и естественность по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чувство юмора, доброжелательность, способность к адекватной самооцен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амообладание и способность радов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Картинка 67 из 168937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24000" y="789120"/>
            <a:ext cx="84247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Большая мудрость содержится в изречен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«Господи, дай мне силы изменить то, что я могу изменить, терпение — принять то, что я не могу изменить, и ум — отличать одно от другого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всей души желаю Вам  удачи  и успехов  в  умении управлять своим состоя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3a3a3"/>
                </a:solidFill>
                <a:latin typeface="Arial"/>
              </a:rPr>
              <a:t>Психологический клима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Наличие внешней мотив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Стимуляция внутренней мотив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Взаимоотношения между учителем и учен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Взаимоотношения между учащими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Наличие эмоциональных разряд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Здоровье учител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Зависит  о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Отношения к н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Полноты знаний по сохранению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12d"/>
                </a:solidFill>
                <a:latin typeface="Arial"/>
              </a:rPr>
              <a:t>Образа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 flipV="1">
            <a:off x="2286000" y="4503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рач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.К. Смир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C:\Users\Тальгат\Desktop\img3.jpg"/>
          <p:cNvPicPr/>
          <p:nvPr/>
        </p:nvPicPr>
        <p:blipFill>
          <a:blip r:embed="rId1"/>
          <a:stretch/>
        </p:blipFill>
        <p:spPr>
          <a:xfrm>
            <a:off x="318960" y="558720"/>
            <a:ext cx="8467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Мд и патология Ш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и растройства нередко затрудняют обучение детей, вызываю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аморегуля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это управление своим психоэмоциональным состоянием, достигаемое путем воздействия человека на самого себя с помощью слов, мысленных образов, управления мышечным тонусом и дых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 результате саморегуляции могут возникать три основных эфф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успокоения (устранение эмоциональной напряженност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восстановления (ослабление проявлений утомл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активизации (повышение психофизиологической реактив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2:43:31Z</dcterms:created>
  <dc:creator>Alina</dc:creator>
  <dc:description/>
  <dc:language>en-US</dc:language>
  <cp:lastModifiedBy>Тальгат</cp:lastModifiedBy>
  <dcterms:modified xsi:type="dcterms:W3CDTF">2014-12-29T05:16:07Z</dcterms:modified>
  <cp:revision>101</cp:revision>
  <dc:subject/>
  <dc:title>Слайд 1</dc:title>
</cp:coreProperties>
</file>