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4C8E-9EB2-40A2-AD50-41C2D25933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5E12-EE09-486E-80A3-7723103A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1BC9-532A-4715-9E58-58427F35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F884-DD04-4C9A-923D-A44AC980E2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54B1-F5EB-4714-B028-FA049BA2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A3F5-B542-4E5B-B871-5DB368F9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69B2-499F-4FBA-B570-600CE874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13A57-0A99-44D1-8A74-60B793F0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5E80-D78C-4E3C-8963-5820AFBE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6BAE-B449-43B9-8EE9-61D610F3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3E5F8-D677-4A80-8119-D3F91CBB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C287-6369-4977-8D86-D09425CF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7AD38-95E1-4B5A-813B-B5DB7DD2E2A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907920"/>
            <a:ext cx="7631280" cy="26924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ПРАЗДНОВАНИЕ 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НОВОГО ГОДА И РОЖДЕСТ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645000"/>
            <a:ext cx="640080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5373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мокшанским народ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88800" y="5180040"/>
            <a:ext cx="7747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зентацию составил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дина Наталья Дмитри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95640" y="549360"/>
            <a:ext cx="4248360" cy="2879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907920"/>
            <a:ext cx="3166920" cy="5580360"/>
          </a:xfrm>
          <a:prstGeom prst="rect">
            <a:avLst/>
          </a:prstGeom>
          <a:noFill/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время Рождества  пелись рождественские песни, в которых славили рождение Христа. Причем, если колядки исполнялись, как правило, в сенях или под окном, то рождественские песни – обязательно дома. Славильщикам давали деньги,  конфеты, а не пироги и хлеб, как накану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067280" y="3645000"/>
            <a:ext cx="42498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1125360"/>
            <a:ext cx="8208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476280"/>
            <a:ext cx="36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 настоящее время молодые, и пожилые люди наряжаются кто во что горазд: в национальные костюмы, новогодние маски, мужчины переодеваются в женщин и наоборот. Отдельные компании ходят по домам, протягивая мешок, запевают: «Вай! Каляда, каляда! Карьхкенязон каяда! Кие каей карьхкенязон, тень шачи цераня» («Ой! Коляда! Коляда! Положите мне подарки! Кто положит, у того родится сын»). Сельские жители верят, что тем, к кому зашли колядующие, весь год будет сопутствовать удача. Только надо не поскупиться на подарки. Кто в мешок деньги кладет, кто сувениры, игрушки или что- то из еды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59280" y="549360"/>
            <a:ext cx="52578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76280"/>
            <a:ext cx="324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ждество не только на улицах сел становится многолюдно и весело. И в городах дети ходят по домам и собирают сладости. Правда, не ночью, а в праздничное утро. «Открывайте сундучки, подавайте пятачки!», - весело выкрикивают ребята с поро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708360" y="1484280"/>
            <a:ext cx="476244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333360"/>
            <a:ext cx="49687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рожилы  нашего села вспоминают, как они в свое время отмечали Рождество. Вечером шестого января все неженатые парни ходили по селу и брали по ведру картошки. Ею они расплачивались за дом, который снимали на восемь дней. «Кштинь куд» - «Рождественский дом». Здесь целую неделю проходили мордовские пляски. Ребята приглашали девушек и вели их в этот дом. Барышни к танцам готовились заранее, обязательно надевали национальный костюм. «Панар» – рубаха, с вышивкой на подоле –«киви», поверх «рыкава» - атласный или шелковый фартук, которыми девушки каждый день менялись друг с другом. Грудь украшали многочисленными бусами – «крганят». На голову повязывали платки, причем делали это пожилые люди. В селе было только две-три бабушки, которые в совершенстве владели искусством правильно завязывать мордовский платок, поэтому к ним выстраивалась очеред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64000" y="692280"/>
            <a:ext cx="457056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ctr">
              <a:spcBef>
                <a:spcPts val="1349"/>
              </a:spcBef>
              <a:buClr>
                <a:srgbClr val="c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Новый год(од киз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50720" y="1981080"/>
            <a:ext cx="4124520" cy="4148280"/>
            <a:chOff x="450720" y="1981080"/>
            <a:chExt cx="4124520" cy="414828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450720" y="1981080"/>
              <a:ext cx="4124520" cy="41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7200" y="1989000"/>
              <a:ext cx="4111560" cy="41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9840" indent="-33984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В первый день Нового года совершали то, что должно было иметь воздействие  на весь последующий период: готовили сытную еду с набором ритуальных блюд (каша, хлеб, блины). Вера в магию первого дня проявлялась и в представлениях о том, что первый посетитель или первое встреченное в этот день лицо приносит счастье или несчастье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29322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Гадание(содам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1341360"/>
            <a:ext cx="52671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овогодних обрядах видное место занимают приметы и гадания, которые затрагивают две важные темы, касающиеся жизнеобеспечения семьи: земли и урожая; личной жизни, судьбы человека и его брачного союза. Первая больше интересует стариков, вторая – молодежь. Но обе темы направлены на жизнеобеспечение семьи, продолжение рода. Смысл этих гаданий, в основном, сводится к психологическим размышлениям людей о своем будущем в наступающем году. Но гадания, вероятно, имеют двоякое значение: после подобных процедур человек может настроиться на ожидание приятных событий или, наоборот, может быть нежелательный эффект для здоровья гадающе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38098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056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Рождество (Роштув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404352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ождество Христово называют «матерью всех праздников». Значение этой святой ночи столь велико, что даже ход новой истории и наше летосчисление ведем мы от Рождества Христо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75"/>
              </a:spcBef>
              <a:buClr>
                <a:srgbClr val="953735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953735"/>
                </a:solidFill>
                <a:latin typeface="Calibri"/>
              </a:rPr>
              <a:t>Как вы думаете, почему этот праздник так называется?(Мес тя илать тяфтома лемоц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032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очельник накануне Рождества до «вечерней звезды», то есть до вечерних песнопений ,когда «Волхвы же со звездою путешествуют»,  ничего не ели и не садились за стол. Родители рассказывали детям о том, как волхвы пришли поклониться новорожденному Иисусу Христу и принесли ему дорогие подарк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81636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19640" y="1052640"/>
            <a:ext cx="3673440" cy="5113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620640"/>
            <a:ext cx="432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праздник был особенно любим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ятишки с малых лет перенимали от старших не только народную мудрость, но и сложившиеся веками традиции и обыча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домах украшали любимую с детства рождественскую ел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 как вы думаете ,почему именно ель мы наряжаем на Новый год и Рождество? И от кого мы переняли эту традицию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549360"/>
            <a:ext cx="50515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есная красавица пришла в Россию из Германии относительно недавно - при Петре I. Вечная зелень ели и других растений (можжевельника, лавра, сосны) была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символом неувядающей жизни.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оэтому и стали у нас украшать еловыми ветками дома и хра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363528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Калядование(Калядань чи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кануне Рождества проводили калядование,  этот день у мордовского народа назывался 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калядань ч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день коляды. Он олицетворял рождение солнца, сулил изобилие в предстоящем году. Днем дети, а вечером молодые парни и девушки ходили по домам  и исполняли песни, в которых желали хозяевам благополучия и хорошего урожая Колядовщикам пекли специальные пирожки 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калядань прякат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 различной начинкой: картошкой, горохом, капустой, калино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2:15:35Z</dcterms:created>
  <dc:creator>Microsoft</dc:creator>
  <dc:description/>
  <dc:language>en-US</dc:language>
  <cp:lastModifiedBy>1</cp:lastModifiedBy>
  <dcterms:modified xsi:type="dcterms:W3CDTF">2001-12-31T20:10:52Z</dcterms:modified>
  <cp:revision>19</cp:revision>
  <dc:subject/>
  <dc:title>ПРАЗДНОВАНИЕ  НОВОГО ГОДА И РОЖДЕСТВА </dc:title>
</cp:coreProperties>
</file>