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27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7.gif" ContentType="image/gif"/>
  <Override PartName="/ppt/media/image26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9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9CF-1DC4-4DBF-9BCB-022C3CC5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55C-39D1-4101-A228-4D675AA5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091-FB00-4D35-B273-F93D85C3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E66-D4BA-4FB5-A3D6-CC2E1123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B1D9-9547-416E-9E62-E3569D5D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4A59-A3E5-41DA-BA60-605D19F5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67C2-E607-4D95-AED2-BB97C897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21CC-AA52-443F-81EA-C6B6C069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2541-EEAD-4148-8987-604B1EBF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09E6-EF21-4C03-98FC-912599B1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DE85-4580-4C42-AE2B-D5144E06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593-CA2A-4529-88AD-B663792A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55E7-E11B-4D28-B327-053AF146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8A03-C2F3-4933-8F65-8BB3DE45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6110-007C-4314-A516-D2067201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471A-2D56-47BB-AB1D-3F5105D1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97DE-0F79-4E29-9459-A8930F38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A3A-4BD8-4DE6-B03A-207404BF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3CD-40DB-4392-B9D6-7A48A790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587-E7D1-447D-ACE2-096EB630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C12-415C-4C45-BA15-3BAC4833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DAC-0A3F-439F-A657-B5145625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3A7-94F8-45EE-BC7C-F7890519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952-1A23-4828-9D41-57C44404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89C0-E92F-4495-B604-9E8A159633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3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E902-CA62-4A63-B6DF-6FFB175863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ntclub.ru/cat/term/sushchestva/tli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11430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ский сад «Ромашка» с. Молчан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роект «Муравьишка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тельной групп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ашова В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чан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детьм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ние иллюстра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сказок «Сказка о муравье и гусенице» Валентина Грохольская, «Муравей и голубь» Перевод Вадима Пака, «Отчего у муравья тонкое брюшко?» Алтайская народная сказка, «Сказка о муравье Рашке и тле Тюпе» Юлия Ярмоленко, «Один за всех, а все за одного» Ирина Пивовароввва, «О муравье, который не боялся ни шипов, ни паука» Ондржей Секора, «Как муравьишка домой спешил» В.В. Биан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мотр мультфильмов «Флик», «Путешествие муравь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измину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равей нашел были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о было с ней хлоп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бревно взвалил на спи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домой ее нес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сгибается под нош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ползет уже с тру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зато какой хороший муравей возводит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все дальше в лес ид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овсем не уста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равья чтоб нам най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о мостик перей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есь придется прополз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мо кустиков пойд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заденем, не помне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з болото вьется  дорож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кочки на кочку прыгают нож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ы узнали, ч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равьи живут в муравейнике одной большой и дружной семьей. В одном муравейнике муравьев столько, сколько людей в большом го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ит в муравейнике муравьиная царица. В молодости у нее были небольшие крылышки, и она любила порезвиться и полетать. Но, потом, став почтенной матерью большого муравьиного семейства, муравьиха отгрызает себе крылья и с этих пор живет в муравейнике. Она откладывает яички, из которых позже появятся личинки. О личинках будут заботиться рабочие муравьи: кормить и ухаживать за ними. Муравьи, появившись на свет, не растут. Какими родились, такими и пригодили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у всех насекомых, у муравьев есть усики-антенны, с помощью которых муравей получает информацию о запахе, вкусе и сообщает о ней своим собрать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равьи умеют ходить по гладким или наклонным поверхнос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дь на каждой лапке у муравья два коготка, между ними подушечка, выделяющая клейкую жидкость, которая и позволяет муравью не пад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равьи больше всего любят лакомиться пядью – так называется вещество, выделяемое тлями. А еще едят муравьи других насекомых, особенно любят кузнечиков. Даже поговорка есть про это: «Лучший подарок муравью – ножка кузнечика». Еще едят грибы, сок и семена раст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равьи уничтожают множество вредных насекомых, поэтому их называют «санитарами лес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птицы специально прилетают за помощью к муравьям, которые очищают птицу от многочисленных паразитов, смазывают ей перья муравьиной кисло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ть у муравьев и враги. Муравьями питаются многие птицы, земноводные и пресмыкающиеся, а также барсуки, лисы, медведи и другие звери. Гнезда рыжих лесных муравьев используются как места зимних ночевок кабан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ые крупные муравьи живут в Аф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7339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рытие из иголок и веточек. Защищает жилище от превратностей погоды, ремонтируется и обновляется рабочими муравь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"Солярий" - камера, нагреваемая лучами солнца. Весной обитатели забегают сюда погре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Один из входов. Охраняется солдатами. Служит вентиляционным кана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"Кладбище". Сюда рабочие муравьи относят умерших собратьев и мус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Зимовальная камера. Насекомые собираются здесь, чтобы пережить холода в состоянии полу спя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"Хлебный амбар". Здесь муравьи хранят зер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Царская камера, где живет матка, откладывающая до полутора тысяч яиц в день. За ней ухаживают рабочие мурав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Камеры с яйцами, личинками и кукол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. "Коровник", где муравьи содержат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. "Мясная кладовка", куда муравьи приносят гусениц и другую добыч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images"/>
          <p:cNvPicPr/>
          <p:nvPr/>
        </p:nvPicPr>
        <p:blipFill>
          <a:blip r:embed="rId2"/>
          <a:stretch/>
        </p:blipFill>
        <p:spPr>
          <a:xfrm>
            <a:off x="762120" y="106668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Рисунок1"/>
          <p:cNvPicPr/>
          <p:nvPr/>
        </p:nvPicPr>
        <p:blipFill>
          <a:blip r:embed="rId3"/>
          <a:stretch/>
        </p:blipFill>
        <p:spPr>
          <a:xfrm>
            <a:off x="4648320" y="1066680"/>
            <a:ext cx="3733560" cy="2438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равей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ихотв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уравьиный тер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дко пахнут сосновой смол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огретые темные п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иголочек высохшей хв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ят терем лесной мурав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оропно, с рабочей сноров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вят балки и бревна кла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о спорится бойко и лов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ут в доме тепло и ую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ут в тереме малые 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но спать под напевы дож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 и встает на рас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ящий лесной мурав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. А.Шорыг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есу мурашки – мурав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ут своим тру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них обычаи св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уравейник –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любивые жиль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дела не сид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тра на пост бегут бой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няньки в детский с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ий муравей спеш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опинкой трудо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тра до вечера шурш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аве и под лист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. Михал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п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этап – формирование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этап – помощь в решении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людения за муравьями на участ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ение познавательных рассказов и разучивание стихотвор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этап – подготовка к презент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тавка рисунков, поде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6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8" descr="DSC05490"/>
          <p:cNvPicPr/>
          <p:nvPr/>
        </p:nvPicPr>
        <p:blipFill>
          <a:blip r:embed="rId1"/>
          <a:stretch/>
        </p:blipFill>
        <p:spPr>
          <a:xfrm>
            <a:off x="1600200" y="1447920"/>
            <a:ext cx="603396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9" descr="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DSCF8493"/>
          <p:cNvPicPr/>
          <p:nvPr/>
        </p:nvPicPr>
        <p:blipFill>
          <a:blip r:embed="rId1"/>
          <a:stretch/>
        </p:blipFill>
        <p:spPr>
          <a:xfrm>
            <a:off x="1066680" y="1371600"/>
            <a:ext cx="3276720" cy="22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DSC04792"/>
          <p:cNvPicPr/>
          <p:nvPr/>
        </p:nvPicPr>
        <p:blipFill>
          <a:blip r:embed="rId2"/>
          <a:stretch/>
        </p:blipFill>
        <p:spPr>
          <a:xfrm>
            <a:off x="5105520" y="1295280"/>
            <a:ext cx="306684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DSC05489"/>
          <p:cNvPicPr/>
          <p:nvPr/>
        </p:nvPicPr>
        <p:blipFill>
          <a:blip r:embed="rId3"/>
          <a:stretch/>
        </p:blipFill>
        <p:spPr>
          <a:xfrm>
            <a:off x="1143000" y="3886200"/>
            <a:ext cx="3276720" cy="2309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DSCF5298"/>
          <p:cNvPicPr/>
          <p:nvPr/>
        </p:nvPicPr>
        <p:blipFill>
          <a:blip r:embed="rId4"/>
          <a:stretch/>
        </p:blipFill>
        <p:spPr>
          <a:xfrm>
            <a:off x="5181480" y="3809880"/>
            <a:ext cx="3095640" cy="2309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"/>
          <p:cNvPicPr/>
          <p:nvPr/>
        </p:nvPicPr>
        <p:blipFill>
          <a:blip r:embed="rId5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DSC05783"/>
          <p:cNvPicPr/>
          <p:nvPr/>
        </p:nvPicPr>
        <p:blipFill>
          <a:blip r:embed="rId1"/>
          <a:stretch/>
        </p:blipFill>
        <p:spPr>
          <a:xfrm>
            <a:off x="1066680" y="4038480"/>
            <a:ext cx="327996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DSC05779"/>
          <p:cNvPicPr/>
          <p:nvPr/>
        </p:nvPicPr>
        <p:blipFill>
          <a:blip r:embed="rId2"/>
          <a:stretch/>
        </p:blipFill>
        <p:spPr>
          <a:xfrm>
            <a:off x="1066680" y="152388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DSC05797"/>
          <p:cNvPicPr/>
          <p:nvPr/>
        </p:nvPicPr>
        <p:blipFill>
          <a:blip r:embed="rId3"/>
          <a:stretch/>
        </p:blipFill>
        <p:spPr>
          <a:xfrm>
            <a:off x="5029200" y="15238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DSCF5306"/>
          <p:cNvPicPr/>
          <p:nvPr/>
        </p:nvPicPr>
        <p:blipFill>
          <a:blip r:embed="rId4"/>
          <a:stretch/>
        </p:blipFill>
        <p:spPr>
          <a:xfrm>
            <a:off x="5105520" y="4038480"/>
            <a:ext cx="3352680" cy="2362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/>
          <p:cNvPicPr/>
          <p:nvPr/>
        </p:nvPicPr>
        <p:blipFill>
          <a:blip r:embed="rId5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ти рассказы о муравьях, заг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чинить с детьми сказки о муравьях по предложенному зачи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стовки для родителей и детей «Берегите муравье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70541_foto1_03"/>
          <p:cNvPicPr/>
          <p:nvPr/>
        </p:nvPicPr>
        <p:blipFill>
          <a:blip r:embed="rId1"/>
          <a:stretch/>
        </p:blipFill>
        <p:spPr>
          <a:xfrm>
            <a:off x="5029200" y="1600200"/>
            <a:ext cx="3362400" cy="4038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спорт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ид проек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групп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одолжительность проек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2 нед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Участники проек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дети подготовительной группы, 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утов Саша                       Малахова Ка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ндракова Люба            Янченко Се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чев Ростислав              Петухова 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вянин Юра                     Утанан Ром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крина Аня                      Карнаева 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ирнов Тимофей             Костенко По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исо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спользуемой литератур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сенова М. Д.  Энциклопедия для детей. Энциклопедия «Я познаю мир». Удивительные животные. – М.: Астраль,1990г Гребенников В. « Тайны мира насекомых».- Н.: Новосибирское книжное издательство, 1990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иковский П.И.. «Друзья- насекомые».-М.: Детская литература, 1974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уждина Т. И.  Энциклопедия для малышей Чудо –всюду. Мир животных и растений.- Ярославль: Академия развития, 199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лариус А.Ю. Энциклопедия « Я познаю мир». Зоология.- М.: Астраль, 200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жевский  А.Е.Энциклопедия «Я познаю мир». Экология.- М.: Астраль,2001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м на игровых участках нашего детского сада всегда много муравьев. Дети с большим удовольствием наблюдают за ни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ремя прогулки на участке около березы, были замечены муравьи. Некоторые дети заинтересовались ими, а другие посчитали, что муравьев нужно уничтожить. Между детьми разгорелся спор, что делать с муравьями. Я подвела их к мысли, что если мы не знаем, как поступить, нам нужно расширить знания о насекомых и на основе этих знаний принять соответствующее реш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детей в проекте позволит сформировать представления о муравьях, их пользе или вреде, развить творческие способности и поисков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брать и изучить сведения о жизни муравьёв в муравей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4829"/>
          <p:cNvPicPr/>
          <p:nvPr/>
        </p:nvPicPr>
        <p:blipFill>
          <a:blip r:embed="rId1"/>
          <a:stretch/>
        </p:blipFill>
        <p:spPr>
          <a:xfrm>
            <a:off x="2057400" y="2971800"/>
            <a:ext cx="4495680" cy="2362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2"/>
          <a:stretch/>
        </p:blipFill>
        <p:spPr>
          <a:xfrm>
            <a:off x="-33480" y="-7452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работник настоя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ень, очень работя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 сосной в лесу гу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хвоинок строит до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1"/>
          <p:cNvPicPr/>
          <p:nvPr/>
        </p:nvPicPr>
        <p:blipFill>
          <a:blip r:embed="rId1"/>
          <a:stretch/>
        </p:blipFill>
        <p:spPr>
          <a:xfrm>
            <a:off x="2286000" y="3276720"/>
            <a:ext cx="4724280" cy="312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br>
              <a:rPr sz="48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ширить у детей элементарные представления о муравьях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обогатить словарь детей новыми словами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воспитывать бережное отношение к насекомым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формировать навыки исследовательской деятель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33480" y="152280"/>
            <a:ext cx="9144000" cy="693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горитмическое упражн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рузья помог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друзей муравьишка отстал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ети приставляют ладони к щекам,ритмично покачивают головой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жку тонкую он полома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Ритмично сгибают и разгибают ног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вкой быстро ее обмота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Ритмично бегут на мест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муравейник скорей побеж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, а солнце за лес уж заш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елают ритмичную пружин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ло сразу так страшно, темно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Ритмично закрывают глаза ладоня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рошо, что друзья помог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равьишку домой принес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-лод-цы!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елают ритмичные хлопк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DSCF5315"/>
          <p:cNvPicPr/>
          <p:nvPr/>
        </p:nvPicPr>
        <p:blipFill>
          <a:blip r:embed="rId1"/>
          <a:stretch/>
        </p:blipFill>
        <p:spPr>
          <a:xfrm>
            <a:off x="4419720" y="160020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, ч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муравьи которые приносят вред жилью и здоровью человека, садам и ог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ущие в доме муравьи портят запасы пищи, разносят некоторые заболе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равьи, живущие в  садах, разносят тлю, чем вредят  посад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равьи приносят огромную пользу человеку. В медицине известен  муравьиный спирт – выде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я из рыжих  лесных муравь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муравьев готовят препараты кровоостанавливающего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равьиный яд уменьшает воспаление суставов, снижает боль  при ревматоидном артр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яде муравьев содержатся антибиотики, эффективно убивающие грибы и бактерии, в том числе болезненные стрептококки и стафилококки – возбудители тифа, холеры, туберкуле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равьи - чрезвычайно полезные  насекомые, они требуют бережного отношения, нуждаются в нашей защите и ох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слов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оряя муравейник, ты разоряешь дом др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 муравей телом, да велик д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шка мурашке р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муравья голова с просяное зернышко, а ума – чул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упай к муравью, ленивый, поучись у него благоразум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проповедников более красноречивых, чем муравей, который живет, не произнося ни зв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и сообща и льва одолев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ааа</cp:lastModifiedBy>
  <dcterms:modified xsi:type="dcterms:W3CDTF">2015-03-08T16:13:56Z</dcterms:modified>
  <cp:revision>40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