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76C4-6BD4-465F-AE69-28D292CC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1025-6255-4A96-BA2C-8C61D45B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F65F-68FA-4595-8781-4F8A89B7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BB3E-4E8F-4ADE-A134-FA918BAC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B2A1-338C-44AA-B74C-F7607312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72E9-21D7-40D1-B9D2-FD8ED56E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F1E-9227-4E3D-BF0F-398713F8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7E87-D26C-41A6-AAFC-F8366835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7B94-4618-4B01-BFF0-7B2157DA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B6EE-BB2D-43CF-BF9B-B8F16F07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893C-DDD3-46D5-8BFF-85D1B61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D665-9553-4F40-BA01-BC9F13A4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AD79-6DEA-413C-99B4-4E20CBAF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7769-9BF9-407A-BD71-831A979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FC7A-C2FE-4EE1-88A5-DC126C5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4DD9-624C-43B3-98FA-C617F864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7044-624C-4762-91C2-8E4DC7D2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24DB-5C6C-41B3-8957-DA368166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20EE-7E50-42C5-8E28-3BDFC1C5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4311-2F85-4D2C-B38A-3B5BD494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3292-4834-453E-A512-445D0797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57C1-BF6A-46BD-B0DB-970A4F2B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2380-BB80-4C17-848C-70999A1D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E4D4-C97C-49AA-AFED-0B9DEF31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D8AC-E583-4211-AA4D-F563126F0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665B-02C5-432C-BE9B-4A8424564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ртрет в музыке и изобразительном искусстве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Звуки скрипки так дивно звучал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ркую, необычную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ичность Пагани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разил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в своих произведения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ульп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4038840" cy="3297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0360" y="2276640"/>
            <a:ext cx="1967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худож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56280" y="1700280"/>
            <a:ext cx="323208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Художники и скульпто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своих произведениях изображают музыкантов и музыкальные инструменты, например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РИ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82284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765000"/>
            <a:ext cx="3745080" cy="3090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естны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ртр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крипачей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жанровые сцен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 музыкантами – скрипачами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тюрмор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 скрип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41036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Звучан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скрипки очень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выразительн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Е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голо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часто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равнивают с человечески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Скрипка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может петь, плакать,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00720" y="692280"/>
            <a:ext cx="40320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40384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рипка появилась в Европе в конц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родный инструмент сохранилась до наших дней в Болгарии, Венгрии, Польше, Румы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4560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рипка была любимым инструментом бродячих музыка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увеселявших народ на гуляниях, ярмарках, в тракти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вучала скрипка и в аристократических круг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во дворцах, замках, в богатых домах, а также в церк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 французском дворе были созданы ансамбли скрипач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59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 играли во время пробуждения трапез короля и исполняли танцевальную музыку на придворных бал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205000"/>
            <a:ext cx="4038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иколло Пагани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1782 – 18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4259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тальянский компози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рипач - вирту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87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прис № 24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rice 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ихоть, каприз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мелодию неоднократно повторяли в своих произведениях как дань памяти скрипачу – виртуозы разные компози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зыкальный портрет создал С.Рахманинов, написав «Вариации на тему Пагани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2:43:55Z</dcterms:created>
  <dc:creator>user</dc:creator>
  <dc:description/>
  <dc:language>en-US</dc:language>
  <cp:lastModifiedBy>user</cp:lastModifiedBy>
  <dcterms:modified xsi:type="dcterms:W3CDTF">2013-04-22T03:28:17Z</dcterms:modified>
  <cp:revision>2</cp:revision>
  <dc:subject/>
  <dc:title>Портрет в музыке и изобразительном искусстве</dc:title>
</cp:coreProperties>
</file>