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544400" y="1069560"/>
            <a:ext cx="446724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636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2400" y="529920"/>
            <a:ext cx="8607600" cy="67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3333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ff3333"/>
                </a:solidFill>
                <a:latin typeface="Georgia"/>
              </a:rPr>
              <a:t>О школе!</a:t>
            </a:r>
            <a:br>
              <a:rPr sz="28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Как хорошо, что есть учреждения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Где есть науки, знания, ученье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реподают предметы педагоги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роводят интересные уроки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Учебник — друг ученика надёжный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Запомнить всё</a:t>
            </a:r>
            <a:r>
              <a:rPr b="1" i="1" lang="ru-RU" sz="2800" spc="-1" strike="noStrike">
                <a:solidFill>
                  <a:srgbClr val="ff3333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 выучить так сложно: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Задачи, уравненья, теоремы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Таблицу умножения и схемы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Земли рельеф, вулкана изверженье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Все битвы из истории, сражения.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Таблицу Менделеева учили-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Реакцию в пробирках получили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Все части речи, знаки препинанья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Глаголы, междометья, окончания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Кустарники, деревья и растенья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Узнали  мы про травы, про цветенье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А в физике про яблоко Ньютона, 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ро силу тока, про законы Ома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Мы любим экономику, черченье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спытываем к  алгебре влеченье.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530280"/>
            <a:ext cx="8607600" cy="6670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Труды и физкультуру обажаем, 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о музыке поём и ноты знаем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ро космос, астероиды, планеты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Метеориты, звёзды и кометы-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Об этом астрономии известно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Открытие созвездий интересно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Стихи и проза — это дар поэта, 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Читаем Пушкина, Есенина и Фета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Мы иностранным языком владеем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 по-английски говорить умеем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Да, в школе здорово учиться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Всё познавать и к знаниям стремиться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 хорошо, что наши педагоги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Мудры, и рассудительны, и строги!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риложат все усилия, старанья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Чтоб дети получили много знаний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За всё благодарим Вас, педагоги: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За знания, за мудрость, за уроки!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 Вас мы очень ценим, уважаем,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Учиться на «отлично» обещаем.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Познаем всё, запомним и изучим</a:t>
            </a:r>
            <a:br>
              <a:rPr sz="2000"/>
            </a:br>
            <a:r>
              <a:rPr b="0" lang="ru-RU" sz="2000" spc="-1" strike="noStrike">
                <a:solidFill>
                  <a:srgbClr val="ff3333"/>
                </a:solidFill>
                <a:latin typeface="Georgia"/>
              </a:rPr>
              <a:t>И аттестаты зрелости получим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1439640"/>
            <a:ext cx="8607600" cy="389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Учитель!</a:t>
            </a:r>
            <a:br>
              <a:rPr sz="28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Лишь в школе прозвенит звонок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ачнёт учитель свой урок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И сразу в классе  стало тише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Когда учитель мелом пишет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И спросит он учеников: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«Ну, кто к доске идти готов?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Решить и выполнить заданья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Чтобы проверить свои знанья?»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Учитель очень рад у нас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Когда готов к ответу класс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Нам всё так хочется узнать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И получить оценку «пять»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номики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сть волшебная страна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етям нравится она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в стране той домики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живут в ней гномик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номы любят веселиться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 красиво нарядиться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юбят гномы танцевать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 игры разные игра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лаг и герб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расивая птица — двуглавый орёл -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еличие нашей Росси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 больших городов и до маленьких сёл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т равных народов по сил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ш герб - наша гордость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стоинство, честь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рагам не сломить дух народный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 реющий гордо российский наш флаг -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нак славы, Отчизны свободной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етреное счасть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мои окна залетел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етреное счасть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 вело себя так смел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несло ненастье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Было всё спокойно, тих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было всё беспечным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не казалось тогда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 счастье будет вечным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е ждала и не гада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друг всё изменилос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частье было, вдруг не стал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ловно всё приснилось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нашей жизни всё бывает: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адость и ненастье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репче окна закрывайте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етер и ненасть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своё сердце не пускайте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вадцать третье февраля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вадцать третье февраля -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аздник только для мужчин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Этот день заслужен вами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ому множество причин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ы — защитники Отчизны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Бережёте наш покой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воей жизни не жалея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орою жертвуя собой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ы хотим вам, дорогие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ного радости дарит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ожелать любви, здоровья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 счастливыми вам быть!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 сегодня этот праздник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ы его почти за чест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т всех женщин вам «Спасибо»!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а то, что Вы такие есть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атьянин ден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январе есть день особый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вадцать пятого числ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заряет светом новым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Зимний лист календаря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аздник этот необычный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Лишь для некоторых дам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 настроеньи быть отличном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т души желаем Вам!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сех Татьян мы поздравляем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ного радости желаем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 любви и счастья море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ы Вам не ведать горя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 сбывались все мечты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баянья, красоты!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 здоровья было больше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А года продлились дольше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 на всё хватало сил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Чтобы светлый день Татьян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олько радость приносил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ерёз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лакала Берёза и роняла слёзы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ыло очень страшно молодой берёз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тром рано птицы весть ей рассказали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Что в лесу берёзы вырубать все стал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 поникли сразу ветви у берёзы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о стволу тихонько покатились слёзы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юди, помогите, лес зря не губите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учше сок берёзовый пить вы приходите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6:10:01Z</dcterms:created>
  <dc:creator/>
  <dc:description/>
  <dc:language>en-US</dc:language>
  <cp:lastModifiedBy>kroz</cp:lastModifiedBy>
  <dcterms:modified xsi:type="dcterms:W3CDTF">2015-03-08T19:42:24Z</dcterms:modified>
  <cp:revision>4</cp:revision>
  <dc:subject/>
  <dc:title>Муниципальное образовательное учреждение Сосновская средняя общеобразовательная школа №2      </dc:title>
</cp:coreProperties>
</file>