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AFE-8605-4924-B059-08491650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05F-1CE8-44BA-B80F-3129D0D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AE4-FE12-44C2-887D-52880FD4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73D-C097-4109-B455-C742A7BC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1D0-F4D2-4933-8823-256721E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6D5-BF21-4F4F-BECB-635E580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2E6-1CF5-4F02-8406-87EBCFBB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49C-EB1D-4DD3-A294-652E6A34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3A1-6C7D-41FA-A506-7CA39C45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AD0-FC1D-40C7-9D0D-B8B5FAE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118-EFA8-4279-A61D-CBC1A4B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E35-2396-4571-B296-21956F0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8FB9-E28A-4C4A-9D7D-DFCA7195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620640"/>
            <a:ext cx="64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ные звонкие и глухие со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844640"/>
          <a:ext cx="7848360" cy="4608720"/>
        </p:xfrm>
        <a:graphic>
          <a:graphicData uri="http://schemas.openxmlformats.org/drawingml/2006/table">
            <a:tbl>
              <a:tblPr/>
              <a:tblGrid>
                <a:gridCol w="3886200"/>
                <a:gridCol w="396216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зируемые результа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зовые рабо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знают свёрнутый способ проверки парной согласной в кор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т проверять написание парных согласных путём использования алгоритма в свёрнутом ви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ют составлять предложения с одним из данных с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и Незнайке вставить пропущенные букв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/пка, груд/тка, бег/клое (чтение), слив/фка, рез/ский, каж/ш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 и запиши предложение с одним из с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189000"/>
            <a:ext cx="66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, задачи и планируемые результаты изучения темы: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ные звонкие и глухие согласные в корн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62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060640"/>
            <a:ext cx="3095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Формирование умения осмысленно выбирать парную согласную в корне слова, пользуясь алгоритм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573360"/>
            <a:ext cx="3240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) Развитие памяти, внимания, вообра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076640"/>
            <a:ext cx="338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) Обучение логике рассуждений и доказательству при выборе парной согласной в корне с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869000"/>
            <a:ext cx="2952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) Воспитание умения работать коллективно, в группах, самостоятель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1557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уемые результаты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916280"/>
            <a:ext cx="52560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: развитие умения правильно писать парные согласные в кор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апредметные: формирование умения работать по алгорит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улятивные:  обучение определению цели деятельности на уроке с помощью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икативные: обучение умению работать в групп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вательные: обучение поиску информации в различных источни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443700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ные: осознание значения русского языка в жизни людей, развитие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0036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06064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1268280"/>
            <a:ext cx="244764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МОМ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ерка готовности к уроку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421000"/>
            <a:ext cx="3097080" cy="41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ТОРЕНИЕ РАНЕЕ ИЗУЧЕН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: Назови парные соглас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: б/п, в/ф, г/к, д/т, з/с, ж/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: Что такое корен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: Корень – это общая часть всех родственных слов, в которой заключено их лексическ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: Что нужно сделать, чтобы правильно написать парную согласную в корн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 перечисляет шаги частично свёрнутой процедуры (алгоритм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148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076640"/>
            <a:ext cx="4969080" cy="239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ОБЩЕНИЕ ЦЕЛИ УРО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читель: К концу урока мы должны с вам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нать свёрнутый способ проверки написания парной согласной в корне сло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меть проверять написание парных согласных путём использования алгоритма в свёрнутом вид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меть составлять предложения с одним из данных с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20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19280" y="447840"/>
            <a:ext cx="2555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98900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628640"/>
            <a:ext cx="4681440" cy="41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КТИВНАЯ РАБОТА В ТЕТРАДЯХ И НА ДОС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ёрнутый алгоритм действия находится на доске, рядом образ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б/пки;  1) дубок, дубовая, дубы;              1) ду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/п;    2) хлебный, хлеба;                       2) хле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анному алгоритму и образцу объясняются и записываются слова: Бров/фки, груд/тка, миг/кнул, алмаз/сная, чаж/ш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: Сделаем вывод – как проверить написание парной  согласной в корне сл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: Вывод: Проговариваются шаги свёрнутого алгорит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: Составьте с одним из слов пред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1700280"/>
            <a:ext cx="259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ПА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2637000"/>
            <a:ext cx="34560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УСАМОСТОЯТЕЛЬНАЯ РАБОТ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бота выполняется с использованием данного алгорит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Желез/ска, буд/тка, щеб/пка, банг/к, книж/шка, граф/вская (усадьб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ти устно составляют предложение с одним из с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Возможна работа в группах.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32000" y="549360"/>
            <a:ext cx="43196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44640"/>
            <a:ext cx="2448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ПРОВЕРКА ЗНАНИЯ АЛГОРИТМА В ПАР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997360"/>
            <a:ext cx="2448000" cy="250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МОСТОЯТЕЛЬНАЯ РАБОТ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бота выполняется по заданному алгоритму (алгоритм закрыт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рбуз/с, шаж/шка, боб/п, газед/тка, берег/к, архиф/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Р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43280" y="2781000"/>
            <a:ext cx="93816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1844640"/>
            <a:ext cx="424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ПАУЗА. «Хлопки рука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3573360"/>
            <a:ext cx="4535640" cy="15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ЗОВАЯ РАБОТ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оги Незнайке. Вставь пропущенные букв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еб/пка, слиф/вка, каж/шка, рез/ский, груд/т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ставь и запиши предложение с одним из с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522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877000"/>
            <a:ext cx="748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ЕДЕНИЕ ИТОГОВ. ВЫСТАВЛЕНИЕ ОЦ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565360"/>
            <a:ext cx="3816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те устно предложение с одним из 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08:02:09Z</dcterms:created>
  <dc:creator>Черепаха</dc:creator>
  <dc:description/>
  <dc:language>en-US</dc:language>
  <cp:lastModifiedBy>Черепаха</cp:lastModifiedBy>
  <dcterms:modified xsi:type="dcterms:W3CDTF">2015-03-08T08:11:35Z</dcterms:modified>
  <cp:revision>6</cp:revision>
  <dc:subject/>
  <dc:title>Слайд 1</dc:title>
</cp:coreProperties>
</file>