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2ED-7807-4D11-9B80-86AC32E4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80A-2E00-42F6-AF29-2E17266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DE1-3C6C-4C7D-9090-979B8F2E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724-A83F-4654-8C87-D8F66A77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7C0-DF28-4808-8477-47C92F91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BBA-FDEE-46BF-9CEA-89B48F5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EE5-8EA5-4DFB-873D-4133D7DD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5892-D801-4F4F-A02D-E703798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E87-CF74-4821-9AC0-617CCA25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CB4B-00DB-4673-B254-AEFA33B2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D605-2C51-45DF-A54F-D481E5B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7DC-D3CA-4782-A7AA-43AC41D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3CF-8B61-4426-9448-11E35E4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EAA-8124-4A9D-A927-26D2EA2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F4E8-DDFE-439C-A750-206B519C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88DE-8B8C-47F1-8382-EBE63F12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B43-3AE5-4F4B-AA50-10D2C1C2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F0E-4ABE-4D55-BD08-AD5F71C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D15-8B5D-49E6-AB91-5D87F0C0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4F9-B23D-40A5-BFF2-17F09A9D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8C0-5558-43DB-8AA4-6DCA661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6FC-8EF2-4C6D-96BD-6152DDD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DD7-94A6-4D6A-9E8E-508680A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9D2-4F19-46E7-B4A3-DBE2ACAF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182-69D7-4322-8806-5A7F22590A4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D831-3C88-4C75-AA62-E739F17B55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olotovRibbentropStali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c/cb/Maxim_litvinov_official.jpg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ovetika.ru/gallery/albums/userpics/10002/1946.%20%C3%E5%EE%F0%E3%E8%E9%20%C4%E8%EC%E8%F2%F0%EE%E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152280" y="152280"/>
            <a:ext cx="762120" cy="533520"/>
          </a:xfrm>
          <a:prstGeom prst="lightningBolt">
            <a:avLst/>
          </a:prstGeom>
          <a:solidFill>
            <a:srgbClr val="f8a5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5"/>
          <p:cNvSpPr/>
          <p:nvPr/>
        </p:nvSpPr>
        <p:spPr>
          <a:xfrm rot="10800000">
            <a:off x="228600" y="608760"/>
            <a:ext cx="8610480" cy="5791320"/>
          </a:xfrm>
          <a:prstGeom prst="can">
            <a:avLst>
              <a:gd name="adj" fmla="val 15513"/>
            </a:avLst>
          </a:prstGeom>
          <a:solidFill>
            <a:srgbClr val="f8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Внешняя политик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СССР в 1930-е гг. и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накануне Великой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Monotype Corsiva"/>
              </a:rPr>
              <a:t>Отечественной войны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есна 1939 год – Гитлер окончатель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хватывает Чехословакию и предъявля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ебования к Польше о присоедин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 Германии г. Данцига и части Поль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2280" y="2057400"/>
            <a:ext cx="8763120" cy="129528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нглия и Франция заключают с Польшей догово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 взаимопомощи в случае нападения Герм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начинают переговоры с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28600" y="3733920"/>
            <a:ext cx="8763120" cy="11430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еговоры с Англией и Францией заходят в туп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СССР заключает пакт о ненападении с Герм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28600" y="5334120"/>
            <a:ext cx="8686800" cy="129528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3 августа 1939 года – пакт Риббентропа-Молото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 ненападении + секретные проток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 разделе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8"/>
          <p:cNvSpPr/>
          <p:nvPr/>
        </p:nvSpPr>
        <p:spPr>
          <a:xfrm rot="5400000">
            <a:off x="4266720" y="18284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9"/>
          <p:cNvSpPr/>
          <p:nvPr/>
        </p:nvSpPr>
        <p:spPr>
          <a:xfrm rot="5400000">
            <a:off x="4228920" y="339084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00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10"/>
          <p:cNvSpPr/>
          <p:nvPr/>
        </p:nvSpPr>
        <p:spPr>
          <a:xfrm rot="5400000">
            <a:off x="4228920" y="499104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00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300px-MolotovRibbentropSta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5438880" cy="6705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6095880" y="228600"/>
            <a:ext cx="2667240" cy="30481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говор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напад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ерманией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ветски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юз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3 авгу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9 го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172200" y="4495680"/>
            <a:ext cx="2666880" cy="221004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ло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писыв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гово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 ни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иббентроп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права Ста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228600" y="3809880"/>
            <a:ext cx="8686800" cy="20574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Осуществление СССР услови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екретных протоко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акта Риббентропа-Молото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52280" y="838080"/>
            <a:ext cx="8763120" cy="2819520"/>
          </a:xfrm>
          <a:prstGeom prst="downArrowCallout">
            <a:avLst>
              <a:gd name="adj1" fmla="val -59402"/>
              <a:gd name="adj2" fmla="val 77700"/>
              <a:gd name="adj3" fmla="val 16667"/>
              <a:gd name="adj4" fmla="val 66667"/>
            </a:avLst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1 сентября 1939 год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падение Германии на Польш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–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чало Второй мировой вой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04920" y="5562720"/>
            <a:ext cx="8686800" cy="11430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9-1940 гг. – присоединение Литв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атвии и Эстонии к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04920" y="304920"/>
            <a:ext cx="8686800" cy="190476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7 сентября 1939 года – Красная Армия взя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 свой контр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падную Украину и Западную Белорусс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 в ноябре они законодательно были включ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состав Белорусской и Украинской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04920" y="2438280"/>
            <a:ext cx="8686800" cy="152424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30 ноября 1939 г. – 12 марта 1940 г.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ветско-финляндская войн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соединение к СССР Карельского перешей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северного побережья Ладожского оз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04920" y="4191120"/>
            <a:ext cx="8686800" cy="11430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юнь 1940 г. – отторжение от Румы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ессарабии и Северной Буков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присоединение их к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9fed5b8c8994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04920" y="228600"/>
            <a:ext cx="8534160" cy="16002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удачи Красной Армии в войне с Финлянди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ставили советское правительство форсир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боту по укреплению обороноспособности стр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2514600"/>
            <a:ext cx="8686800" cy="34290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ение промышленного производст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прежде всего воен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. Создание новых образцов оружия и боевой техн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лностью обеспечить соединения и ча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расной Армии новым вооружением планировало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942-1943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жесточение трудовой дисциплины и контро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 качеством качественной продукци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дприятиях вплоть до тюремных заключ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6"/>
          <p:cNvSpPr/>
          <p:nvPr/>
        </p:nvSpPr>
        <p:spPr>
          <a:xfrm rot="5400000">
            <a:off x="4152600" y="201924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152280" y="4114800"/>
            <a:ext cx="8763120" cy="25909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то же время политическое и военное руковод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траны не уделяло достаточного внимания разрабо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енной доктрины СССР в будущей вой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то время господствовало убежде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то война с нашей стороны буд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ступательной, вестись на чужой террит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и закончится победой, достигнутой «малой кров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7" descr="Картинка 9 из 483"/>
          <p:cNvPicPr/>
          <p:nvPr/>
        </p:nvPicPr>
        <p:blipFill>
          <a:blip r:embed="rId2"/>
          <a:stretch/>
        </p:blipFill>
        <p:spPr>
          <a:xfrm>
            <a:off x="6400800" y="152280"/>
            <a:ext cx="2562120" cy="381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2" name="Picture 9" descr="pl44"/>
          <p:cNvPicPr/>
          <p:nvPr/>
        </p:nvPicPr>
        <p:blipFill>
          <a:blip r:embed="rId3"/>
          <a:stretch/>
        </p:blipFill>
        <p:spPr>
          <a:xfrm>
            <a:off x="152280" y="152280"/>
            <a:ext cx="2857680" cy="381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3" name="Picture 11" descr="Картинка 82 из 483"/>
          <p:cNvPicPr/>
          <p:nvPr/>
        </p:nvPicPr>
        <p:blipFill>
          <a:blip r:embed="rId4"/>
          <a:stretch/>
        </p:blipFill>
        <p:spPr>
          <a:xfrm>
            <a:off x="3429000" y="228600"/>
            <a:ext cx="2571840" cy="36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karta-5a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05520" y="0"/>
            <a:ext cx="3809880" cy="9907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л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Барбаросс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12" descr="01"/>
          <p:cNvPicPr/>
          <p:nvPr/>
        </p:nvPicPr>
        <p:blipFill>
          <a:blip r:embed="rId2"/>
          <a:srcRect l="3089" t="1162" r="2637" b="2324"/>
          <a:stretch/>
        </p:blipFill>
        <p:spPr>
          <a:xfrm>
            <a:off x="152280" y="304920"/>
            <a:ext cx="4648320" cy="63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17" name="Picture 14" descr="Картинка 135 из 266"/>
          <p:cNvPicPr/>
          <p:nvPr/>
        </p:nvPicPr>
        <p:blipFill>
          <a:blip r:embed="rId3"/>
          <a:stretch/>
        </p:blipFill>
        <p:spPr>
          <a:xfrm>
            <a:off x="5008680" y="1828800"/>
            <a:ext cx="3967200" cy="480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18" name="Rectangle 15"/>
          <p:cNvSpPr/>
          <p:nvPr/>
        </p:nvSpPr>
        <p:spPr>
          <a:xfrm>
            <a:off x="4876920" y="1143000"/>
            <a:ext cx="4267080" cy="5543640"/>
          </a:xfrm>
          <a:prstGeom prst="rect">
            <a:avLst/>
          </a:prstGeom>
          <a:solidFill>
            <a:srgbClr val="66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лан «Барбаросса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оставленный с учет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пыта войны в Европ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едусматрив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ведение «молниенос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ы». Германская арм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олжна была наступать 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руппами: групп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Север» - на Ленинград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Центр» - на Москв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Юг» - на Украин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6 недель предполагало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азгромить Красну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рмию и выйти на лин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рхангельск -  Астраха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5486400" y="152280"/>
            <a:ext cx="2819520" cy="5335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кануне вой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Картинка 73 из 266"/>
          <p:cNvPicPr/>
          <p:nvPr/>
        </p:nvPicPr>
        <p:blipFill>
          <a:blip r:embed="rId2"/>
          <a:stretch/>
        </p:blipFill>
        <p:spPr>
          <a:xfrm>
            <a:off x="152280" y="3352680"/>
            <a:ext cx="4572000" cy="311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21" name="Picture 8" descr="ju3"/>
          <p:cNvPicPr/>
          <p:nvPr/>
        </p:nvPicPr>
        <p:blipFill>
          <a:blip r:embed="rId3"/>
          <a:stretch/>
        </p:blipFill>
        <p:spPr>
          <a:xfrm>
            <a:off x="152280" y="380880"/>
            <a:ext cx="4496040" cy="259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2" name="Rectangle 9"/>
          <p:cNvSpPr/>
          <p:nvPr/>
        </p:nvSpPr>
        <p:spPr>
          <a:xfrm>
            <a:off x="4952880" y="838080"/>
            <a:ext cx="3962520" cy="586764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 границам СССР бы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януты отборные немец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ойска, получившие богат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оевой опыт вед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олниеносной войн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мевшие на воору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ервоклассную по т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ременам техн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дчинив эконом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хваченных и союз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ран, Герм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асполагала огромны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оличеством вооруж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оевой техники, зап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оенного имущества и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ккупированных стран,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оздавало значитель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евосходство в силах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редствах над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/>
          <p:cNvSpPr/>
          <p:nvPr/>
        </p:nvSpPr>
        <p:spPr>
          <a:xfrm>
            <a:off x="380880" y="1828800"/>
            <a:ext cx="8458200" cy="4800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«Новый курс» СССР во внешней полит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оздание единого антифашистского фро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ойна в Испании 1936-1939 г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юнхенское соглашение 1938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Дальневосточная политика ССС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акт Молотова-Риббентропа 23 августа 1939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и его послед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7.  Укрепление обороноспособности ССС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8.  Подготовка Германии к войне с ССС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5"/>
          <p:cNvSpPr/>
          <p:nvPr/>
        </p:nvSpPr>
        <p:spPr>
          <a:xfrm rot="5400000">
            <a:off x="3733200" y="-2438280"/>
            <a:ext cx="1524240" cy="670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559" y="3143"/>
                  <a:pt x="17518" y="5080"/>
                  <a:pt x="17518" y="10800"/>
                </a:cubicBezTo>
                <a:cubicBezTo>
                  <a:pt x="17518" y="16520"/>
                  <a:pt x="19559" y="1845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3300"/>
                </a:solidFill>
                <a:latin typeface="Monotype Corsiva"/>
              </a:rPr>
              <a:t>План урока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52280" y="152280"/>
            <a:ext cx="762120" cy="533520"/>
          </a:xfrm>
          <a:prstGeom prst="lightningBolt">
            <a:avLst/>
          </a:prstGeom>
          <a:solidFill>
            <a:srgbClr val="f8a5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/>
          <p:cNvSpPr/>
          <p:nvPr/>
        </p:nvSpPr>
        <p:spPr>
          <a:xfrm>
            <a:off x="457200" y="228600"/>
            <a:ext cx="8305920" cy="1752480"/>
          </a:xfrm>
          <a:prstGeom prst="downArrowCallout">
            <a:avLst>
              <a:gd name="adj1" fmla="val -18263"/>
              <a:gd name="adj2" fmla="val 29622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1933 год – приход к власти в Герм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фашистов во главе с А.Гитлер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80880" y="3276720"/>
            <a:ext cx="8534520" cy="1981080"/>
          </a:xfrm>
          <a:prstGeom prst="downArrowCallout">
            <a:avLst>
              <a:gd name="adj1" fmla="val -10394"/>
              <a:gd name="adj2" fmla="val 22916"/>
              <a:gd name="adj3" fmla="val 10954"/>
              <a:gd name="adj4" fmla="val 80778"/>
            </a:avLst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тход от восприятия всех «империалистических» государ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к реальных врагов, готовых в любой момент начать войн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отив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2. Стремление создать систему коллективной безопасности в Евро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в союзе с демократическими странами против Германии и Япо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280" y="5257800"/>
            <a:ext cx="883944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1933 год – установление дипломатических отношений с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1934 год – вступление СССР в Лигу На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1935 год – договоры о взаимопомощи с Францией и Чехословак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1935-1936 гг. – осуждение СССР агрессивных действ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Германии и Итал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7200" y="1981080"/>
            <a:ext cx="8305920" cy="1295640"/>
          </a:xfrm>
          <a:prstGeom prst="downArrowCallout">
            <a:avLst>
              <a:gd name="adj1" fmla="val -24703"/>
              <a:gd name="adj2" fmla="val 36268"/>
              <a:gd name="adj3" fmla="val 17648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Новый курс» СССР во внешней полити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04920" y="5715000"/>
            <a:ext cx="36576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Нарком иностранных д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М.М. Литвин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Файл:Maxim litvinov offici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28600"/>
            <a:ext cx="3260520" cy="533412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572000" y="380880"/>
            <a:ext cx="4343400" cy="609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«Новый курс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советск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дипломат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во мног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был связ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с деятельн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нового нарко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иностранных д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М.М. Литвинов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(1930-193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4"/>
          <p:cNvSpPr/>
          <p:nvPr/>
        </p:nvSpPr>
        <p:spPr>
          <a:xfrm>
            <a:off x="304920" y="0"/>
            <a:ext cx="8534160" cy="15238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Лето 1935 года –</a:t>
            </a:r>
            <a:r>
              <a:rPr b="1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 VII 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конгресс Коминтерн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в Москв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рганизация содружества всех политических сил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здание единого антифашистского фронта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дотвращения мировой вой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6" descr="Картинка 8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752480"/>
            <a:ext cx="2862360" cy="4419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Rectangle 7"/>
          <p:cNvSpPr/>
          <p:nvPr/>
        </p:nvSpPr>
        <p:spPr>
          <a:xfrm>
            <a:off x="3200400" y="1752480"/>
            <a:ext cx="5791320" cy="51055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азработку новой стратегической лин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оминтерна возглавил Г. Димитров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герой и победитель затея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ашистами Лейпцигского проце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тив коммунистов. Был арестова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цистами по обвинению в причаст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 поджогу Рейхстага 27 февраля 1933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ако на Лейпцигском процесс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(сентябрь-декабрь 1933) оправд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Его выступления были широк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ользованы в антифашист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паганде, а самому Димитрову был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едоставлено советское гражданств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СССР потребовал его выда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ктивно участвовал в работе Коминтер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ёл коммунистическую пропаганду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52280" y="6324480"/>
            <a:ext cx="2895840" cy="381240"/>
          </a:xfrm>
          <a:prstGeom prst="rect">
            <a:avLst/>
          </a:prstGeom>
          <a:solidFill>
            <a:srgbClr val="f8a5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Георгий Димит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ая попытка реализовать новую тактику Коминтер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 практике была предпринята в 1936 году в Исп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78-5-3"/>
          <p:cNvPicPr/>
          <p:nvPr/>
        </p:nvPicPr>
        <p:blipFill>
          <a:blip r:embed="rId2"/>
          <a:stretch/>
        </p:blipFill>
        <p:spPr>
          <a:xfrm>
            <a:off x="152280" y="2590920"/>
            <a:ext cx="3810240" cy="288288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  <p:sp>
        <p:nvSpPr>
          <p:cNvPr id="170" name="Rectangle 11"/>
          <p:cNvSpPr/>
          <p:nvPr/>
        </p:nvSpPr>
        <p:spPr>
          <a:xfrm>
            <a:off x="4114800" y="1219320"/>
            <a:ext cx="4876920" cy="54864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июле 1936 года в Исп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генерал Франко возгл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ашистский мятеж прот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республиканского правитель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талия и Германия оказыва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анским фашист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ущественную материальну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техническую помощ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 октября 1936 года СССР откры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явил о своей поддерж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спанской республ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 Англия и Франция провозгласи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литику «невмешатель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мократические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се еще взвешивали, какой реж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паснее для демократии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фашистский или коммунистичес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04920" y="228600"/>
            <a:ext cx="8534160" cy="16002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Сентябрь 1938 года – Мюнхенское соглашение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гласие Англии и Франции на отторжение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ехословакии Судетской области и присоеди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е к Герм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04920" y="2133720"/>
            <a:ext cx="8534160" cy="129528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юнхенское соглашение окончательно закреп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урс западных держав на «умиротворе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фашистских агрессо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2280" y="3657600"/>
            <a:ext cx="8763120" cy="175248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ентябрь 1938 г. – англо-германская деклара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 ненапад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екабрь 1938 г. – франко-германская деклар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 ненапад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28600" y="5638680"/>
            <a:ext cx="8686800" cy="106704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дежды СССР на возможность создания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ллективной безопасности были оконча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звея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ussia1921"/>
          <p:cNvPicPr/>
          <p:nvPr/>
        </p:nvPicPr>
        <p:blipFill>
          <a:blip r:embed="rId1"/>
          <a:stretch/>
        </p:blipFill>
        <p:spPr>
          <a:xfrm>
            <a:off x="0" y="0"/>
            <a:ext cx="378288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45vqdi-pbc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Дальневосточная политика СССР в 1930-е г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04920" y="1600200"/>
            <a:ext cx="8458200" cy="6858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Агрессия Японии на Дальнем Восто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28600" y="2514600"/>
            <a:ext cx="2895480" cy="12193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1 год – захв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пон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ньчжу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8600" y="3962520"/>
            <a:ext cx="3809880" cy="144756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6 год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нтикоминтерн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акт меж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ерманией и Япо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219320" y="5638680"/>
            <a:ext cx="3504960" cy="9907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7 год – напад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понии на Кит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791320" y="2514600"/>
            <a:ext cx="3124080" cy="205740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8 год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толкнов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понии и СССР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ньчжурии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зере Хас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105520" y="4952880"/>
            <a:ext cx="3733560" cy="1676520"/>
          </a:xfrm>
          <a:prstGeom prst="rect">
            <a:avLst/>
          </a:prstGeom>
          <a:solidFill>
            <a:srgbClr val="f8a5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939 год – отраж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понской агре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ветскими войск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 реке Халкин-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1"/>
          <p:cNvSpPr/>
          <p:nvPr/>
        </p:nvSpPr>
        <p:spPr>
          <a:xfrm rot="8203800">
            <a:off x="2825280" y="2646000"/>
            <a:ext cx="1395360" cy="208080"/>
          </a:xfrm>
          <a:prstGeom prst="rightArrow">
            <a:avLst>
              <a:gd name="adj1" fmla="val 50000"/>
              <a:gd name="adj2" fmla="val 167647"/>
            </a:avLst>
          </a:prstGeom>
          <a:solidFill>
            <a:srgbClr val="ff0000"/>
          </a:solidFill>
          <a:ln w="381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2"/>
          <p:cNvSpPr/>
          <p:nvPr/>
        </p:nvSpPr>
        <p:spPr>
          <a:xfrm rot="6791400">
            <a:off x="2854440" y="3088440"/>
            <a:ext cx="1965600" cy="207720"/>
          </a:xfrm>
          <a:prstGeom prst="rightArrow">
            <a:avLst>
              <a:gd name="adj1" fmla="val 50000"/>
              <a:gd name="adj2" fmla="val 236568"/>
            </a:avLst>
          </a:prstGeom>
          <a:solidFill>
            <a:srgbClr val="ff0000"/>
          </a:solidFill>
          <a:ln w="381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3"/>
          <p:cNvSpPr/>
          <p:nvPr/>
        </p:nvSpPr>
        <p:spPr>
          <a:xfrm rot="3312600">
            <a:off x="4692240" y="2787480"/>
            <a:ext cx="1514160" cy="190440"/>
          </a:xfrm>
          <a:prstGeom prst="rightArrow">
            <a:avLst>
              <a:gd name="adj1" fmla="val 50000"/>
              <a:gd name="adj2" fmla="val 198771"/>
            </a:avLst>
          </a:prstGeom>
          <a:solidFill>
            <a:srgbClr val="ff0000"/>
          </a:solidFill>
          <a:ln w="381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14"/>
          <p:cNvSpPr/>
          <p:nvPr/>
        </p:nvSpPr>
        <p:spPr>
          <a:xfrm flipH="1" rot="16200000">
            <a:off x="2742120" y="388620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ff0000"/>
          </a:solidFill>
          <a:ln w="381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5"/>
          <p:cNvSpPr/>
          <p:nvPr/>
        </p:nvSpPr>
        <p:spPr>
          <a:xfrm rot="4282800">
            <a:off x="3717720" y="3528720"/>
            <a:ext cx="2895480" cy="250920"/>
          </a:xfrm>
          <a:prstGeom prst="rightArrow">
            <a:avLst>
              <a:gd name="adj1" fmla="val 50000"/>
              <a:gd name="adj2" fmla="val 288486"/>
            </a:avLst>
          </a:prstGeom>
          <a:solidFill>
            <a:srgbClr val="ff0000"/>
          </a:solidFill>
          <a:ln w="381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6"/>
          <p:cNvSpPr/>
          <p:nvPr/>
        </p:nvSpPr>
        <p:spPr>
          <a:xfrm rot="5400000">
            <a:off x="4076280" y="110484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k</cp:lastModifiedBy>
  <dcterms:modified xsi:type="dcterms:W3CDTF">2013-07-09T13:30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