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13EC-167D-496E-8BF2-4125ACA45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F016-A669-48D1-96B1-5E43DB7C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A1BA-0F97-4CB8-A23A-7F42F7FF9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04FD-2E22-48B9-80D2-77D629BC6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50EF-303A-4193-856B-012205F49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2102-7AC5-4490-92DF-A53463CC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E72BC-6D8E-4833-AA07-9BE6A041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7A2A1-20FC-4C48-819C-A87F8CED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50656-F66F-4198-95AA-BE1D9F08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2348-7CE5-4B70-9A4E-56550A28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1430-B540-4CB5-A2B9-43B25FCD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A524-77D0-456B-81E3-8DD95E80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E533-D0C1-4561-90A0-B97EAE27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34289-AB39-4C9C-9BD5-37292EBB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FEEA-7D5C-4564-A9C4-323A5D7E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95C9-52AF-4096-B6FA-FD9DD6924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804C-3973-4F61-8E31-578A7CD21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792905-AA5B-4F5F-8407-23488C53D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9B04BB-375B-4AF3-B65B-618BDA89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331635-8AE4-4055-B857-7304CC1D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66E59E-E329-4430-BAE2-690FD562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9C817A-ABC6-4DFA-80CD-2B827094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6957-8680-4CEB-B5F5-6E535DFF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AA9A78-22C9-4E81-9F08-2FAB5F3E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F7701F-E075-49D3-B552-17025738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D6077F-5C79-4B54-8757-95233623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B61623-BE4F-4553-AAC3-2E3A9CD2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19202C-9C56-4462-A77B-6835AD2C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21B2EE-44B2-48BB-85C8-8F1A77DF7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780C54-F54F-4C2B-8588-2ACCC44A4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FEF33-C328-4EAA-9977-EBC762D5B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FBCA7-29A2-4DD0-94B2-8CB4FD8C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76CD3-23D1-4F19-BAF0-8D76A986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CFF4-CD89-46DF-A8BC-065D93C0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4E57C-CDC0-4239-B056-13A52246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D7C67-AF50-4280-A92C-6D9FB33B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74205-4E30-41FE-9DAA-346A568E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DAF2A-A939-442C-853D-6F2FF825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3A85C-FC66-40CA-BF86-260FF8C1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998D0-D26E-48DA-82E5-75A85A45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31EA2-A3D3-434F-8D3B-9CD79065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AEE46-D04A-44EB-9A25-D1AB0A7DB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85E69-F9F9-40DE-8DDC-7CC0C9092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7FF7-2761-4E55-ADFE-CC7EC3F3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DBCA-B8BF-402C-BA58-AC0181B1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3A9D-41F0-4CF9-85F3-808B690B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B86B-A894-40F7-8C75-0BAD28E4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0E9F-747B-4A14-9B5F-CE89EFE5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85d1e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e6169"/>
                </a:gs>
                <a:gs pos="100000">
                  <a:srgbClr val="85d1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85d1e3"/>
              </a:gs>
              <a:gs pos="100000">
                <a:srgbClr val="00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599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e8b8b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BEAC-F83C-41A3-866D-3DB7426AE2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00716e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62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65F6-83EA-4AA2-9EA0-AE9887C4DBF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38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85d1e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e6169"/>
                </a:gs>
                <a:gs pos="100000">
                  <a:srgbClr val="85d1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85d1e3"/>
              </a:gs>
              <a:gs pos="100000">
                <a:srgbClr val="00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42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599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3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44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9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e8b8b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51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743F-770C-48F4-949F-183D52EEC35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00716e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99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4926-4659-4F26-A9FD-391030359D0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История 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403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рок в 5 класс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Задание на урок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Справедливы ли законы царя Хаммурапи?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 Black"/>
              </a:rPr>
              <a:t>Вавилонское царство при Хаммурапи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312" name="Picture 2" descr=""/>
          <p:cNvPicPr/>
          <p:nvPr/>
        </p:nvPicPr>
        <p:blipFill>
          <a:blip r:embed="rId1"/>
          <a:srcRect l="0" t="5744" r="0" b="0"/>
          <a:stretch/>
        </p:blipFill>
        <p:spPr>
          <a:xfrm>
            <a:off x="250920" y="1484280"/>
            <a:ext cx="88930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394920" y="692280"/>
            <a:ext cx="4546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рода Двуреч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евали между собо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 право быть главны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бедил в этой борьб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род Вавило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Picture 6" descr="Vavilon1"/>
          <p:cNvPicPr/>
          <p:nvPr/>
        </p:nvPicPr>
        <p:blipFill>
          <a:blip r:embed="rId1"/>
          <a:stretch/>
        </p:blipFill>
        <p:spPr>
          <a:xfrm>
            <a:off x="5580000" y="0"/>
            <a:ext cx="3564000" cy="36003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7" descr="11_3"/>
          <p:cNvPicPr/>
          <p:nvPr/>
        </p:nvPicPr>
        <p:blipFill>
          <a:blip r:embed="rId2"/>
          <a:stretch/>
        </p:blipFill>
        <p:spPr>
          <a:xfrm>
            <a:off x="3564000" y="3457440"/>
            <a:ext cx="375264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394920" y="188640"/>
            <a:ext cx="525636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ым могущественны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знаменитым царём Вавилон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ыл Хаммурап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Picture 5" descr="9"/>
          <p:cNvPicPr/>
          <p:nvPr/>
        </p:nvPicPr>
        <p:blipFill>
          <a:blip r:embed="rId1"/>
          <a:stretch/>
        </p:blipFill>
        <p:spPr>
          <a:xfrm>
            <a:off x="4896000" y="981000"/>
            <a:ext cx="4248000" cy="482436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7"/>
          <p:cNvSpPr/>
          <p:nvPr/>
        </p:nvSpPr>
        <p:spPr>
          <a:xfrm>
            <a:off x="250920" y="3141720"/>
            <a:ext cx="410508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н прави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 1792 по 1750г.до н. э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Вавилонское царство при Хаммурапи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320" name="Picture 5" descr=""/>
          <p:cNvPicPr/>
          <p:nvPr/>
        </p:nvPicPr>
        <p:blipFill>
          <a:blip r:embed="rId1"/>
          <a:stretch/>
        </p:blipFill>
        <p:spPr>
          <a:xfrm>
            <a:off x="179280" y="1536840"/>
            <a:ext cx="8640720" cy="53211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" descr=""/>
          <p:cNvPicPr/>
          <p:nvPr/>
        </p:nvPicPr>
        <p:blipFill>
          <a:blip r:embed="rId2"/>
          <a:stretch/>
        </p:blipFill>
        <p:spPr>
          <a:xfrm>
            <a:off x="6516720" y="981000"/>
            <a:ext cx="222552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5796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Хаммурапи прославилс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воими законам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торые были высече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 столбе из твёрд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ёрного камн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13" descr="lowhammurabi"/>
          <p:cNvPicPr/>
          <p:nvPr/>
        </p:nvPicPr>
        <p:blipFill>
          <a:blip r:embed="rId1"/>
          <a:stretch/>
        </p:blipFill>
        <p:spPr>
          <a:xfrm>
            <a:off x="6156360" y="476280"/>
            <a:ext cx="230508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5041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верхней части столб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ображён Хаммурап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д сидящи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гом солнца Шамаше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ручающим ему зако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Picture 6" descr="st045_09"/>
          <p:cNvPicPr/>
          <p:nvPr/>
        </p:nvPicPr>
        <p:blipFill>
          <a:blip r:embed="rId1"/>
          <a:stretch/>
        </p:blipFill>
        <p:spPr>
          <a:xfrm>
            <a:off x="5435640" y="571680"/>
            <a:ext cx="3457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00716e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611280" y="404640"/>
            <a:ext cx="8229600" cy="45309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5a58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Суров  закон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но  закон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Цицеро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Tahoma"/>
              </a:rPr>
              <a:t>                                     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4500720" y="6093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к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7164360" y="544500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еступ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250920" y="620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коны- это правила, установленные государством и обязательные для все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6" descr="9bigdecor02"/>
          <p:cNvPicPr/>
          <p:nvPr/>
        </p:nvPicPr>
        <p:blipFill>
          <a:blip r:embed="rId1"/>
          <a:stretch/>
        </p:blipFill>
        <p:spPr>
          <a:xfrm>
            <a:off x="1187280" y="2133720"/>
            <a:ext cx="619308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Учебник п.4 «Законы о рабах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Защищали ли законы раба? Почем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Учебник п.5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«Законы о богачах и бедняках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Чем отличалось положение человека, отрабатывавшего долг, от положения раб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Вопрос 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333" name="Picture 8" descr=""/>
          <p:cNvPicPr/>
          <p:nvPr/>
        </p:nvPicPr>
        <p:blipFill>
          <a:blip r:embed="rId1"/>
          <a:stretch/>
        </p:blipFill>
        <p:spPr>
          <a:xfrm>
            <a:off x="7236000" y="189000"/>
            <a:ext cx="152856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403280" y="1484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На географических просторах»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71240" y="2708280"/>
            <a:ext cx="454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верка домашнего зад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Вопрос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Из законов Хаммурап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чему за кражу вещи, скотины и раба наказывали одинаков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Что означает выражение «око за око, зуб за зуб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чему царь защищает земледельцев, пострадавших от нерадивости сосед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Вопрос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Из вавилонской таблич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акое наказание ожидало вор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 чем заботился Хаммурапи в своих законах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Задание на урок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Справедливы ли законы царя Хаммурапи?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Законы Хаммурапи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крепление материа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ое значение имели эти законы для жителей Вавилон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ое значение эти законы имеют для нас, людей, живущих в 21 век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читать параграф 14, ответить на вопросы в конце параграф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адание 1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та страна расположена на берегу Нила, она славилась пирамидой Хеопса, одной из семи чудес свет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адание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2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 эта страна расположена между реками Тигр и Евфрат. Еще в древности она славилась висячими садами Семирамиды, которые считаются одним из семи чудес све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адание 3: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общего и различного в природных условиях Египта и Двуречь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ю вам опорные слова для ответ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лив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емледел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ще занимались..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Задание 4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Решите задачу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городе Уре было исследовано более двух тысяч гробниц. Несколько гробниц резк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личались от остальных. В них были погребены десятки слуг, конюхов, музыка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десь же найдены золотые шлемы, венки, ожерелья и 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Какие выводы можно сделать на основании этих погребений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оснуйте своё мн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Задание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5: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называлась письменность Двуречья? Составьте из букв правильный отв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О Л И С 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п н к 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AutoShape 5"/>
          <p:cNvSpPr/>
          <p:nvPr/>
        </p:nvSpPr>
        <p:spPr>
          <a:xfrm>
            <a:off x="0" y="0"/>
            <a:ext cx="8964720" cy="6858000"/>
          </a:xfrm>
          <a:prstGeom prst="verticalScroll">
            <a:avLst>
              <a:gd name="adj" fmla="val 12500"/>
            </a:avLst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собенно приятно в жаркий солнечный день искупа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 полноводной речк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Целыми днями я брожу по улицам древнего города У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и изучаю развалины                        дом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Здесь идут раскопки древней библиоте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Из этой библиотеки мне дали почита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дну интересную книгу в вид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Название на не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написан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1116000" y="1125360"/>
            <a:ext cx="669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Здравствуйте дорогие мои племянники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ишу вам из страны Междуречь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которая находи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3708360" y="170028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33"/>
                </a:solidFill>
                <a:latin typeface="Arial"/>
              </a:rPr>
              <a:t>в Передней Аз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1332000" y="213372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ирода здесь просто удивитель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11"/>
          <p:cNvSpPr/>
          <p:nvPr/>
        </p:nvSpPr>
        <p:spPr>
          <a:xfrm>
            <a:off x="3851280" y="170028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 Афри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13"/>
          <p:cNvSpPr/>
          <p:nvPr/>
        </p:nvSpPr>
        <p:spPr>
          <a:xfrm>
            <a:off x="1187280" y="249228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 величественные сосны, папиру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14"/>
          <p:cNvSpPr/>
          <p:nvPr/>
        </p:nvSpPr>
        <p:spPr>
          <a:xfrm>
            <a:off x="1763640" y="2492280"/>
            <a:ext cx="52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33"/>
                </a:solidFill>
                <a:latin typeface="Arial"/>
              </a:rPr>
              <a:t>величественные финиковые паль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15"/>
          <p:cNvSpPr/>
          <p:nvPr/>
        </p:nvSpPr>
        <p:spPr>
          <a:xfrm>
            <a:off x="5867280" y="321300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Ни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16"/>
          <p:cNvSpPr/>
          <p:nvPr/>
        </p:nvSpPr>
        <p:spPr>
          <a:xfrm>
            <a:off x="5867280" y="321300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33"/>
                </a:solidFill>
                <a:latin typeface="Arial"/>
              </a:rPr>
              <a:t>Тигр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17"/>
          <p:cNvSpPr/>
          <p:nvPr/>
        </p:nvSpPr>
        <p:spPr>
          <a:xfrm>
            <a:off x="4500720" y="3789360"/>
            <a:ext cx="17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еревянн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18"/>
          <p:cNvSpPr/>
          <p:nvPr/>
        </p:nvSpPr>
        <p:spPr>
          <a:xfrm>
            <a:off x="4500720" y="378936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33"/>
                </a:solidFill>
                <a:latin typeface="Arial"/>
              </a:rPr>
              <a:t>глинян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9"/>
          <p:cNvSpPr/>
          <p:nvPr/>
        </p:nvSpPr>
        <p:spPr>
          <a:xfrm>
            <a:off x="6372360" y="4797360"/>
            <a:ext cx="144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22"/>
          <p:cNvSpPr/>
          <p:nvPr/>
        </p:nvSpPr>
        <p:spPr>
          <a:xfrm>
            <a:off x="6443640" y="479736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23"/>
          <p:cNvSpPr/>
          <p:nvPr/>
        </p:nvSpPr>
        <p:spPr>
          <a:xfrm>
            <a:off x="1116000" y="501336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витка папиру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24"/>
          <p:cNvSpPr/>
          <p:nvPr/>
        </p:nvSpPr>
        <p:spPr>
          <a:xfrm>
            <a:off x="971640" y="501336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33"/>
                </a:solidFill>
                <a:latin typeface="Arial"/>
              </a:rPr>
              <a:t>глиняных дощече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25"/>
          <p:cNvSpPr/>
          <p:nvPr/>
        </p:nvSpPr>
        <p:spPr>
          <a:xfrm>
            <a:off x="4859280" y="537372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русскими букв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26"/>
          <p:cNvSpPr/>
          <p:nvPr/>
        </p:nvSpPr>
        <p:spPr>
          <a:xfrm>
            <a:off x="5148360" y="537372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33"/>
                </a:solidFill>
                <a:latin typeface="Arial"/>
              </a:rPr>
              <a:t>клинопись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27"/>
          <p:cNvSpPr/>
          <p:nvPr/>
        </p:nvSpPr>
        <p:spPr>
          <a:xfrm>
            <a:off x="1187280" y="5877000"/>
            <a:ext cx="676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28"/>
          <p:cNvSpPr/>
          <p:nvPr/>
        </p:nvSpPr>
        <p:spPr>
          <a:xfrm>
            <a:off x="971640" y="5734080"/>
            <a:ext cx="6913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 свидание. Скоро приеду. Не ссорьтес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аш дядюшка Скрудж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2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2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00716e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18003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5a58">
                <a:alpha val="50000"/>
              </a:srgbClr>
            </a:outerShdw>
          </a:effectLst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у :Законы Хаммурапи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08:22:25Z</dcterms:created>
  <dc:creator>user</dc:creator>
  <dc:description/>
  <dc:language>en-US</dc:language>
  <cp:lastModifiedBy>Директор</cp:lastModifiedBy>
  <dcterms:modified xsi:type="dcterms:W3CDTF">2015-03-08T20:43:06Z</dcterms:modified>
  <cp:revision>23</cp:revision>
  <dc:subject/>
  <dc:title>Законы Хаммурапи</dc:title>
</cp:coreProperties>
</file>