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1399-77C1-41F5-99E2-3788561DA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B1C2-4D84-4F1A-A33C-37ED67B13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B000-1EED-446A-884B-CC27A19EB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3169-65C0-4776-9B7E-D3D3BA2EC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E11D-B0A8-4453-8068-5B8450DF0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E8AF-1EAB-4B63-9BB8-DB07AF9C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6AF1-24F0-4630-A0D2-2ED31838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2828-4B42-47F4-BBAD-9072F59DE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BD23-7BCE-4A4B-9EAC-ACAD62C64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B2A0-711C-434E-80EF-70B4ACE1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7011-5441-4904-9A9B-E4EC0DB7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053A-64B0-4652-92A6-E6CB7FAE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D9109-28EB-42C8-B199-39E7092CBE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Скругленный прямоугольник 4"/>
          <p:cNvGrpSpPr/>
          <p:nvPr/>
        </p:nvGrpSpPr>
        <p:grpSpPr>
          <a:xfrm>
            <a:off x="96840" y="176040"/>
            <a:ext cx="8881920" cy="6578640"/>
            <a:chOff x="96840" y="176040"/>
            <a:chExt cx="8881920" cy="6578640"/>
          </a:xfrm>
        </p:grpSpPr>
        <p:pic>
          <p:nvPicPr>
            <p:cNvPr id="42" name="Скругленный 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96840" y="176040"/>
              <a:ext cx="888192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426960" y="507960"/>
              <a:ext cx="8217000" cy="591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4211640" y="2516040"/>
            <a:ext cx="4284720" cy="422604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9" descr=""/>
          <p:cNvPicPr/>
          <p:nvPr/>
        </p:nvPicPr>
        <p:blipFill>
          <a:blip r:embed="rId3"/>
          <a:stretch/>
        </p:blipFill>
        <p:spPr>
          <a:xfrm>
            <a:off x="6480" y="-304920"/>
            <a:ext cx="9137520" cy="36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Скругленный прямоугольник 4"/>
          <p:cNvGrpSpPr/>
          <p:nvPr/>
        </p:nvGrpSpPr>
        <p:grpSpPr>
          <a:xfrm>
            <a:off x="96840" y="176040"/>
            <a:ext cx="8881920" cy="6578640"/>
            <a:chOff x="96840" y="176040"/>
            <a:chExt cx="8881920" cy="6578640"/>
          </a:xfrm>
        </p:grpSpPr>
        <p:pic>
          <p:nvPicPr>
            <p:cNvPr id="47" name="Скругленный 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96840" y="176040"/>
              <a:ext cx="888192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26960" y="507960"/>
              <a:ext cx="8217000" cy="591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3384720" y="1109520"/>
            <a:ext cx="2303280" cy="471024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1"/>
          <p:cNvSpPr/>
          <p:nvPr/>
        </p:nvSpPr>
        <p:spPr>
          <a:xfrm>
            <a:off x="0" y="4046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6aa00"/>
                </a:solidFill>
                <a:latin typeface="Times New Roman"/>
                <a:ea typeface="Times New Roman"/>
              </a:rPr>
              <a:t>Эта башня высока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6"/>
          <p:cNvSpPr/>
          <p:nvPr/>
        </p:nvSpPr>
        <p:spPr>
          <a:xfrm>
            <a:off x="0" y="5854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6aa00"/>
                </a:solidFill>
                <a:latin typeface="Times New Roman"/>
                <a:ea typeface="Times New Roman"/>
              </a:rPr>
              <a:t>( стоя, руки домиком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Скругленный прямоугольник 4"/>
          <p:cNvGrpSpPr/>
          <p:nvPr/>
        </p:nvGrpSpPr>
        <p:grpSpPr>
          <a:xfrm>
            <a:off x="12600" y="176040"/>
            <a:ext cx="8882280" cy="6578640"/>
            <a:chOff x="12600" y="176040"/>
            <a:chExt cx="8882280" cy="6578640"/>
          </a:xfrm>
        </p:grpSpPr>
        <p:pic>
          <p:nvPicPr>
            <p:cNvPr id="53" name="Скругленный 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12600" y="176040"/>
              <a:ext cx="888228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343080" y="507960"/>
              <a:ext cx="8216640" cy="591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3443400" y="1171440"/>
            <a:ext cx="2016000" cy="474984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1"/>
          <p:cNvSpPr/>
          <p:nvPr/>
        </p:nvSpPr>
        <p:spPr>
          <a:xfrm>
            <a:off x="0" y="4046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6aa00"/>
                </a:solidFill>
                <a:latin typeface="Times New Roman"/>
                <a:ea typeface="Times New Roman"/>
              </a:rPr>
              <a:t>достаёт до потолк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6"/>
          <p:cNvSpPr/>
          <p:nvPr/>
        </p:nvSpPr>
        <p:spPr>
          <a:xfrm>
            <a:off x="0" y="5854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6aa00"/>
                </a:solidFill>
                <a:latin typeface="Times New Roman"/>
                <a:ea typeface="Times New Roman"/>
              </a:rPr>
              <a:t>( потянуться вверх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Скругленный прямоугольник 4"/>
          <p:cNvGrpSpPr/>
          <p:nvPr/>
        </p:nvGrpSpPr>
        <p:grpSpPr>
          <a:xfrm>
            <a:off x="96840" y="176040"/>
            <a:ext cx="8881920" cy="6578640"/>
            <a:chOff x="96840" y="176040"/>
            <a:chExt cx="8881920" cy="6578640"/>
          </a:xfrm>
        </p:grpSpPr>
        <p:pic>
          <p:nvPicPr>
            <p:cNvPr id="59" name="Скругленный 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96840" y="176040"/>
              <a:ext cx="888192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426960" y="507960"/>
              <a:ext cx="8217000" cy="591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3208320" y="1185840"/>
            <a:ext cx="2727360" cy="466884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1"/>
          <p:cNvSpPr/>
          <p:nvPr/>
        </p:nvSpPr>
        <p:spPr>
          <a:xfrm>
            <a:off x="0" y="4046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6aa00"/>
                </a:solidFill>
                <a:latin typeface="Times New Roman"/>
                <a:ea typeface="Times New Roman"/>
              </a:rPr>
              <a:t>Эта баш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6"/>
          <p:cNvSpPr/>
          <p:nvPr/>
        </p:nvSpPr>
        <p:spPr>
          <a:xfrm>
            <a:off x="0" y="5854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6aa00"/>
                </a:solidFill>
                <a:latin typeface="Times New Roman"/>
                <a:ea typeface="Times New Roman"/>
              </a:rPr>
              <a:t>( присесть, руки над головой домиком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Скругленный прямоугольник 4"/>
          <p:cNvGrpSpPr/>
          <p:nvPr/>
        </p:nvGrpSpPr>
        <p:grpSpPr>
          <a:xfrm>
            <a:off x="96840" y="176040"/>
            <a:ext cx="8881920" cy="6578640"/>
            <a:chOff x="96840" y="176040"/>
            <a:chExt cx="8881920" cy="6578640"/>
          </a:xfrm>
        </p:grpSpPr>
        <p:pic>
          <p:nvPicPr>
            <p:cNvPr id="65" name="Скругленный 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96840" y="176040"/>
              <a:ext cx="888192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426960" y="507960"/>
              <a:ext cx="8217000" cy="591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2400480" y="1087560"/>
            <a:ext cx="4271760" cy="486252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1"/>
          <p:cNvSpPr/>
          <p:nvPr/>
        </p:nvSpPr>
        <p:spPr>
          <a:xfrm>
            <a:off x="0" y="4046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6aa00"/>
                </a:solidFill>
                <a:latin typeface="Times New Roman"/>
                <a:ea typeface="Times New Roman"/>
              </a:rPr>
              <a:t>низкая 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6"/>
          <p:cNvSpPr/>
          <p:nvPr/>
        </p:nvSpPr>
        <p:spPr>
          <a:xfrm>
            <a:off x="0" y="5854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6aa00"/>
                </a:solidFill>
                <a:latin typeface="Times New Roman"/>
                <a:ea typeface="Times New Roman"/>
              </a:rPr>
              <a:t>( сидя, руки опустить ладошками к полу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Скругленный прямоугольник 4"/>
          <p:cNvGrpSpPr/>
          <p:nvPr/>
        </p:nvGrpSpPr>
        <p:grpSpPr>
          <a:xfrm>
            <a:off x="96840" y="176040"/>
            <a:ext cx="8881920" cy="6578640"/>
            <a:chOff x="96840" y="176040"/>
            <a:chExt cx="8881920" cy="6578640"/>
          </a:xfrm>
        </p:grpSpPr>
        <p:pic>
          <p:nvPicPr>
            <p:cNvPr id="71" name="Скругленный 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96840" y="176040"/>
              <a:ext cx="888192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426960" y="507960"/>
              <a:ext cx="8217000" cy="591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2411280" y="1174680"/>
            <a:ext cx="4283280" cy="468000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1"/>
          <p:cNvSpPr/>
          <p:nvPr/>
        </p:nvSpPr>
        <p:spPr>
          <a:xfrm>
            <a:off x="0" y="4046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6aa00"/>
                </a:solidFill>
                <a:latin typeface="Times New Roman"/>
                <a:ea typeface="Times New Roman"/>
              </a:rPr>
              <a:t>для любимой киски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оугольник 6"/>
          <p:cNvSpPr/>
          <p:nvPr/>
        </p:nvSpPr>
        <p:spPr>
          <a:xfrm>
            <a:off x="0" y="5854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6aa00"/>
                </a:solidFill>
                <a:latin typeface="Times New Roman"/>
                <a:ea typeface="Times New Roman"/>
              </a:rPr>
              <a:t>( руки – ушки на макушк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14868360" y="-1282680"/>
            <a:ext cx="4938840" cy="6894360"/>
          </a:xfrm>
          <a:prstGeom prst="rect">
            <a:avLst/>
          </a:prstGeom>
          <a:ln w="0">
            <a:noFill/>
          </a:ln>
        </p:spPr>
      </p:pic>
      <p:grpSp>
        <p:nvGrpSpPr>
          <p:cNvPr id="77" name="Скругленный прямоугольник 3"/>
          <p:cNvGrpSpPr/>
          <p:nvPr/>
        </p:nvGrpSpPr>
        <p:grpSpPr>
          <a:xfrm>
            <a:off x="165240" y="195120"/>
            <a:ext cx="8881920" cy="6559560"/>
            <a:chOff x="165240" y="195120"/>
            <a:chExt cx="8881920" cy="6559560"/>
          </a:xfrm>
        </p:grpSpPr>
        <p:pic>
          <p:nvPicPr>
            <p:cNvPr id="78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165240" y="195120"/>
              <a:ext cx="8881920" cy="655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498600" y="525600"/>
              <a:ext cx="8218440" cy="589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0" name="Прямоугольник 6" descr=""/>
          <p:cNvPicPr/>
          <p:nvPr/>
        </p:nvPicPr>
        <p:blipFill>
          <a:blip r:embed="rId3"/>
          <a:stretch/>
        </p:blipFill>
        <p:spPr>
          <a:xfrm>
            <a:off x="-274680" y="1646280"/>
            <a:ext cx="9693360" cy="36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14868360" y="-1282680"/>
            <a:ext cx="4938840" cy="6894360"/>
          </a:xfrm>
          <a:prstGeom prst="rect">
            <a:avLst/>
          </a:prstGeom>
          <a:ln w="0">
            <a:noFill/>
          </a:ln>
        </p:spPr>
      </p:pic>
      <p:grpSp>
        <p:nvGrpSpPr>
          <p:cNvPr id="82" name="Скругленный прямоугольник 3"/>
          <p:cNvGrpSpPr/>
          <p:nvPr/>
        </p:nvGrpSpPr>
        <p:grpSpPr>
          <a:xfrm>
            <a:off x="165240" y="195120"/>
            <a:ext cx="8881920" cy="6559560"/>
            <a:chOff x="165240" y="195120"/>
            <a:chExt cx="8881920" cy="6559560"/>
          </a:xfrm>
        </p:grpSpPr>
        <p:pic>
          <p:nvPicPr>
            <p:cNvPr id="83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165240" y="195120"/>
              <a:ext cx="8881920" cy="655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498600" y="525600"/>
              <a:ext cx="8218440" cy="589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5" name="Прямоугольник 1"/>
          <p:cNvSpPr/>
          <p:nvPr/>
        </p:nvSpPr>
        <p:spPr>
          <a:xfrm>
            <a:off x="-1440" y="230976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6aa00"/>
                </a:solidFill>
                <a:latin typeface="Times New Roman"/>
                <a:ea typeface="Times New Roman"/>
              </a:rPr>
              <a:t>В презентации использованы материалы книги Т.Ю.Бардышево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6aa00"/>
                </a:solidFill>
                <a:latin typeface="Times New Roman"/>
                <a:ea typeface="Times New Roman"/>
              </a:rPr>
              <a:t>«Здравствуй, пальчик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ик 1"/>
          <p:cNvSpPr/>
          <p:nvPr/>
        </p:nvSpPr>
        <p:spPr>
          <a:xfrm>
            <a:off x="-1440" y="5300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6aa00"/>
                </a:solidFill>
                <a:latin typeface="Times New Roman"/>
                <a:ea typeface="Times New Roman"/>
              </a:rPr>
              <a:t>Автор презентации: Бунецкая Н.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7T09:10:27Z</dcterms:created>
  <dc:creator>Солнышко</dc:creator>
  <dc:description/>
  <dc:language>en-US</dc:language>
  <cp:lastModifiedBy>Солнышко</cp:lastModifiedBy>
  <dcterms:modified xsi:type="dcterms:W3CDTF">2013-12-18T14:12:44Z</dcterms:modified>
  <cp:revision>4</cp:revision>
  <dc:subject/>
  <dc:title>Презентация PowerPoint</dc:title>
</cp:coreProperties>
</file>