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6.gif" ContentType="image/gif"/>
  <Override PartName="/ppt/media/image15.png" ContentType="image/png"/>
  <Override PartName="/ppt/media/image9.wmf" ContentType="image/x-wmf"/>
  <Override PartName="/ppt/media/image1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applause.wav" ContentType="audio/x-wav"/>
  <Override PartName="/ppt/media/image2.wmf" ContentType="image/x-wmf"/>
  <Override PartName="/ppt/media/image14.wmf" ContentType="image/x-wmf"/>
  <Override PartName="/ppt/media/image6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49F-170E-44F6-B186-80D9458C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B75-47AD-413B-B595-0B2CE944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3E0-1BE3-4CBF-ADEB-07C77DDA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865-3097-4E46-8A62-35FB331D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858-AE4A-4597-AB5E-50C1D7A1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89C-FD2A-46F1-B937-4BAF208F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E94-36E8-4644-91CF-495C24BF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CBF-B267-41DA-9856-BCC6D576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903-353F-4E8A-B403-2B5CF12E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657-AA2D-4886-A16E-9388FC2E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9C2-17A1-44DB-B603-0BA76244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E88-927A-4AD0-BB98-C8115188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fe1"/>
            </a:gs>
            <a:gs pos="50000">
              <a:srgbClr val="ffffff"/>
            </a:gs>
            <a:gs pos="100000">
              <a:srgbClr val="e1ff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7327-FE94-41B0-A046-865B6983F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ff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004160" y="4292640"/>
            <a:ext cx="1908000" cy="238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00320" y="-316080"/>
            <a:ext cx="6543360" cy="680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b6f600"/>
                    </a:gs>
                    <a:gs pos="50000">
                      <a:srgbClr val="669900"/>
                    </a:gs>
                    <a:gs pos="100000">
                      <a:srgbClr val="b6f600"/>
                    </a:gs>
                  </a:gsLst>
                  <a:lin ang="10800000"/>
                </a:gradFill>
                <a:latin typeface="Arial"/>
              </a:rPr>
              <a:t>Буква</a:t>
            </a:r>
            <a:endParaRPr b="0" lang="en-US" sz="9600" spc="1" strike="noStrike">
              <a:ln w="936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b6f600"/>
                  </a:gs>
                  <a:gs pos="50000">
                    <a:srgbClr val="669900"/>
                  </a:gs>
                  <a:gs pos="100000">
                    <a:srgbClr val="b6f600"/>
                  </a:gs>
                </a:gsLst>
                <a:lin ang="108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b6f600"/>
                    </a:gs>
                    <a:gs pos="50000">
                      <a:srgbClr val="669900"/>
                    </a:gs>
                    <a:gs pos="100000">
                      <a:srgbClr val="b6f600"/>
                    </a:gs>
                  </a:gsLst>
                  <a:lin ang="10800000"/>
                </a:gradFill>
                <a:latin typeface="Arial"/>
              </a:rPr>
              <a:t>потерялась</a:t>
            </a:r>
            <a:endParaRPr b="0" lang="en-US" sz="9600" spc="1" strike="noStrike">
              <a:ln w="936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b6f600"/>
                  </a:gs>
                  <a:gs pos="50000">
                    <a:srgbClr val="669900"/>
                  </a:gs>
                  <a:gs pos="100000">
                    <a:srgbClr val="b6f600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1ffe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9625" r="0" b="9587"/>
          <a:stretch/>
        </p:blipFill>
        <p:spPr>
          <a:xfrm>
            <a:off x="2195640" y="2349360"/>
            <a:ext cx="5040360" cy="4071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116000" y="3860640"/>
            <a:ext cx="684072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МЫ . КА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3794"/>
                </a:moveTo>
                <a:lnTo>
                  <a:pt x="23260" y="10800"/>
                </a:lnTo>
                <a:lnTo>
                  <a:pt x="924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1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148360" y="189000"/>
            <a:ext cx="1295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380360" y="189000"/>
            <a:ext cx="1295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pull dir="r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3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08092E-006 L -0.33073 0.54543 E">
                                      <p:cBhvr>
                                        <p:cTn id="34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f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1713" t="22046" r="38" b="22046"/>
          <a:stretch/>
        </p:blipFill>
        <p:spPr>
          <a:xfrm>
            <a:off x="1908000" y="2492280"/>
            <a:ext cx="5112000" cy="3702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116000" y="3789360"/>
            <a:ext cx="676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ПУ . КА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3794"/>
                </a:moveTo>
                <a:lnTo>
                  <a:pt x="23260" y="10800"/>
                </a:lnTo>
                <a:lnTo>
                  <a:pt x="924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1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76720" y="189000"/>
            <a:ext cx="13669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236000" y="260280"/>
            <a:ext cx="158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pull dir="r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3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08092E-006 L -0.37795 0.52439 E">
                                      <p:cBhvr>
                                        <p:cTn id="390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1ffe1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56000" y="1052640"/>
            <a:ext cx="4017960" cy="5113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042920" y="3860640"/>
            <a:ext cx="67690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КАМЫ .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3794"/>
                </a:moveTo>
                <a:lnTo>
                  <a:pt x="23260" y="10800"/>
                </a:lnTo>
                <a:lnTo>
                  <a:pt x="924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1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76720" y="189000"/>
            <a:ext cx="13669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236000" y="260280"/>
            <a:ext cx="158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pull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4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2775E-006 L -0.09444 0.52971 E">
                                      <p:cBhvr>
                                        <p:cTn id="429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fe1"/>
            </a:gs>
            <a:gs pos="50000">
              <a:srgbClr val="ffffff"/>
            </a:gs>
            <a:gs pos="100000">
              <a:srgbClr val="e1ff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9787" r="0" b="9787"/>
          <a:stretch/>
        </p:blipFill>
        <p:spPr>
          <a:xfrm>
            <a:off x="1332000" y="2276640"/>
            <a:ext cx="6769080" cy="3332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900000" y="4005360"/>
            <a:ext cx="7704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МА . ИНА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3794"/>
                </a:moveTo>
                <a:lnTo>
                  <a:pt x="23260" y="10800"/>
                </a:lnTo>
                <a:lnTo>
                  <a:pt x="924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1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292720" y="189000"/>
            <a:ext cx="11509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524720" y="189000"/>
            <a:ext cx="1152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pull dir="r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4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19653E-006 L -0.43316 0.56115 E">
                                      <p:cBhvr>
                                        <p:cTn id="46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ffe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55640" y="1052640"/>
            <a:ext cx="770400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9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336600"/>
                  </a:solidFill>
                  <a:miter/>
                </a:ln>
                <a:gradFill rotWithShape="0">
                  <a:gsLst>
                    <a:gs pos="0">
                      <a:srgbClr val="b6f600"/>
                    </a:gs>
                    <a:gs pos="50000">
                      <a:srgbClr val="669900"/>
                    </a:gs>
                    <a:gs pos="100000">
                      <a:srgbClr val="b6f6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 !</a:t>
            </a:r>
            <a:endParaRPr b="0" i="1" lang="en-US" sz="9600" spc="1" strike="noStrike">
              <a:ln w="9360">
                <a:solidFill>
                  <a:srgbClr val="336600"/>
                </a:solidFill>
                <a:miter/>
              </a:ln>
              <a:gradFill rotWithShape="0">
                <a:gsLst>
                  <a:gs pos="0">
                    <a:srgbClr val="b6f600"/>
                  </a:gs>
                  <a:gs pos="50000">
                    <a:srgbClr val="669900"/>
                  </a:gs>
                  <a:gs pos="100000">
                    <a:srgbClr val="b6f600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300720" y="4869000"/>
            <a:ext cx="2482920" cy="1765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1760" y="6343560"/>
            <a:ext cx="51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radley Hand ITC"/>
              </a:rPr>
              <a:t>Презентация изготовлена Бунецкой 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fe1"/>
            </a:gs>
            <a:gs pos="50000">
              <a:srgbClr val="ffffff"/>
            </a:gs>
            <a:gs pos="100000">
              <a:srgbClr val="e1ff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3882960" cy="388908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3794"/>
                </a:moveTo>
                <a:lnTo>
                  <a:pt x="23260" y="10800"/>
                </a:lnTo>
                <a:lnTo>
                  <a:pt x="924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1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19280" y="3213000"/>
            <a:ext cx="5256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но.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788000" y="189000"/>
            <a:ext cx="1655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164360" y="260280"/>
            <a:ext cx="1655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-531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5564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19653E-006 L 0.03559 0.43514 E">
                                      <p:cBhvr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fe1"/>
            </a:gs>
            <a:gs pos="50000">
              <a:srgbClr val="ffffff"/>
            </a:gs>
            <a:gs pos="100000">
              <a:srgbClr val="e1ff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089160" cy="3063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32000" y="3141720"/>
            <a:ext cx="5616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ЛИ . Т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3794"/>
                </a:moveTo>
                <a:lnTo>
                  <a:pt x="23260" y="10800"/>
                </a:lnTo>
                <a:lnTo>
                  <a:pt x="924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1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148360" y="260280"/>
            <a:ext cx="14396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164360" y="260280"/>
            <a:ext cx="1655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71640" y="-531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050920" y="-60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46821E-007 L -0.10243 0.40902 E">
                                      <p:cBhvr>
                                        <p:cTn id="5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1ff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332000" y="3789360"/>
            <a:ext cx="525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ЛИ . А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3794"/>
                </a:moveTo>
                <a:lnTo>
                  <a:pt x="23260" y="10800"/>
                </a:lnTo>
                <a:lnTo>
                  <a:pt x="924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1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292720" y="260280"/>
            <a:ext cx="1295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236000" y="260280"/>
            <a:ext cx="158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700360" y="-60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-60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4335E-006 L -0.14184 0.51399 E">
                                      <p:cBhvr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fe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D:\Каталог картинок\Животные Африки (2)\ElephntA п.gif"/>
          <p:cNvPicPr/>
          <p:nvPr/>
        </p:nvPicPr>
        <p:blipFill>
          <a:blip r:embed="rId1"/>
          <a:srcRect l="0" t="13165" r="0" b="17561"/>
          <a:stretch/>
        </p:blipFill>
        <p:spPr>
          <a:xfrm>
            <a:off x="1332000" y="1700280"/>
            <a:ext cx="6092640" cy="4221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763640" y="3789360"/>
            <a:ext cx="5256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. ЛОН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3794"/>
                </a:moveTo>
                <a:lnTo>
                  <a:pt x="23260" y="10800"/>
                </a:lnTo>
                <a:lnTo>
                  <a:pt x="924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1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292720" y="260280"/>
            <a:ext cx="115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236000" y="260280"/>
            <a:ext cx="158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71640" y="-531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050920" y="-60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13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42775E-006 L -0.41753 0.52971 E">
                                      <p:cBhvr>
                                        <p:cTn id="13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ff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 flipH="1">
            <a:off x="3347640" y="1052640"/>
            <a:ext cx="2314440" cy="453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332000" y="3429000"/>
            <a:ext cx="655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КАКТУ .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3794"/>
                </a:moveTo>
                <a:lnTo>
                  <a:pt x="23260" y="10800"/>
                </a:lnTo>
                <a:lnTo>
                  <a:pt x="924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1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67280" y="333360"/>
            <a:ext cx="100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740720" y="331920"/>
            <a:ext cx="100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03280" y="-531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34000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46821E-007 L 0.07882 0.45087 E">
                                      <p:cBhvr>
                                        <p:cTn id="172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231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327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95640" y="1405080"/>
            <a:ext cx="4392360" cy="3822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971640" y="3573360"/>
            <a:ext cx="720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КАПУ . ТА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3794"/>
                </a:moveTo>
                <a:lnTo>
                  <a:pt x="23260" y="10800"/>
                </a:lnTo>
                <a:lnTo>
                  <a:pt x="924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1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651640" y="333360"/>
            <a:ext cx="11509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524720" y="331920"/>
            <a:ext cx="11509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332000" y="-60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6836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21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7341E-006 L -0.07066 0.46659 E">
                                      <p:cBhvr>
                                        <p:cTn id="22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2864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fe1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8440" r="0" b="8516"/>
          <a:stretch/>
        </p:blipFill>
        <p:spPr>
          <a:xfrm>
            <a:off x="2050920" y="2133720"/>
            <a:ext cx="5040360" cy="4186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476360" y="3573360"/>
            <a:ext cx="604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КО . КА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3794"/>
                </a:moveTo>
                <a:lnTo>
                  <a:pt x="23260" y="10800"/>
                </a:lnTo>
                <a:lnTo>
                  <a:pt x="924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1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148360" y="189000"/>
            <a:ext cx="1511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308720" y="260280"/>
            <a:ext cx="1511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pull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2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2775E-006 L -0.38194 0.48763 E">
                                      <p:cBhvr>
                                        <p:cTn id="265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ff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960720" cy="46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042920" y="3933720"/>
            <a:ext cx="6985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ШИ . КА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3794"/>
                </a:moveTo>
                <a:lnTo>
                  <a:pt x="23260" y="10800"/>
                </a:lnTo>
                <a:lnTo>
                  <a:pt x="924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1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148360" y="189000"/>
            <a:ext cx="1295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236000" y="189000"/>
            <a:ext cx="1368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pull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  <p:set>
                                      <p:cBhvr>
                                        <p:cTn id="3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50867E-006 L -0.32674 0.54544 E">
                                      <p:cBhvr>
                                        <p:cTn id="31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1:35:35Z</dcterms:created>
  <dc:creator>XTreme</dc:creator>
  <dc:description/>
  <dc:language>en-US</dc:language>
  <cp:lastModifiedBy>XTreme</cp:lastModifiedBy>
  <dcterms:modified xsi:type="dcterms:W3CDTF">2010-10-04T16:14:47Z</dcterms:modified>
  <cp:revision>7</cp:revision>
  <dc:subject/>
  <dc:title>Слайд 1</dc:title>
</cp:coreProperties>
</file>