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wmf" ContentType="image/x-wmf"/>
  <Override PartName="/ppt/media/image14.wmf" ContentType="image/x-wmf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.gif" ContentType="image/gi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5B9-9B2A-4BD2-9E5A-06DABF5C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B1A-FF6A-4B5B-9904-6BC34466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C42-026C-48AC-93E1-B086B4BC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568-B5ED-48C9-8B46-B2124204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6AD-A836-45B1-88E0-8539D54D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DB4-42BC-4EAB-9547-7CAA12F9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EEF-54EC-4C98-A397-6196E2E9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A80-76B6-4A5C-9620-851C4417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A30-B81E-4E2F-9B2C-DCF61B47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9FD-A947-4AF6-8428-D247B694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B89-FD72-4BE6-A5F8-52ED831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B08-6399-4A8C-8EC5-E9F8DAEE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f"/>
            </a:gs>
            <a:gs pos="50000">
              <a:srgbClr val="ffffff"/>
            </a:gs>
            <a:gs pos="100000">
              <a:srgbClr val="e5e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8A59-19DE-4579-9B01-809E723CA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video" Target="file:///tmp/home/.config/libreoffice/4/user/gallery/&#1084;&#1099;&#1096;&#1082;&#1072;" TargetMode="External"/><Relationship Id="rId8" Type="http://schemas.microsoft.com/office/2007/relationships/media" Target="file:///tmp/home/.config/libreoffice/4/user/gallery/&#1084;&#1099;&#1096;&#1082;&#1072;" TargetMode="External"/><Relationship Id="rId9" Type="http://schemas.openxmlformats.org/officeDocument/2006/relationships/image" Target="../media/image8.png"/><Relationship Id="rId10" Type="http://schemas.openxmlformats.org/officeDocument/2006/relationships/video" Target="file:///tmp/home/.config/libreoffice/4/user/gallery/&#1082;&#1072;&#1084;&#1099;&#1096;" TargetMode="External"/><Relationship Id="rId11" Type="http://schemas.microsoft.com/office/2007/relationships/media" Target="file:///tmp/home/.config/libreoffice/4/user/gallery/&#1082;&#1072;&#1084;&#1099;&#1096;" TargetMode="External"/><Relationship Id="rId12" Type="http://schemas.openxmlformats.org/officeDocument/2006/relationships/image" Target="../media/image8.png"/><Relationship Id="rId13" Type="http://schemas.openxmlformats.org/officeDocument/2006/relationships/video" Target="file:///tmp/home/.config/libreoffice/4/user/gallery/&#1087;&#1091;&#1096;&#1082;&#1072;" TargetMode="External"/><Relationship Id="rId14" Type="http://schemas.microsoft.com/office/2007/relationships/media" Target="file:///tmp/home/.config/libreoffice/4/user/gallery/&#1087;&#1091;&#1096;&#1082;&#1072;" TargetMode="External"/><Relationship Id="rId15" Type="http://schemas.openxmlformats.org/officeDocument/2006/relationships/image" Target="../media/image8.png"/><Relationship Id="rId16" Type="http://schemas.openxmlformats.org/officeDocument/2006/relationships/video" Target="file:///tmp/home/.config/libreoffice/4/user/gallery/&#1096;&#1080;&#1096;&#1082;&#1072;" TargetMode="External"/><Relationship Id="rId17" Type="http://schemas.microsoft.com/office/2007/relationships/media" Target="file:///tmp/home/.config/libreoffice/4/user/gallery/&#1096;&#1080;&#1096;&#1082;&#1072;" TargetMode="External"/><Relationship Id="rId18" Type="http://schemas.openxmlformats.org/officeDocument/2006/relationships/image" Target="../media/image8.png"/><Relationship Id="rId19" Type="http://schemas.openxmlformats.org/officeDocument/2006/relationships/video" Target="file:///tmp/home/.config/libreoffice/4/user/gallery/&#1096;&#1083;&#1103;&#1087;&#1072;" TargetMode="External"/><Relationship Id="rId20" Type="http://schemas.microsoft.com/office/2007/relationships/media" Target="file:///tmp/home/.config/libreoffice/4/user/gallery/&#1096;&#1083;&#1103;&#1087;&#1072;" TargetMode="External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f"/>
            </a:gs>
            <a:gs pos="50000">
              <a:srgbClr val="ffffff"/>
            </a:gs>
            <a:gs pos="100000">
              <a:srgbClr val="e5e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268280"/>
            <a:ext cx="6858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м похожи</a:t>
            </a:r>
            <a:endParaRPr b="0" lang="en-US" sz="9600" spc="1" strike="noStrike">
              <a:ln w="12600">
                <a:solidFill>
                  <a:srgbClr val="800080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96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ова</a:t>
            </a:r>
            <a:endParaRPr b="0" lang="en-US" sz="9600" spc="1" strike="noStrike">
              <a:ln w="12600">
                <a:solidFill>
                  <a:srgbClr val="800080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295640" cy="12747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f"/>
            </a:gs>
            <a:gs pos="50000">
              <a:srgbClr val="ffffff"/>
            </a:gs>
            <a:gs pos="100000">
              <a:srgbClr val="e5e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259236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333360"/>
            <a:ext cx="259236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333360"/>
            <a:ext cx="259236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7640" y="3716280"/>
            <a:ext cx="259236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3716280"/>
            <a:ext cx="259236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716280"/>
            <a:ext cx="259236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834" t="0" r="0" b="0"/>
          <a:stretch/>
        </p:blipFill>
        <p:spPr>
          <a:xfrm rot="21317400">
            <a:off x="468000" y="549000"/>
            <a:ext cx="2449440" cy="252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20118" t="0" r="19388" b="0"/>
          <a:stretch/>
        </p:blipFill>
        <p:spPr>
          <a:xfrm>
            <a:off x="3708360" y="3789360"/>
            <a:ext cx="1871640" cy="2712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flipH="1">
            <a:off x="3564000" y="404640"/>
            <a:ext cx="2016000" cy="273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360" y="3789360"/>
            <a:ext cx="237492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300720" y="404640"/>
            <a:ext cx="2374920" cy="273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300720" y="3789360"/>
            <a:ext cx="2374920" cy="259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908000" y="189000"/>
            <a:ext cx="5112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567640" y="6497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5e5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39528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32000" y="-60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2340000" y="-60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3348000" y="-60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421164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5148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00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85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12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69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03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717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f"/>
            </a:gs>
            <a:gs pos="50000">
              <a:srgbClr val="ffffff"/>
            </a:gs>
            <a:gs pos="100000">
              <a:srgbClr val="e5e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333360"/>
            <a:ext cx="259236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333360"/>
            <a:ext cx="259236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333360"/>
            <a:ext cx="259236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3716280"/>
            <a:ext cx="259236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716280"/>
            <a:ext cx="259236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716280"/>
            <a:ext cx="259236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8100" r="0" b="13467"/>
          <a:stretch/>
        </p:blipFill>
        <p:spPr>
          <a:xfrm>
            <a:off x="3419640" y="62064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443640" y="404640"/>
            <a:ext cx="2160720" cy="273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rcRect l="1713" t="22046" r="38" b="22046"/>
          <a:stretch/>
        </p:blipFill>
        <p:spPr>
          <a:xfrm>
            <a:off x="468360" y="4076640"/>
            <a:ext cx="2232000" cy="2184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419640" y="3860640"/>
            <a:ext cx="2304720" cy="2495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372360" y="3860640"/>
            <a:ext cx="2349360" cy="24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908000" y="189000"/>
            <a:ext cx="5112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Ш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567640" y="6497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5e5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90000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1692360" y="-531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2556000" y="-531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3419640" y="-531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356000" y="-60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507672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78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67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193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9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77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157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f"/>
            </a:gs>
            <a:gs pos="50000">
              <a:srgbClr val="ffffff"/>
            </a:gs>
            <a:gs pos="100000">
              <a:srgbClr val="e5e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4360" y="1484280"/>
            <a:ext cx="7991280" cy="404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 !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131760" y="634356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radley Hand ITC"/>
              </a:rPr>
              <a:t>Презентация изготовлена Бунецкой 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0:49:34Z</dcterms:created>
  <dc:creator>XTreme</dc:creator>
  <dc:description/>
  <dc:language>en-US</dc:language>
  <cp:lastModifiedBy>XTreme</cp:lastModifiedBy>
  <dcterms:modified xsi:type="dcterms:W3CDTF">2010-10-04T16:15:11Z</dcterms:modified>
  <cp:revision>7</cp:revision>
  <dc:subject/>
  <dc:title>Слайд 1</dc:title>
</cp:coreProperties>
</file>