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A301-D09B-4595-97A3-E3F80ABB71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11BD-85B9-4F59-9704-B8DF0AA8C40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AF6E-37E5-426F-8D68-BA73B750E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4E57-89AC-4C22-8831-A754A4DE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2E91-475A-45A9-8214-3746C2239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58A8-B68C-412A-B238-D43B0BA3A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6A3B-9957-4A69-ADF5-0557F878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CC47-175D-4CA1-80FA-FF1A16B2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3AE2-C05B-4189-BA0A-B1860772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6961-C94E-470C-BE27-286D7812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3DD8-7ADA-4AA4-B265-B8D242FC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88A6-CFC3-4260-BA77-1AAF14BC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8E98-5C0C-4CC7-AB58-15060398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38C1-0915-4955-B987-BBAD6117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B381-62E7-42F2-8B75-4A8879DF72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49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" name="Прямоугольник 6" descr=""/>
          <p:cNvPicPr/>
          <p:nvPr/>
        </p:nvPicPr>
        <p:blipFill>
          <a:blip r:embed="rId2"/>
          <a:stretch/>
        </p:blipFill>
        <p:spPr>
          <a:xfrm>
            <a:off x="-12600" y="-390600"/>
            <a:ext cx="9169200" cy="33829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10"/>
          <p:cNvSpPr/>
          <p:nvPr/>
        </p:nvSpPr>
        <p:spPr>
          <a:xfrm>
            <a:off x="525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1" descr="http://lenagold.narod.ru/fon/clipart/d/der/derev64.png"/>
          <p:cNvPicPr/>
          <p:nvPr/>
        </p:nvPicPr>
        <p:blipFill>
          <a:blip r:embed="rId3"/>
          <a:stretch/>
        </p:blipFill>
        <p:spPr>
          <a:xfrm>
            <a:off x="290520" y="2408400"/>
            <a:ext cx="8562960" cy="43052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Скругленный прямоугольник 3"/>
          <p:cNvGrpSpPr/>
          <p:nvPr/>
        </p:nvGrpSpPr>
        <p:grpSpPr>
          <a:xfrm>
            <a:off x="96840" y="66600"/>
            <a:ext cx="8950320" cy="6651720"/>
            <a:chOff x="96840" y="66600"/>
            <a:chExt cx="8950320" cy="6651720"/>
          </a:xfrm>
        </p:grpSpPr>
        <p:pic>
          <p:nvPicPr>
            <p:cNvPr id="55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6660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430200" y="40176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5"/>
          <p:cNvSpPr/>
          <p:nvPr/>
        </p:nvSpPr>
        <p:spPr>
          <a:xfrm>
            <a:off x="0" y="6235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(Раскрыть ладонь левой руки, за­тем — правой руки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100080" y="139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Лист у клёна и каштана 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0" descr=""/>
          <p:cNvPicPr/>
          <p:nvPr/>
        </p:nvPicPr>
        <p:blipFill>
          <a:blip r:embed="rId2"/>
          <a:srcRect l="25026" t="5308" r="20524" b="3831"/>
          <a:stretch/>
        </p:blipFill>
        <p:spPr>
          <a:xfrm>
            <a:off x="1251000" y="836640"/>
            <a:ext cx="6842160" cy="5541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Скругленный прямоугольник 3"/>
          <p:cNvGrpSpPr/>
          <p:nvPr/>
        </p:nvGrpSpPr>
        <p:grpSpPr>
          <a:xfrm>
            <a:off x="96840" y="66600"/>
            <a:ext cx="8950320" cy="6651720"/>
            <a:chOff x="96840" y="66600"/>
            <a:chExt cx="8950320" cy="6651720"/>
          </a:xfrm>
        </p:grpSpPr>
        <p:pic>
          <p:nvPicPr>
            <p:cNvPr id="61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6660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30200" y="40176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TextBox 5"/>
          <p:cNvSpPr/>
          <p:nvPr/>
        </p:nvSpPr>
        <p:spPr>
          <a:xfrm>
            <a:off x="0" y="6235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(Поднять вверх руки с раскрыты­ми пальцами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100080" y="139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Как ладони великан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2"/>
          <a:srcRect l="21671" t="7338" r="20130" b="9015"/>
          <a:stretch/>
        </p:blipFill>
        <p:spPr>
          <a:xfrm>
            <a:off x="858960" y="816120"/>
            <a:ext cx="7626240" cy="5387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Скругленный прямоугольник 3"/>
          <p:cNvGrpSpPr/>
          <p:nvPr/>
        </p:nvGrpSpPr>
        <p:grpSpPr>
          <a:xfrm>
            <a:off x="96840" y="66600"/>
            <a:ext cx="8950320" cy="6651720"/>
            <a:chOff x="96840" y="66600"/>
            <a:chExt cx="8950320" cy="6651720"/>
          </a:xfrm>
        </p:grpSpPr>
        <p:pic>
          <p:nvPicPr>
            <p:cNvPr id="67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6660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30200" y="40176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" name="TextBox 5"/>
          <p:cNvSpPr/>
          <p:nvPr/>
        </p:nvSpPr>
        <p:spPr>
          <a:xfrm>
            <a:off x="0" y="6235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(Показать руками «стволы»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00080" y="139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У берёзки, у берёзки 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2"/>
          <a:srcRect l="22544" t="10475" r="23622" b="6924"/>
          <a:stretch/>
        </p:blipFill>
        <p:spPr>
          <a:xfrm>
            <a:off x="1035000" y="847800"/>
            <a:ext cx="7273800" cy="54212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Скругленный прямоугольник 3"/>
          <p:cNvGrpSpPr/>
          <p:nvPr/>
        </p:nvGrpSpPr>
        <p:grpSpPr>
          <a:xfrm>
            <a:off x="96840" y="66600"/>
            <a:ext cx="8950320" cy="6651720"/>
            <a:chOff x="96840" y="66600"/>
            <a:chExt cx="8950320" cy="6651720"/>
          </a:xfrm>
        </p:grpSpPr>
        <p:pic>
          <p:nvPicPr>
            <p:cNvPr id="73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6660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30200" y="40176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TextBox 5"/>
          <p:cNvSpPr/>
          <p:nvPr/>
        </p:nvSpPr>
        <p:spPr>
          <a:xfrm>
            <a:off x="0" y="6013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(Нарисовать в воздухе указатель­ными пальцами капельку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100080" y="139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Белый ствол и листья —слёз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2"/>
          <a:srcRect l="23828" t="11495" r="22180" b="4507"/>
          <a:stretch/>
        </p:blipFill>
        <p:spPr>
          <a:xfrm>
            <a:off x="1295280" y="847800"/>
            <a:ext cx="6753240" cy="5165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Скругленный прямоугольник 3"/>
          <p:cNvGrpSpPr/>
          <p:nvPr/>
        </p:nvGrpSpPr>
        <p:grpSpPr>
          <a:xfrm>
            <a:off x="96840" y="66600"/>
            <a:ext cx="8950320" cy="6651720"/>
            <a:chOff x="96840" y="66600"/>
            <a:chExt cx="8950320" cy="6651720"/>
          </a:xfrm>
        </p:grpSpPr>
        <p:pic>
          <p:nvPicPr>
            <p:cNvPr id="79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6660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430200" y="40176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TextBox 5"/>
          <p:cNvSpPr/>
          <p:nvPr/>
        </p:nvSpPr>
        <p:spPr>
          <a:xfrm>
            <a:off x="0" y="6235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(Ладони перед собой, пальцы чуть растопырить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100080" y="13968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А у тоненькой рябинк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Листья — сложные картин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rcRect l="29803" t="5339" r="24515" b="3430"/>
          <a:stretch/>
        </p:blipFill>
        <p:spPr>
          <a:xfrm>
            <a:off x="2124000" y="1617840"/>
            <a:ext cx="4762440" cy="4617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85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7" name="Прямоугольник 4" descr=""/>
          <p:cNvPicPr/>
          <p:nvPr/>
        </p:nvPicPr>
        <p:blipFill>
          <a:blip r:embed="rId2"/>
          <a:stretch/>
        </p:blipFill>
        <p:spPr>
          <a:xfrm>
            <a:off x="-353880" y="1566720"/>
            <a:ext cx="9845640" cy="3846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89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Прямоугольник 1"/>
          <p:cNvSpPr/>
          <p:nvPr/>
        </p:nvSpPr>
        <p:spPr>
          <a:xfrm>
            <a:off x="-1440" y="1916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В презентации использованы материалы книги О.И. Крупенчу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Тренируем пальчики – развиваем речь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старшая группа детского сад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1"/>
          <p:cNvSpPr/>
          <p:nvPr/>
        </p:nvSpPr>
        <p:spPr>
          <a:xfrm>
            <a:off x="-1440" y="530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Автор презентации: Бунецкая Н.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4T15:35:27Z</dcterms:created>
  <dc:creator>.</dc:creator>
  <dc:description/>
  <dc:language>en-US</dc:language>
  <cp:lastModifiedBy>.</cp:lastModifiedBy>
  <dcterms:modified xsi:type="dcterms:W3CDTF">2014-01-08T07:06:34Z</dcterms:modified>
  <cp:revision>64</cp:revision>
  <dc:subject/>
  <dc:title>Презентация PowerPoint</dc:title>
</cp:coreProperties>
</file>