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104-C5CB-427E-B95C-401D74A1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C94-8FCE-4FD5-A01D-F055A5EC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0F434-F46E-4AC1-A8DD-91C379DE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3AA9-1903-4DDE-BEBB-8215B99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6E993-7050-4429-8AF6-8A17B6B5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34CA9-85AC-4305-A22D-7FCD0EE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961E-D7BA-4760-931B-67722856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2B54E-2334-4C34-82AC-48657379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36359-59E7-4998-86D9-B32A69CD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85FD1-39C8-45EE-ACCE-17DB8349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6E519-BB4B-4A13-BB1F-1C133AD7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982A33-D786-4F1B-9447-1CEB9E3A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133-12CB-4123-B1F2-BEB2A17B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8F2F0B-DA4B-4873-B5A4-8762D13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BCB9F-1220-4E62-A5F2-F91A0B7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5B3C65-1ABF-4BA4-AF24-9865737D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7BFB20-CABD-4868-8860-3029A4D0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CC243-5498-4410-8045-26CEECD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897274-56B3-4CD3-B97B-9DB50E4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9085D-5237-4E08-8125-EE71E7A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CC2BE2-52E1-4A94-AF99-2A184B6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B1EC4-DD7E-4DB4-96B5-43043A2B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6D9696-BBC6-4EA6-AE5D-12384432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494-76F8-4C9C-9DD6-C96549A0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8FFCEB-58DA-4E41-9D08-85C6F26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9956-0F3D-464B-ABB0-DC673C9D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78EE-2704-4351-AD9D-1BCAC22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7000-8BEB-4089-B265-FDEF1D1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088-3DC2-4024-8BBC-F7C3406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B3CF-0744-443E-9FF3-AEB1570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EE59-C074-45A9-AD2B-1556A548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B13-11F6-4667-A07B-FF48797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A1F-F5B5-4FC8-949F-49500ABB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7F8C-083C-4C68-9DFC-4550F3EF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D5A1-3008-46EC-B47D-1138E19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3523-69D9-4E97-86D7-FB3CC153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5C44-BC73-46A9-AA2A-725AB027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4112-B509-4AD3-AD85-2530DB9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1D2F-9D8E-4848-91DA-8414DC02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0DD0-7268-4CE4-A894-4EA355F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183F-F313-4C15-B8A0-39D738E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E921-CF4A-4BE9-BA7A-610BBA86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6F6E-552A-41B7-9211-99B4E10D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0AA-F193-4416-8097-4031920F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5341-88F0-4415-8F00-3F647F1C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8650-4EF3-4EFE-BB3C-49F0209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285F-49E6-4A47-AA73-0F78308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9148-2023-4E64-BF27-5537922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9DE5-4F14-486F-911F-A3FFF9BF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89B7-C9B8-4369-8BA9-E8E5838D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DED4-42E0-4307-825A-F8F534F8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4C80-4AA2-4E63-814E-9E5BB199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2F07E-AEFC-4D5F-A758-0650C6B5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F20C-F07A-4025-8BC8-831280F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481-0D98-4E6E-B83F-6BAD8D47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41AB7-C7BA-4CD9-B0AF-F19F8981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913C-0550-4F53-AD25-0C75C5F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6DC9-3DD7-42B9-BBB0-6FC81F70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B2F8-8119-4E93-ACD2-C95FD8E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6352-1FC0-46C8-A82B-78ADD5F2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6DFF-FA12-4803-A39B-F3A8895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AF60-259D-45B3-BFAD-3577F971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3D6A-EDF2-41E5-856B-6C40899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3867-4A74-4C10-B20F-09F6D453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C6F8-F213-42C7-B7EA-E1B1A02E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EE1-B41C-49C8-85D2-E3D8AE2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355D-B8BA-45E9-BE4A-F6977D12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8F44-D4F6-4ED2-B930-EBEBF1D2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B551-D5A3-4652-9B00-61E9164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6593-A3D1-4CA0-9609-E3B147E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D3FB-466F-490C-B3FC-79C67ABA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C467-F1FA-4980-AD81-841BB8C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39D65-10B9-450B-B811-13EEDEB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9C53-BCEA-41DD-A2A1-17A01CFD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72E0-D690-444C-9F97-01164297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E00F1-DDC2-4FE4-B553-24EF4358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A54-ABD6-4292-B96B-75BDA4C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25A9-B26A-4E8E-93E0-D79FC23E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5507-307F-4115-B23A-B1D0B3B7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353F-4A0A-4121-9320-81D3D73D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DA26-B096-49B7-9CF1-DE1913E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5A40-297E-44E2-9ABD-BA54000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49E5-8E81-4C5B-957F-1C98AE11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7A0D-B7B2-4417-8E2B-0FE48005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24D1-6CC4-43D7-81A3-AEB87C6E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EE89-D861-49AA-9A1E-AD2D051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4E46-A2FA-4A02-8B51-E8751E8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2AE-E34E-48F6-A00B-7B042A84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1DC5-25A3-4BEA-8F30-32667C6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4707-2EC7-4F23-9ED7-EF0D8709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D919C-0E5B-42A6-BC6C-6B241BB7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892B-DF5A-45B8-BFC7-8F2E7326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D285-050E-4200-A2E8-32C725EF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0FCE-AE30-48B0-8C58-A387629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C560-A829-4C69-AAEE-B0EBBB8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ADD62-2776-46A2-BE9E-04A1C822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718DB-F5C4-48C2-8E48-C19DA8BD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05FB-40C1-49C6-991A-3444059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611-FE0A-4F9A-8421-63A73F5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217E-AED7-455F-AB2F-76F0B9D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5ED3-F980-4CF2-AAC9-5258B37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0F940-1E10-4680-8073-648934E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A235-0D00-4E1C-9F11-F252034F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D7EE-D03B-419C-880F-60CA60BE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B45A-C8B1-42C4-87C5-D540E093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2D5A-5095-4A80-8AE3-ABEE379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6C8FC-C90B-4F9B-8FE3-825CBF54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8C85E-2C8C-461F-B722-4FB06B5B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02BC9-501F-45A6-8491-0E32BA71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69D-040C-4B36-B692-EAFC638F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6D5D-5AB2-4146-A077-6ACE46D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851A-1FFF-4A34-AAC6-9E0AE1A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36C33-8988-4693-8145-E02187C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C558B-E5B9-4626-AB44-CC49DFB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743A-9EDA-4BC5-8F8C-8B8B3EF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F611-B35C-4F2A-9BA2-85529737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8A398-31E1-4509-AEFE-E4F7C4BF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3DE15-89F7-4450-9415-13820909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F3A7D-E91E-4DB9-B82C-6D0A2465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F1919-DEDF-4AD0-A32C-66D97C0C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C004-43E7-491C-B705-33467F441F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DFAA-A50A-47D5-8738-1F0DB55BA1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D6D3-DF12-4696-A3CF-0972B0BC6A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0580-8359-4609-A856-5E4398B240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5F8-E93E-481F-83C4-DA064CA090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633-B7C0-4C89-BFDA-1F46755D0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0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1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3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3CE-50D2-473F-BF67-A2969B8624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0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0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36F2-75EE-4A40-8E97-7046C3E8E99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A830-7808-428A-930B-271DE108A0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179-3014-4251-90C7-F96B1A071F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m Kaufha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301680" y="3962160"/>
            <a:ext cx="8540640" cy="21366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e 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ünschen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- Können Sie mir helfen? Ich möchte gern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einen Anzug kauf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5257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Welche G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ö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- Grö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 4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- Probieren Sie bitte dieser a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289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r Anzug pa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 mir. Was kostet e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59 DM. Er steht Ihn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inden Sie? Und nicht so teuer. Ich nehme den Anzu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ünschen Sie noch etw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N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Bitte zahlen sie an der Kas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32954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ём</cp:lastModifiedBy>
  <dcterms:modified xsi:type="dcterms:W3CDTF">2015-03-09T07:09:3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