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да" id="0">
      <p:sldLst>
        <p:sld r:id="rId13"/>
      </p:sldLst>
    </p:custShow>
    <p:custShow name="нет" id="1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395280" y="232056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971640" y="5303880"/>
            <a:ext cx="456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4360" y="5229360"/>
            <a:ext cx="7777080" cy="1341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cc">
                  <a:alpha val="90196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утешествие по городам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ер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132000" y="2565360"/>
            <a:ext cx="2880000" cy="642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476280"/>
            <a:ext cx="7416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"wir bereiten uns auf eine Deutschlandreise vor"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68360" y="0"/>
            <a:ext cx="45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ies bitte den Text noch einmal und sag die richtige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a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4920" y="333360"/>
            <a:ext cx="26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UFGAB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51664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1916280"/>
            <a:ext cx="2952720" cy="718920"/>
          </a:xfrm>
          <a:custGeom>
            <a:avLst/>
            <a:gdLst>
              <a:gd name="textAreaLeft" fmla="*/ 266400 w 2952720"/>
              <a:gd name="textAreaRight" fmla="*/ 2686320 w 2952720"/>
              <a:gd name="textAreaTop" fmla="*/ 93240 h 718920"/>
              <a:gd name="textAreaBottom" fmla="*/ 6260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6225" y="-3560"/>
                  <a:pt x="13425" y="6360"/>
                  <a:pt x="19650" y="1400"/>
                </a:cubicBezTo>
                <a:lnTo>
                  <a:pt x="21600" y="20200"/>
                </a:lnTo>
                <a:cubicBezTo>
                  <a:pt x="15375" y="25160"/>
                  <a:pt x="8175" y="15240"/>
                  <a:pt x="1950" y="20200"/>
                </a:cubicBezTo>
                <a:close/>
              </a:path>
            </a:pathLst>
          </a:custGeom>
          <a:solidFill>
            <a:srgbClr val="ff0000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) am Rh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213000"/>
            <a:ext cx="2808360" cy="792360"/>
          </a:xfrm>
          <a:custGeom>
            <a:avLst/>
            <a:gdLst>
              <a:gd name="textAreaLeft" fmla="*/ 561600 w 2808360"/>
              <a:gd name="textAreaRight" fmla="*/ 2246760 w 2808360"/>
              <a:gd name="textAreaTop" fmla="*/ 129960 h 792360"/>
              <a:gd name="textAreaBottom" fmla="*/ 6624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775"/>
                </a:moveTo>
                <a:cubicBezTo>
                  <a:pt x="5040" y="-4513"/>
                  <a:pt x="12240" y="8063"/>
                  <a:pt x="17280" y="1775"/>
                </a:cubicBezTo>
                <a:lnTo>
                  <a:pt x="21600" y="19825"/>
                </a:lnTo>
                <a:cubicBezTo>
                  <a:pt x="16560" y="26113"/>
                  <a:pt x="9360" y="13537"/>
                  <a:pt x="4320" y="19825"/>
                </a:cubicBezTo>
                <a:close/>
              </a:path>
            </a:pathLst>
          </a:custGeom>
          <a:solidFill>
            <a:srgbClr val="ff0000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) an der E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4508640"/>
            <a:ext cx="2952720" cy="720720"/>
          </a:xfrm>
          <a:custGeom>
            <a:avLst/>
            <a:gdLst>
              <a:gd name="textAreaLeft" fmla="*/ 307800 w 2952720"/>
              <a:gd name="textAreaRight" fmla="*/ 2644920 w 2952720"/>
              <a:gd name="textAreaTop" fmla="*/ 82440 h 720720"/>
              <a:gd name="textAreaBottom" fmla="*/ 638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237"/>
                </a:moveTo>
                <a:cubicBezTo>
                  <a:pt x="6074" y="-3145"/>
                  <a:pt x="13274" y="5619"/>
                  <a:pt x="19348" y="1237"/>
                </a:cubicBezTo>
                <a:lnTo>
                  <a:pt x="21600" y="20363"/>
                </a:lnTo>
                <a:cubicBezTo>
                  <a:pt x="15526" y="24745"/>
                  <a:pt x="8326" y="15981"/>
                  <a:pt x="2252" y="20363"/>
                </a:cubicBezTo>
                <a:close/>
              </a:path>
            </a:pathLst>
          </a:custGeom>
          <a:solidFill>
            <a:srgbClr val="ff0000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) an der 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6524640"/>
            <a:ext cx="1295280" cy="333360"/>
          </a:xfrm>
          <a:prstGeom prst="foldedCorner">
            <a:avLst>
              <a:gd name="adj" fmla="val 12500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184720" cy="558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0" y="1360440"/>
          <a:ext cx="324000" cy="3222720"/>
        </p:xfrm>
        <a:graphic>
          <a:graphicData uri="http://schemas.openxmlformats.org/drawingml/2006/table">
            <a:tbl>
              <a:tblPr/>
              <a:tblGrid>
                <a:gridCol w="324000"/>
              </a:tblGrid>
              <a:tr h="32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800" y="45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052640"/>
            <a:ext cx="4753080" cy="863640"/>
          </a:xfrm>
          <a:custGeom>
            <a:avLst/>
            <a:gdLst>
              <a:gd name="textAreaLeft" fmla="*/ 574560 w 4753080"/>
              <a:gd name="textAreaRight" fmla="*/ 4178520 w 475308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5894" y="-3560"/>
                  <a:pt x="13094" y="6360"/>
                  <a:pt x="18988" y="1400"/>
                </a:cubicBezTo>
                <a:lnTo>
                  <a:pt x="21600" y="20200"/>
                </a:lnTo>
                <a:cubicBezTo>
                  <a:pt x="15706" y="25160"/>
                  <a:pt x="8506" y="15240"/>
                  <a:pt x="2612" y="20200"/>
                </a:cubicBezTo>
                <a:close/>
              </a:path>
            </a:pathLst>
          </a:custGeom>
          <a:solidFill>
            <a:srgbClr val="ff0000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oln liegt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6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84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 rot="19558200">
            <a:off x="1258920" y="549000"/>
            <a:ext cx="6473880" cy="578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ichtig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19640" y="2433600"/>
            <a:ext cx="415584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42920" y="1052640"/>
            <a:ext cx="65534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8000">
                    <a:alpha val="99000"/>
                  </a:srgbClr>
                </a:solidFill>
                <a:effectLst>
                  <a:outerShdw dist="107932" dir="13500000" blurRad="0" rotWithShape="0">
                    <a:srgbClr val="ff9966">
                      <a:alpha val="50000"/>
                    </a:srgbClr>
                  </a:outerShdw>
                </a:effectLst>
                <a:latin typeface="Impact"/>
              </a:rPr>
              <a:t>FALSCH</a:t>
            </a:r>
            <a:endParaRPr b="1" lang="en-US" sz="6000" spc="1" strike="noStrike">
              <a:ln w="0">
                <a:noFill/>
              </a:ln>
              <a:solidFill>
                <a:srgbClr val="008000">
                  <a:alpha val="99000"/>
                </a:srgbClr>
              </a:solidFill>
              <a:effectLst>
                <a:outerShdw dist="107932" dir="13500000" blurRad="0" rotWithShape="0">
                  <a:srgbClr val="ff996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2376360" cy="16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57480" y="1879560"/>
            <a:ext cx="662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5476680" cy="3168720"/>
          </a:xfrm>
          <a:prstGeom prst="rect">
            <a:avLst/>
          </a:prstGeom>
          <a:ln w="76320">
            <a:solidFill>
              <a:srgbClr val="bbe0e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1258920" y="40618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076640"/>
            <a:ext cx="3889440" cy="1584360"/>
          </a:xfrm>
          <a:custGeom>
            <a:avLst/>
            <a:gdLst>
              <a:gd name="textAreaLeft" fmla="*/ 0 w 3889440"/>
              <a:gd name="textAreaRight" fmla="*/ 3889800 w 38894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90196"/>
                </a:srgbClr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EN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 befindet sich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836640"/>
            <a:ext cx="2520720" cy="1079640"/>
          </a:xfrm>
          <a:custGeom>
            <a:avLst/>
            <a:gdLst>
              <a:gd name="textAreaLeft" fmla="*/ 0 w 2520720"/>
              <a:gd name="textAreaRight" fmla="*/ 2521080 w 252072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90196"/>
                </a:srgbClr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in Ham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637000"/>
            <a:ext cx="2519640" cy="1150920"/>
          </a:xfrm>
          <a:custGeom>
            <a:avLst/>
            <a:gdLst>
              <a:gd name="textAreaLeft" fmla="*/ 0 w 2519640"/>
              <a:gd name="textAreaRight" fmla="*/ 2520000 w 251964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90196"/>
                </a:srgbClr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in Berl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4869000"/>
            <a:ext cx="2448000" cy="1150920"/>
          </a:xfrm>
          <a:custGeom>
            <a:avLst/>
            <a:gdLst>
              <a:gd name="textAreaLeft" fmla="*/ 0 w 2448000"/>
              <a:gd name="textAreaRight" fmla="*/ 2448360 w 244800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90196"/>
                </a:srgbClr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 Leipzi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597720"/>
            <a:ext cx="1619280" cy="260280"/>
          </a:xfrm>
          <a:prstGeom prst="foldedCorner">
            <a:avLst>
              <a:gd name="adj" fmla="val 12500"/>
            </a:avLst>
          </a:prstGeom>
          <a:solidFill>
            <a:srgbClr val="6699ff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2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1700280"/>
            <a:ext cx="5759280" cy="2852640"/>
          </a:xfrm>
          <a:custGeom>
            <a:avLst/>
            <a:gdLst>
              <a:gd name="textAreaLeft" fmla="*/ 0 w 5759280"/>
              <a:gd name="textAreaRight" fmla="*/ 5759640 w 5759280"/>
              <a:gd name="textAreaTop" fmla="*/ 369720 h 2852640"/>
              <a:gd name="textAreaBottom" fmla="*/ 2482920 h 2852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>
              <a:alpha val="90000"/>
            </a:srgbClr>
          </a:solidFill>
          <a:ln w="381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844640"/>
            <a:ext cx="456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ier befinden s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eltbekannte Muse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e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runes Gewolbe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d die Gemaldegal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333360"/>
            <a:ext cx="2735280" cy="934920"/>
          </a:xfrm>
          <a:custGeom>
            <a:avLst/>
            <a:gdLst>
              <a:gd name="textAreaLeft" fmla="*/ 0 w 2735280"/>
              <a:gd name="textAreaRight" fmla="*/ 2735640 w 27352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>
              <a:alpha val="90000"/>
            </a:srgbClr>
          </a:solidFill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) in Dre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5373720"/>
            <a:ext cx="3167280" cy="934920"/>
          </a:xfrm>
          <a:custGeom>
            <a:avLst/>
            <a:gdLst>
              <a:gd name="textAreaLeft" fmla="*/ 0 w 3167280"/>
              <a:gd name="textAreaRight" fmla="*/ 3167640 w 31672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) in Erf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73720"/>
            <a:ext cx="3024360" cy="1008000"/>
          </a:xfrm>
          <a:custGeom>
            <a:avLst/>
            <a:gdLst>
              <a:gd name="textAreaLeft" fmla="*/ 0 w 3024360"/>
              <a:gd name="textAreaRight" fmla="*/ 3024720 w 302436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) in Ham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8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2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132000" cy="22813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3716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168360" cy="2592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692360" y="6093000"/>
            <a:ext cx="1366920" cy="287280"/>
          </a:xfrm>
          <a:prstGeom prst="foldedCorner">
            <a:avLst>
              <a:gd name="adj" fmla="val 12500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03640" y="4579920"/>
            <a:ext cx="2808360" cy="227808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4716360" y="4653000"/>
            <a:ext cx="107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458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012000" y="4581360"/>
            <a:ext cx="2844720" cy="203364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7308720" y="6093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012000" y="2492280"/>
            <a:ext cx="2917800" cy="202572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graphicFrame>
        <p:nvGraphicFramePr>
          <p:cNvPr id="152" name=""/>
          <p:cNvGraphicFramePr/>
          <p:nvPr/>
        </p:nvGraphicFramePr>
        <p:xfrm>
          <a:off x="0" y="1360440"/>
          <a:ext cx="182520" cy="3222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2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800" y="45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149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981000"/>
            <a:ext cx="6553080" cy="2305080"/>
          </a:xfrm>
          <a:prstGeom prst="downArrowCallout">
            <a:avLst>
              <a:gd name="adj1" fmla="val 71079"/>
              <a:gd name="adj2" fmla="val 71072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66">
                  <a:alpha val="90196"/>
                </a:srgbClr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1197000"/>
            <a:ext cx="626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Namen dieser Stadte sind im Kreuzw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teckt. Lies bitte die russische Erkla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 lost da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reuzw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0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UFGAB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620640"/>
            <a:ext cx="60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47628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KREUZWORTRA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3637080" cy="464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40" y="-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0" y="-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4280" y="-4680"/>
          <a:ext cx="182880" cy="6264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4640" y="6258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773360"/>
            <a:ext cx="41767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EIP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U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OLN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E BERUHMTE DEUTSCHE STAD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067280"/>
            <a:ext cx="79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4720" y="40766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26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38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805360"/>
            <a:ext cx="277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 rot="10800000">
            <a:off x="684000" y="763920"/>
            <a:ext cx="777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-1692000" y="2276280"/>
            <a:ext cx="6265800" cy="223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BERLIN</a:t>
            </a:r>
            <a:endParaRPr b="0" i="1" lang="en-US" sz="7200" spc="1" strike="noStrike">
              <a:ln w="38160">
                <a:solidFill>
                  <a:srgbClr val="008000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7340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446280" cy="475272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graphicFrame>
        <p:nvGraphicFramePr>
          <p:cNvPr id="63" name=""/>
          <p:cNvGraphicFramePr/>
          <p:nvPr/>
        </p:nvGraphicFramePr>
        <p:xfrm>
          <a:off x="0" y="-1743120"/>
          <a:ext cx="182520" cy="942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800" y="768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-1755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476280"/>
            <a:ext cx="60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6093000"/>
            <a:ext cx="1224000" cy="360360"/>
          </a:xfrm>
          <a:prstGeom prst="foldedCorner">
            <a:avLst>
              <a:gd name="adj" fmla="val 125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0464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Ist die Hauptstadt der Bundesrepublik Deutschland und zahlt uber 3,5 Millionen Einwoh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3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 rot="5400000">
            <a:off x="-2214000" y="2713680"/>
            <a:ext cx="5759280" cy="97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LEIPZIG</a:t>
            </a:r>
            <a:endParaRPr b="0" lang="en-US" sz="7200" spc="1" strike="noStrike">
              <a:ln w="76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85440" y="692280"/>
            <a:ext cx="42656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n nennt  diese Stadt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ufenster der Welt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it dem zwolften Jahrhundert finden hier Messen st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ipzig ist  auch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e Stadt des Buchess und der Musi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948360" y="6597720"/>
            <a:ext cx="1438560" cy="2602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48000" y="0"/>
            <a:ext cx="5796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0" y="1866960"/>
          <a:ext cx="182520" cy="2205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800" y="4071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260280"/>
            <a:ext cx="6626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RFURT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39080" y="4797360"/>
            <a:ext cx="253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28464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357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Nennt man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die Stadt 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5805360"/>
            <a:ext cx="63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lu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6669000"/>
            <a:ext cx="1258920" cy="189000"/>
          </a:xfrm>
          <a:prstGeom prst="foldedCorner">
            <a:avLst>
              <a:gd name="adj" fmla="val 12500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340000" y="1268280"/>
            <a:ext cx="46861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RESDEN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5280" y="2708280"/>
            <a:ext cx="8424720" cy="384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2924280"/>
            <a:ext cx="43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ST DIE RICHTIGES DEUTSCHES ELBFLORENZ</a:t>
            </a: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6093000"/>
            <a:ext cx="1152360" cy="288720"/>
          </a:xfrm>
          <a:prstGeom prst="foldedCorner">
            <a:avLst>
              <a:gd name="adj" fmla="val 12500"/>
            </a:avLst>
          </a:prstGeom>
          <a:solidFill>
            <a:srgbClr val="808080">
              <a:alpha val="90000"/>
            </a:srgbClr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5867280" cy="415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340000" y="260280"/>
            <a:ext cx="48769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AMBURG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429000"/>
            <a:ext cx="237636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o wird Hamburg  genannt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ar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31352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TOR ZUR  WELT</a:t>
            </a: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6381720"/>
            <a:ext cx="1295280" cy="216000"/>
          </a:xfrm>
          <a:prstGeom prst="foldedCorner">
            <a:avLst>
              <a:gd name="adj" fmla="val 12500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роб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780000" y="476280"/>
            <a:ext cx="4679640" cy="29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KOLN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924280"/>
            <a:ext cx="334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 Koln kann man den kolner Dom bewundern,der ein Wunderwerk goticher Architektur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959600">
            <a:off x="5148360" y="475920"/>
            <a:ext cx="360360" cy="287280"/>
          </a:xfrm>
          <a:prstGeom prst="ellipse">
            <a:avLst/>
          </a:prstGeom>
          <a:solidFill>
            <a:srgbClr val="800000">
              <a:alpha val="90000"/>
            </a:srgbClr>
          </a:solidFill>
          <a:ln w="5724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80000" y="404640"/>
            <a:ext cx="360360" cy="287640"/>
          </a:xfrm>
          <a:prstGeom prst="ellipse">
            <a:avLst/>
          </a:prstGeom>
          <a:solidFill>
            <a:srgbClr val="800000">
              <a:alpha val="90000"/>
            </a:srgbClr>
          </a:solidFill>
          <a:ln w="5724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65214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роб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32000" y="404640"/>
            <a:ext cx="376236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NK MAL!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95640" y="1557360"/>
            <a:ext cx="376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NK MAL!</a:t>
            </a:r>
            <a:endParaRPr b="0" lang="en-US" sz="7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13280" y="2349360"/>
            <a:ext cx="333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NK MAL!</a:t>
            </a:r>
            <a:endParaRPr b="0" lang="en-US" sz="7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55640" y="4508640"/>
            <a:ext cx="32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79640" y="5300640"/>
            <a:ext cx="601992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d sag richtig !</a:t>
            </a:r>
            <a:endParaRPr b="0" i="1" lang="en-US" sz="72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0280"/>
            <a:ext cx="2987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cc">
              <a:alpha val="9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360" y="2997360"/>
            <a:ext cx="24480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01:21:17Z</dcterms:created>
  <dc:creator>kaprik</dc:creator>
  <dc:description/>
  <dc:language>en-US</dc:language>
  <cp:lastModifiedBy>Владелец</cp:lastModifiedBy>
  <dcterms:modified xsi:type="dcterms:W3CDTF">2008-04-29T07:10:03Z</dcterms:modified>
  <cp:revision>61</cp:revision>
  <dc:subject/>
  <dc:title>Слайд 1</dc:title>
</cp:coreProperties>
</file>