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D7C-C6AF-437C-94FB-8CBA2A40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7DE-63E2-4664-A4B7-20FFAB28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8AB-F5E5-4996-A5B3-A670DD38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5F3-7F75-4B06-B964-56310FA9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BA8-6D01-4D69-9619-DB7E4EC2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3CD-CD25-4343-BF7B-FD479CCD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3D5-2686-42CB-B3AC-A997FF5E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82F-3007-49E0-A9BE-F5F30165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1E4-F1FA-4374-8602-1726D830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AF6-1662-4582-BA0A-7C46309B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FDC-1768-477F-89A6-2A48C746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F05-4156-4923-9824-FB5B2454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ff"/>
            </a:gs>
            <a:gs pos="50000">
              <a:srgbClr val="ffffff"/>
            </a:gs>
            <a:gs pos="100000">
              <a:srgbClr val="d1d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6862-96E5-49F2-A1F8-98CC9F90F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ff"/>
            </a:gs>
            <a:gs pos="50000">
              <a:srgbClr val="ffffff"/>
            </a:gs>
            <a:gs pos="100000">
              <a:srgbClr val="d1d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916280"/>
            <a:ext cx="7559640" cy="27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c319ff"/>
                    </a:gs>
                    <a:gs pos="50000">
                      <a:srgbClr val="cc00cc"/>
                    </a:gs>
                    <a:gs pos="100000">
                      <a:srgbClr val="c319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застики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c319ff"/>
                  </a:gs>
                  <a:gs pos="50000">
                    <a:srgbClr val="cc00cc"/>
                  </a:gs>
                  <a:gs pos="100000">
                    <a:srgbClr val="c319ff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273640"/>
            <a:ext cx="2736720" cy="136836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136000" y="6237360"/>
            <a:ext cx="1008000" cy="620640"/>
          </a:xfrm>
          <a:custGeom>
            <a:avLst/>
            <a:gdLst>
              <a:gd name="textAreaLeft" fmla="*/ 39960 w 1008000"/>
              <a:gd name="textAreaRight" fmla="*/ 968040 w 1008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5073" h="21600">
                <a:moveTo>
                  <a:pt x="0" y="0"/>
                </a:moveTo>
                <a:lnTo>
                  <a:pt x="35073" y="0"/>
                </a:lnTo>
                <a:lnTo>
                  <a:pt x="35073" y="21600"/>
                </a:lnTo>
                <a:lnTo>
                  <a:pt x="0" y="21600"/>
                </a:lnTo>
                <a:close/>
              </a:path>
              <a:path fill="lightenLess" w="35073" h="21600">
                <a:moveTo>
                  <a:pt x="0" y="0"/>
                </a:moveTo>
                <a:lnTo>
                  <a:pt x="35073" y="0"/>
                </a:lnTo>
                <a:lnTo>
                  <a:pt x="33673" y="1400"/>
                </a:lnTo>
                <a:lnTo>
                  <a:pt x="1400" y="1400"/>
                </a:lnTo>
                <a:close/>
              </a:path>
              <a:path fill="darken" w="35073" h="21600">
                <a:moveTo>
                  <a:pt x="35073" y="0"/>
                </a:moveTo>
                <a:lnTo>
                  <a:pt x="35073" y="21600"/>
                </a:lnTo>
                <a:lnTo>
                  <a:pt x="33673" y="20200"/>
                </a:lnTo>
                <a:lnTo>
                  <a:pt x="33673" y="1400"/>
                </a:lnTo>
                <a:close/>
              </a:path>
              <a:path fill="darkenLess" w="35073" h="21600">
                <a:moveTo>
                  <a:pt x="35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3" y="20200"/>
                </a:lnTo>
                <a:close/>
              </a:path>
              <a:path fill="lighten" w="35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73" h="21600">
                <a:moveTo>
                  <a:pt x="10530" y="3794"/>
                </a:moveTo>
                <a:lnTo>
                  <a:pt x="24543" y="10800"/>
                </a:lnTo>
                <a:lnTo>
                  <a:pt x="1053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74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55640" y="-74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476360" y="-74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124000" y="-74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843280" y="-747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635280" y="-74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284720" y="-74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4932360" y="-81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5724360" y="-74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6443640" y="-74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7093080" y="-747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7740720" y="-747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8388360" y="-67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39528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111600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1835280" y="7101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248436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9"/>
          <a:stretch/>
        </p:blipFill>
        <p:spPr>
          <a:xfrm>
            <a:off x="3203640" y="7101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0"/>
          <a:stretch/>
        </p:blipFill>
        <p:spPr>
          <a:xfrm>
            <a:off x="385128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1"/>
          <a:stretch/>
        </p:blipFill>
        <p:spPr>
          <a:xfrm>
            <a:off x="4500720" y="7101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2"/>
          <a:stretch/>
        </p:blipFill>
        <p:spPr>
          <a:xfrm>
            <a:off x="5148360" y="7101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3"/>
          <a:stretch/>
        </p:blipFill>
        <p:spPr>
          <a:xfrm>
            <a:off x="586728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4"/>
          <a:stretch/>
        </p:blipFill>
        <p:spPr>
          <a:xfrm>
            <a:off x="658800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5"/>
          <a:stretch/>
        </p:blipFill>
        <p:spPr>
          <a:xfrm>
            <a:off x="7236000" y="7101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6"/>
          <a:stretch/>
        </p:blipFill>
        <p:spPr>
          <a:xfrm>
            <a:off x="781200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78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81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88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92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67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533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81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88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648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2578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57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20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285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250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229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92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16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9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216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327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216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69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4668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369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ff"/>
            </a:gs>
            <a:gs pos="50000">
              <a:srgbClr val="ffffff"/>
            </a:gs>
            <a:gs pos="100000">
              <a:srgbClr val="d1d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71640" y="1052640"/>
            <a:ext cx="287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ПИ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64000" y="981000"/>
            <a:ext cx="2880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С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435640" y="4076640"/>
            <a:ext cx="2879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М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16000" y="4221000"/>
            <a:ext cx="2879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М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172360" y="6524640"/>
            <a:ext cx="971640" cy="333360"/>
          </a:xfrm>
          <a:custGeom>
            <a:avLst/>
            <a:gdLst>
              <a:gd name="textAreaLeft" fmla="*/ 21600 w 971640"/>
              <a:gd name="textAreaRight" fmla="*/ 950040 w 97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2913" h="21600">
                <a:moveTo>
                  <a:pt x="0" y="0"/>
                </a:moveTo>
                <a:lnTo>
                  <a:pt x="62913" y="0"/>
                </a:lnTo>
                <a:lnTo>
                  <a:pt x="62913" y="21600"/>
                </a:lnTo>
                <a:lnTo>
                  <a:pt x="0" y="21600"/>
                </a:lnTo>
                <a:close/>
              </a:path>
              <a:path fill="lightenLess" w="62913" h="21600">
                <a:moveTo>
                  <a:pt x="0" y="0"/>
                </a:moveTo>
                <a:lnTo>
                  <a:pt x="62913" y="0"/>
                </a:lnTo>
                <a:lnTo>
                  <a:pt x="61513" y="1400"/>
                </a:lnTo>
                <a:lnTo>
                  <a:pt x="1400" y="1400"/>
                </a:lnTo>
                <a:close/>
              </a:path>
              <a:path fill="darken" w="62913" h="21600">
                <a:moveTo>
                  <a:pt x="62913" y="0"/>
                </a:moveTo>
                <a:lnTo>
                  <a:pt x="62913" y="21600"/>
                </a:lnTo>
                <a:lnTo>
                  <a:pt x="61513" y="20200"/>
                </a:lnTo>
                <a:lnTo>
                  <a:pt x="61513" y="1400"/>
                </a:lnTo>
                <a:close/>
              </a:path>
              <a:path fill="darkenLess" w="62913" h="21600">
                <a:moveTo>
                  <a:pt x="62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13" y="20200"/>
                </a:lnTo>
                <a:close/>
              </a:path>
              <a:path fill="lighten" w="62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13" h="21600">
                <a:moveTo>
                  <a:pt x="24450" y="3794"/>
                </a:moveTo>
                <a:lnTo>
                  <a:pt x="38463" y="10800"/>
                </a:lnTo>
                <a:lnTo>
                  <a:pt x="2445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7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78" dur="3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690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2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9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69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9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0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0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70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0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ff"/>
            </a:gs>
            <a:gs pos="50000">
              <a:srgbClr val="ffffff"/>
            </a:gs>
            <a:gs pos="100000">
              <a:srgbClr val="d1d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68360" y="1052640"/>
            <a:ext cx="8064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онравилос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4221000"/>
            <a:ext cx="2376360" cy="2376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019400" y="6165720"/>
            <a:ext cx="51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radley Hand ITC"/>
              </a:rPr>
              <a:t>Презентация изготовлена Бунецкой 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5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6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7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1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ff"/>
            </a:gs>
            <a:gs pos="50000">
              <a:srgbClr val="ffffff"/>
            </a:gs>
            <a:gs pos="100000">
              <a:srgbClr val="d1d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619280" y="765000"/>
            <a:ext cx="187308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940360" y="765000"/>
            <a:ext cx="1873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19280" y="3860640"/>
            <a:ext cx="187308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940360" y="3860640"/>
            <a:ext cx="1873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172360" y="6524640"/>
            <a:ext cx="971640" cy="333360"/>
          </a:xfrm>
          <a:custGeom>
            <a:avLst/>
            <a:gdLst>
              <a:gd name="textAreaLeft" fmla="*/ 21600 w 971640"/>
              <a:gd name="textAreaRight" fmla="*/ 950040 w 97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2913" h="21600">
                <a:moveTo>
                  <a:pt x="0" y="0"/>
                </a:moveTo>
                <a:lnTo>
                  <a:pt x="62913" y="0"/>
                </a:lnTo>
                <a:lnTo>
                  <a:pt x="62913" y="21600"/>
                </a:lnTo>
                <a:lnTo>
                  <a:pt x="0" y="21600"/>
                </a:lnTo>
                <a:close/>
              </a:path>
              <a:path fill="lightenLess" w="62913" h="21600">
                <a:moveTo>
                  <a:pt x="0" y="0"/>
                </a:moveTo>
                <a:lnTo>
                  <a:pt x="62913" y="0"/>
                </a:lnTo>
                <a:lnTo>
                  <a:pt x="61513" y="1400"/>
                </a:lnTo>
                <a:lnTo>
                  <a:pt x="1400" y="1400"/>
                </a:lnTo>
                <a:close/>
              </a:path>
              <a:path fill="darken" w="62913" h="21600">
                <a:moveTo>
                  <a:pt x="62913" y="0"/>
                </a:moveTo>
                <a:lnTo>
                  <a:pt x="62913" y="21600"/>
                </a:lnTo>
                <a:lnTo>
                  <a:pt x="61513" y="20200"/>
                </a:lnTo>
                <a:lnTo>
                  <a:pt x="61513" y="1400"/>
                </a:lnTo>
                <a:close/>
              </a:path>
              <a:path fill="darkenLess" w="62913" h="21600">
                <a:moveTo>
                  <a:pt x="62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13" y="20200"/>
                </a:lnTo>
                <a:close/>
              </a:path>
              <a:path fill="lighten" w="62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13" h="21600">
                <a:moveTo>
                  <a:pt x="24450" y="3794"/>
                </a:moveTo>
                <a:lnTo>
                  <a:pt x="38463" y="10800"/>
                </a:lnTo>
                <a:lnTo>
                  <a:pt x="2445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7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5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6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0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7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7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8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ff"/>
            </a:gs>
            <a:gs pos="50000">
              <a:srgbClr val="ffffff"/>
            </a:gs>
            <a:gs pos="100000">
              <a:srgbClr val="d1d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619280" y="765000"/>
            <a:ext cx="187308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867280" y="765000"/>
            <a:ext cx="1873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47640" y="3860640"/>
            <a:ext cx="1873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867280" y="3860640"/>
            <a:ext cx="1873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8172360" y="6524640"/>
            <a:ext cx="971640" cy="333360"/>
          </a:xfrm>
          <a:custGeom>
            <a:avLst/>
            <a:gdLst>
              <a:gd name="textAreaLeft" fmla="*/ 21600 w 971640"/>
              <a:gd name="textAreaRight" fmla="*/ 950040 w 97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2913" h="21600">
                <a:moveTo>
                  <a:pt x="0" y="0"/>
                </a:moveTo>
                <a:lnTo>
                  <a:pt x="62913" y="0"/>
                </a:lnTo>
                <a:lnTo>
                  <a:pt x="62913" y="21600"/>
                </a:lnTo>
                <a:lnTo>
                  <a:pt x="0" y="21600"/>
                </a:lnTo>
                <a:close/>
              </a:path>
              <a:path fill="lightenLess" w="62913" h="21600">
                <a:moveTo>
                  <a:pt x="0" y="0"/>
                </a:moveTo>
                <a:lnTo>
                  <a:pt x="62913" y="0"/>
                </a:lnTo>
                <a:lnTo>
                  <a:pt x="61513" y="1400"/>
                </a:lnTo>
                <a:lnTo>
                  <a:pt x="1400" y="1400"/>
                </a:lnTo>
                <a:close/>
              </a:path>
              <a:path fill="darken" w="62913" h="21600">
                <a:moveTo>
                  <a:pt x="62913" y="0"/>
                </a:moveTo>
                <a:lnTo>
                  <a:pt x="62913" y="21600"/>
                </a:lnTo>
                <a:lnTo>
                  <a:pt x="61513" y="20200"/>
                </a:lnTo>
                <a:lnTo>
                  <a:pt x="61513" y="1400"/>
                </a:lnTo>
                <a:close/>
              </a:path>
              <a:path fill="darkenLess" w="62913" h="21600">
                <a:moveTo>
                  <a:pt x="62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13" y="20200"/>
                </a:lnTo>
                <a:close/>
              </a:path>
              <a:path fill="lighten" w="62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13" h="21600">
                <a:moveTo>
                  <a:pt x="24450" y="3794"/>
                </a:moveTo>
                <a:lnTo>
                  <a:pt x="38463" y="10800"/>
                </a:lnTo>
                <a:lnTo>
                  <a:pt x="2445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7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2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3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39" dur="3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ff"/>
            </a:gs>
            <a:gs pos="50000">
              <a:srgbClr val="ffffff"/>
            </a:gs>
            <a:gs pos="100000">
              <a:srgbClr val="d1d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476360" y="765000"/>
            <a:ext cx="2016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547640" y="3933720"/>
            <a:ext cx="201636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867280" y="3933720"/>
            <a:ext cx="201636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867280" y="692280"/>
            <a:ext cx="2016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172360" y="6524640"/>
            <a:ext cx="971640" cy="333360"/>
          </a:xfrm>
          <a:custGeom>
            <a:avLst/>
            <a:gdLst>
              <a:gd name="textAreaLeft" fmla="*/ 21600 w 971640"/>
              <a:gd name="textAreaRight" fmla="*/ 950040 w 97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2913" h="21600">
                <a:moveTo>
                  <a:pt x="0" y="0"/>
                </a:moveTo>
                <a:lnTo>
                  <a:pt x="62913" y="0"/>
                </a:lnTo>
                <a:lnTo>
                  <a:pt x="62913" y="21600"/>
                </a:lnTo>
                <a:lnTo>
                  <a:pt x="0" y="21600"/>
                </a:lnTo>
                <a:close/>
              </a:path>
              <a:path fill="lightenLess" w="62913" h="21600">
                <a:moveTo>
                  <a:pt x="0" y="0"/>
                </a:moveTo>
                <a:lnTo>
                  <a:pt x="62913" y="0"/>
                </a:lnTo>
                <a:lnTo>
                  <a:pt x="61513" y="1400"/>
                </a:lnTo>
                <a:lnTo>
                  <a:pt x="1400" y="1400"/>
                </a:lnTo>
                <a:close/>
              </a:path>
              <a:path fill="darken" w="62913" h="21600">
                <a:moveTo>
                  <a:pt x="62913" y="0"/>
                </a:moveTo>
                <a:lnTo>
                  <a:pt x="62913" y="21600"/>
                </a:lnTo>
                <a:lnTo>
                  <a:pt x="61513" y="20200"/>
                </a:lnTo>
                <a:lnTo>
                  <a:pt x="61513" y="1400"/>
                </a:lnTo>
                <a:close/>
              </a:path>
              <a:path fill="darkenLess" w="62913" h="21600">
                <a:moveTo>
                  <a:pt x="62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13" y="20200"/>
                </a:lnTo>
                <a:close/>
              </a:path>
              <a:path fill="lighten" w="62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13" h="21600">
                <a:moveTo>
                  <a:pt x="24450" y="3794"/>
                </a:moveTo>
                <a:lnTo>
                  <a:pt x="38463" y="10800"/>
                </a:lnTo>
                <a:lnTo>
                  <a:pt x="2445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7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9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95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15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ff"/>
            </a:gs>
            <a:gs pos="50000">
              <a:srgbClr val="ffffff"/>
            </a:gs>
            <a:gs pos="100000">
              <a:srgbClr val="d1d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64000" y="765000"/>
            <a:ext cx="2880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А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87280" y="3933720"/>
            <a:ext cx="2880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64000" y="3933720"/>
            <a:ext cx="2880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71640" y="765000"/>
            <a:ext cx="28796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Л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8172360" y="6524640"/>
            <a:ext cx="971640" cy="333360"/>
          </a:xfrm>
          <a:custGeom>
            <a:avLst/>
            <a:gdLst>
              <a:gd name="textAreaLeft" fmla="*/ 21600 w 971640"/>
              <a:gd name="textAreaRight" fmla="*/ 950040 w 97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2913" h="21600">
                <a:moveTo>
                  <a:pt x="0" y="0"/>
                </a:moveTo>
                <a:lnTo>
                  <a:pt x="62913" y="0"/>
                </a:lnTo>
                <a:lnTo>
                  <a:pt x="62913" y="21600"/>
                </a:lnTo>
                <a:lnTo>
                  <a:pt x="0" y="21600"/>
                </a:lnTo>
                <a:close/>
              </a:path>
              <a:path fill="lightenLess" w="62913" h="21600">
                <a:moveTo>
                  <a:pt x="0" y="0"/>
                </a:moveTo>
                <a:lnTo>
                  <a:pt x="62913" y="0"/>
                </a:lnTo>
                <a:lnTo>
                  <a:pt x="61513" y="1400"/>
                </a:lnTo>
                <a:lnTo>
                  <a:pt x="1400" y="1400"/>
                </a:lnTo>
                <a:close/>
              </a:path>
              <a:path fill="darken" w="62913" h="21600">
                <a:moveTo>
                  <a:pt x="62913" y="0"/>
                </a:moveTo>
                <a:lnTo>
                  <a:pt x="62913" y="21600"/>
                </a:lnTo>
                <a:lnTo>
                  <a:pt x="61513" y="20200"/>
                </a:lnTo>
                <a:lnTo>
                  <a:pt x="61513" y="1400"/>
                </a:lnTo>
                <a:close/>
              </a:path>
              <a:path fill="darkenLess" w="62913" h="21600">
                <a:moveTo>
                  <a:pt x="62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13" y="20200"/>
                </a:lnTo>
                <a:close/>
              </a:path>
              <a:path fill="lighten" w="62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13" h="21600">
                <a:moveTo>
                  <a:pt x="24450" y="3794"/>
                </a:moveTo>
                <a:lnTo>
                  <a:pt x="38463" y="10800"/>
                </a:lnTo>
                <a:lnTo>
                  <a:pt x="2445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7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51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6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7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7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7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1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2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ff"/>
            </a:gs>
            <a:gs pos="50000">
              <a:srgbClr val="ffffff"/>
            </a:gs>
            <a:gs pos="100000">
              <a:srgbClr val="d1d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71640" y="765000"/>
            <a:ext cx="28796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64000" y="765000"/>
            <a:ext cx="2880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У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42920" y="3933720"/>
            <a:ext cx="28796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З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64000" y="3933720"/>
            <a:ext cx="2880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С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172360" y="6524640"/>
            <a:ext cx="971640" cy="333360"/>
          </a:xfrm>
          <a:custGeom>
            <a:avLst/>
            <a:gdLst>
              <a:gd name="textAreaLeft" fmla="*/ 21600 w 971640"/>
              <a:gd name="textAreaRight" fmla="*/ 950040 w 97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2913" h="21600">
                <a:moveTo>
                  <a:pt x="0" y="0"/>
                </a:moveTo>
                <a:lnTo>
                  <a:pt x="62913" y="0"/>
                </a:lnTo>
                <a:lnTo>
                  <a:pt x="62913" y="21600"/>
                </a:lnTo>
                <a:lnTo>
                  <a:pt x="0" y="21600"/>
                </a:lnTo>
                <a:close/>
              </a:path>
              <a:path fill="lightenLess" w="62913" h="21600">
                <a:moveTo>
                  <a:pt x="0" y="0"/>
                </a:moveTo>
                <a:lnTo>
                  <a:pt x="62913" y="0"/>
                </a:lnTo>
                <a:lnTo>
                  <a:pt x="61513" y="1400"/>
                </a:lnTo>
                <a:lnTo>
                  <a:pt x="1400" y="1400"/>
                </a:lnTo>
                <a:close/>
              </a:path>
              <a:path fill="darken" w="62913" h="21600">
                <a:moveTo>
                  <a:pt x="62913" y="0"/>
                </a:moveTo>
                <a:lnTo>
                  <a:pt x="62913" y="21600"/>
                </a:lnTo>
                <a:lnTo>
                  <a:pt x="61513" y="20200"/>
                </a:lnTo>
                <a:lnTo>
                  <a:pt x="61513" y="1400"/>
                </a:lnTo>
                <a:close/>
              </a:path>
              <a:path fill="darkenLess" w="62913" h="21600">
                <a:moveTo>
                  <a:pt x="62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13" y="20200"/>
                </a:lnTo>
                <a:close/>
              </a:path>
              <a:path fill="lighten" w="62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13" h="21600">
                <a:moveTo>
                  <a:pt x="24450" y="3794"/>
                </a:moveTo>
                <a:lnTo>
                  <a:pt x="38463" y="10800"/>
                </a:lnTo>
                <a:lnTo>
                  <a:pt x="2445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7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1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23" dur="3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3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38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4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4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ff"/>
            </a:gs>
            <a:gs pos="50000">
              <a:srgbClr val="ffffff"/>
            </a:gs>
            <a:gs pos="100000">
              <a:srgbClr val="d1d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71640" y="765000"/>
            <a:ext cx="28796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х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64000" y="765000"/>
            <a:ext cx="2880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Б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3933720"/>
            <a:ext cx="28796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64000" y="3933720"/>
            <a:ext cx="2880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172360" y="6524640"/>
            <a:ext cx="971640" cy="333360"/>
          </a:xfrm>
          <a:custGeom>
            <a:avLst/>
            <a:gdLst>
              <a:gd name="textAreaLeft" fmla="*/ 21600 w 971640"/>
              <a:gd name="textAreaRight" fmla="*/ 950040 w 97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2913" h="21600">
                <a:moveTo>
                  <a:pt x="0" y="0"/>
                </a:moveTo>
                <a:lnTo>
                  <a:pt x="62913" y="0"/>
                </a:lnTo>
                <a:lnTo>
                  <a:pt x="62913" y="21600"/>
                </a:lnTo>
                <a:lnTo>
                  <a:pt x="0" y="21600"/>
                </a:lnTo>
                <a:close/>
              </a:path>
              <a:path fill="lightenLess" w="62913" h="21600">
                <a:moveTo>
                  <a:pt x="0" y="0"/>
                </a:moveTo>
                <a:lnTo>
                  <a:pt x="62913" y="0"/>
                </a:lnTo>
                <a:lnTo>
                  <a:pt x="61513" y="1400"/>
                </a:lnTo>
                <a:lnTo>
                  <a:pt x="1400" y="1400"/>
                </a:lnTo>
                <a:close/>
              </a:path>
              <a:path fill="darken" w="62913" h="21600">
                <a:moveTo>
                  <a:pt x="62913" y="0"/>
                </a:moveTo>
                <a:lnTo>
                  <a:pt x="62913" y="21600"/>
                </a:lnTo>
                <a:lnTo>
                  <a:pt x="61513" y="20200"/>
                </a:lnTo>
                <a:lnTo>
                  <a:pt x="61513" y="1400"/>
                </a:lnTo>
                <a:close/>
              </a:path>
              <a:path fill="darkenLess" w="62913" h="21600">
                <a:moveTo>
                  <a:pt x="62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13" y="20200"/>
                </a:lnTo>
                <a:close/>
              </a:path>
              <a:path fill="lighten" w="62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13" h="21600">
                <a:moveTo>
                  <a:pt x="24450" y="3794"/>
                </a:moveTo>
                <a:lnTo>
                  <a:pt x="38463" y="10800"/>
                </a:lnTo>
                <a:lnTo>
                  <a:pt x="2445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7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7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8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8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95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497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50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10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ff"/>
            </a:gs>
            <a:gs pos="50000">
              <a:srgbClr val="ffffff"/>
            </a:gs>
            <a:gs pos="100000">
              <a:srgbClr val="d1d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71640" y="1052640"/>
            <a:ext cx="287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ЛЫЖ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64000" y="981000"/>
            <a:ext cx="2880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ЛАП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42920" y="4221000"/>
            <a:ext cx="2879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ЛУ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35640" y="4149720"/>
            <a:ext cx="2879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КИ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8172360" y="6524640"/>
            <a:ext cx="971640" cy="333360"/>
          </a:xfrm>
          <a:custGeom>
            <a:avLst/>
            <a:gdLst>
              <a:gd name="textAreaLeft" fmla="*/ 21600 w 971640"/>
              <a:gd name="textAreaRight" fmla="*/ 950040 w 97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2913" h="21600">
                <a:moveTo>
                  <a:pt x="0" y="0"/>
                </a:moveTo>
                <a:lnTo>
                  <a:pt x="62913" y="0"/>
                </a:lnTo>
                <a:lnTo>
                  <a:pt x="62913" y="21600"/>
                </a:lnTo>
                <a:lnTo>
                  <a:pt x="0" y="21600"/>
                </a:lnTo>
                <a:close/>
              </a:path>
              <a:path fill="lightenLess" w="62913" h="21600">
                <a:moveTo>
                  <a:pt x="0" y="0"/>
                </a:moveTo>
                <a:lnTo>
                  <a:pt x="62913" y="0"/>
                </a:lnTo>
                <a:lnTo>
                  <a:pt x="61513" y="1400"/>
                </a:lnTo>
                <a:lnTo>
                  <a:pt x="1400" y="1400"/>
                </a:lnTo>
                <a:close/>
              </a:path>
              <a:path fill="darken" w="62913" h="21600">
                <a:moveTo>
                  <a:pt x="62913" y="0"/>
                </a:moveTo>
                <a:lnTo>
                  <a:pt x="62913" y="21600"/>
                </a:lnTo>
                <a:lnTo>
                  <a:pt x="61513" y="20200"/>
                </a:lnTo>
                <a:lnTo>
                  <a:pt x="61513" y="1400"/>
                </a:lnTo>
                <a:close/>
              </a:path>
              <a:path fill="darkenLess" w="62913" h="21600">
                <a:moveTo>
                  <a:pt x="62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13" y="20200"/>
                </a:lnTo>
                <a:close/>
              </a:path>
              <a:path fill="lighten" w="62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13" h="21600">
                <a:moveTo>
                  <a:pt x="24450" y="3794"/>
                </a:moveTo>
                <a:lnTo>
                  <a:pt x="38463" y="10800"/>
                </a:lnTo>
                <a:lnTo>
                  <a:pt x="2445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7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54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55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5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55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67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ff"/>
            </a:gs>
            <a:gs pos="50000">
              <a:srgbClr val="ffffff"/>
            </a:gs>
            <a:gs pos="100000">
              <a:srgbClr val="d1d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71640" y="1052640"/>
            <a:ext cx="287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И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64000" y="981000"/>
            <a:ext cx="2880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СА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19640" y="4076640"/>
            <a:ext cx="3095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ЛЕ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16000" y="4221000"/>
            <a:ext cx="2879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Р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172360" y="6524640"/>
            <a:ext cx="971640" cy="333360"/>
          </a:xfrm>
          <a:custGeom>
            <a:avLst/>
            <a:gdLst>
              <a:gd name="textAreaLeft" fmla="*/ 21600 w 971640"/>
              <a:gd name="textAreaRight" fmla="*/ 950040 w 97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2913" h="21600">
                <a:moveTo>
                  <a:pt x="0" y="0"/>
                </a:moveTo>
                <a:lnTo>
                  <a:pt x="62913" y="0"/>
                </a:lnTo>
                <a:lnTo>
                  <a:pt x="62913" y="21600"/>
                </a:lnTo>
                <a:lnTo>
                  <a:pt x="0" y="21600"/>
                </a:lnTo>
                <a:close/>
              </a:path>
              <a:path fill="lightenLess" w="62913" h="21600">
                <a:moveTo>
                  <a:pt x="0" y="0"/>
                </a:moveTo>
                <a:lnTo>
                  <a:pt x="62913" y="0"/>
                </a:lnTo>
                <a:lnTo>
                  <a:pt x="61513" y="1400"/>
                </a:lnTo>
                <a:lnTo>
                  <a:pt x="1400" y="1400"/>
                </a:lnTo>
                <a:close/>
              </a:path>
              <a:path fill="darken" w="62913" h="21600">
                <a:moveTo>
                  <a:pt x="62913" y="0"/>
                </a:moveTo>
                <a:lnTo>
                  <a:pt x="62913" y="21600"/>
                </a:lnTo>
                <a:lnTo>
                  <a:pt x="61513" y="20200"/>
                </a:lnTo>
                <a:lnTo>
                  <a:pt x="61513" y="1400"/>
                </a:lnTo>
                <a:close/>
              </a:path>
              <a:path fill="darkenLess" w="62913" h="21600">
                <a:moveTo>
                  <a:pt x="62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13" y="20200"/>
                </a:lnTo>
                <a:close/>
              </a:path>
              <a:path fill="lighten" w="62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13" h="21600">
                <a:moveTo>
                  <a:pt x="24450" y="3794"/>
                </a:moveTo>
                <a:lnTo>
                  <a:pt x="38463" y="10800"/>
                </a:lnTo>
                <a:lnTo>
                  <a:pt x="2445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7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60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61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5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6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7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6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2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2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3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64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4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9:39:17Z</dcterms:created>
  <dc:creator>XTreme</dc:creator>
  <dc:description/>
  <dc:language>en-US</dc:language>
  <cp:lastModifiedBy>XTreme</cp:lastModifiedBy>
  <dcterms:modified xsi:type="dcterms:W3CDTF">2010-09-25T19:26:36Z</dcterms:modified>
  <cp:revision>5</cp:revision>
  <dc:subject/>
  <dc:title>Слайд 1</dc:title>
</cp:coreProperties>
</file>