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F3F5-E639-4CAC-9BC2-F0BC55ADC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040E-426C-42D8-99CC-8308863D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4806-E388-4A7B-82B9-87A5F649C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1336-96CD-4A7B-AD26-F719DC63C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5A910-2A7A-40DB-A01F-9B61A4AB2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34F9-4D6E-4413-8CFF-455DD39E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640F-4F0D-4882-AE0B-7FE5CF46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A0297-3AAF-4A40-8D6E-9E3B2538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CCA1-30F5-4A4E-8605-405E494F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201F-DA3C-458D-8CE9-D76622DE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40941-B068-4A2A-979B-6C291BE3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57CD-F829-4295-82D4-5C432A32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B3E6-F656-4858-82EE-CFF82E24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9D3D8-FCFE-4553-9329-8F2F8BAB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1EFE-ADC6-4761-A9FB-C6E09B30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AB93-7084-45CF-9121-970FC34DA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3A1B-BF1B-40B5-A4B0-7A20DCD8A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CBE6-9EF2-426E-9BE3-AE0B16A2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E9C6-742F-4DFA-87C3-8DE88640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CEED-039A-4F4C-BD3A-48194F7E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F801-77B2-4156-BE9B-D7855B5A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9BFC-4779-4086-9E0F-FB42CF84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2234-5927-4BE0-BFE6-7B59C380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42F6-D627-4E62-92DA-2AAEFC09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F9D7-185B-4A9D-9862-4353E2CDB4A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C9B4-BA1C-4C9F-9069-14CDC01287C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8.xml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66"/>
                </a:solidFill>
                <a:latin typeface="Verdana"/>
              </a:rPr>
              <a:t>Что мы узнал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66"/>
                </a:solidFill>
                <a:latin typeface="Verdana"/>
              </a:rPr>
              <a:t>об Антарктиде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619280" y="1125360"/>
            <a:ext cx="5616720" cy="25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    </a:t>
            </a: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гр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"По Антарктиде"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Географическое положение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20 баллов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 каких полушариях находится Антарктида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а) в южном, северном и западном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б) в южном, восточном и западном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) северном, восточном и западно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Географическое положение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30 баллов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й полуостров есть в Антарктиде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) Арктический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) Апеннинский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) Антарктически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История открытия материк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10 баллов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ервым достиг берегов Антарктиды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) Амундсен Руал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) Кук Джеймс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) Беллинсгаузен Ф. Ф. и Лазарев М. П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История открытия материк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20 баллов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Кто первым достиг Южного полюса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а) Р. Скотт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б) Р. Амундсен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) В. Беринг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История открытия материк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30 баллов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 каком году открыли Антарктиду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а) в 1918 г.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б) в 1820 г.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) в 1618 г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Arial"/>
              </a:rPr>
              <a:t>Поверхность и климат Антарктиды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10 баллов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Чем покрыта Антарктида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а) льдом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б) растительным покровом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) сливочным морожены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Arial"/>
              </a:rPr>
              <a:t>Поверхность и климат Антарктиды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20 баллов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Толщина слоя льда в Антарктиде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а) от 2-х до 4-х км.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б) от 6 до 8 км.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) от 2-х до 4-х метро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Arial"/>
              </a:rPr>
              <a:t>Поверхность и климат Антарктиды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30 баллов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Что будет, если все льды в Антарктиде растают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а) природная катастрофа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б) ничего не изменится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) изменится климат в Антарктид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Растительный и животный мир Антарктиды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10 баллов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 Антарктиде растут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а) кипарисы, кедры, лиственницы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б) мхи, водоросли, лишайники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) ничего не растёт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Растительный и животный мир Антарктиды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20 баллов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ингвины живут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а) семьями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б) колониями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) по одиночк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66"/>
                </a:solidFill>
                <a:latin typeface="Arial"/>
              </a:rPr>
              <a:t>Категории вопросов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Географическое положение Антарктид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История открытия Антарктид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3" action="ppaction://hlinksldjump"/>
              </a:rPr>
              <a:t>Поверхность и климат Антарктид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4" action="ppaction://hlinksldjump"/>
              </a:rPr>
              <a:t>Растительный и животный мир Антарктид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Современные исследования Антарктид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Verdana"/>
              </a:rPr>
              <a:t>Охрана природы Антарктид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Растительный и животный мир Антарктиды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30 баллов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Животные Антарктиды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а) приспособились к суровой жизни на материке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б) не приспособились никак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) приспособились частично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Современные исследования Антарктиды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10 баллов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Кому принадлежит материк Антарктида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а) Франции, Норвегии, США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б) России, Великобритании, ЮАР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) никому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Современные исследования Антарктиды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0 баллов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вая русская полярная станция называлась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) «Молодёжная»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) «Мирный»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) «Новолазаревская»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Современные исследования Антарктиды.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0 баллов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Наблюдения за погодой и климатом называются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а) метеорологическими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б) экологическими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) географически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Arial"/>
              </a:rPr>
              <a:t>Охрана природы Антарктиды.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Verdana"/>
              </a:rPr>
              <a:t>10 баллов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рироду Антарктиды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а) охранять не нужно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б) охранять необходимо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) охраняется международным договоро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Arial"/>
              </a:rPr>
              <a:t>Охрана природы Антарктиды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Verdana"/>
              </a:rPr>
              <a:t>20 баллов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На территории Антарктиды нельзя строить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а) новые полярные станции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б) промышленные объекты и военные базы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) ничего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Arial"/>
              </a:rPr>
              <a:t>Охрана природы Антарктиды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Verdana"/>
              </a:rPr>
              <a:t>30 баллов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очему в телах пингвинов нашли соли тяжелых металлов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а) потому что в Антарктиде много выхлопных газов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б) потому что Антарктида связана с другими материками 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) потому что они питаются солью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cc"/>
                </a:solidFill>
                <a:latin typeface="Arial"/>
              </a:rPr>
              <a:t>Географическое положение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4038480" cy="35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10 балло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20 балло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3" action="ppaction://hlinksldjump"/>
              </a:rPr>
              <a:t>30 балло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5076720" y="1916280"/>
            <a:ext cx="30481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История открытия материк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3848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10 балло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20 балло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3" action="ppaction://hlinksldjump"/>
              </a:rPr>
              <a:t>30 балло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4572000" y="2133720"/>
            <a:ext cx="3591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Arial"/>
              </a:rPr>
              <a:t>Поверхность и климат Антарктиды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4038480" cy="35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10 балло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20 балло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3" action="ppaction://hlinksldjump"/>
              </a:rPr>
              <a:t>30 балло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4356000" y="1989000"/>
            <a:ext cx="39625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Растительный и животный мир Антарктиды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3848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10 баллов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3" action="ppaction://hlinksldjump"/>
              </a:rPr>
              <a:t>20 балло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4" action="ppaction://hlinksldjump"/>
              </a:rPr>
              <a:t>30 балло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4356000" y="2205000"/>
            <a:ext cx="403884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Современные исследования Антарктиды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4038480" cy="33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10 балло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0 балло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0 балло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427640" y="2276640"/>
            <a:ext cx="403848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Arial"/>
              </a:rPr>
              <a:t>Охрана природы Антарктиды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4038480" cy="32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Verdana"/>
              </a:rPr>
              <a:t>10 балло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20 балло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Verdana"/>
              </a:rPr>
              <a:t>30 балло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648320" y="2519280"/>
            <a:ext cx="4038480" cy="26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Географическое положение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10 баллов: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Что такое Антарктида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а) материк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б) океан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) земной шар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15:14:50Z</dcterms:created>
  <dc:creator>Анжела</dc:creator>
  <dc:description/>
  <dc:language>en-US</dc:language>
  <cp:lastModifiedBy>Анжела</cp:lastModifiedBy>
  <dcterms:modified xsi:type="dcterms:W3CDTF">2010-03-13T18:35:38Z</dcterms:modified>
  <cp:revision>3</cp:revision>
  <dc:subject/>
  <dc:title>Слайд 1</dc:title>
</cp:coreProperties>
</file>