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A8B-D485-40B9-9EB1-7938790C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31E-190D-4640-A1DC-3A37A372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136-4F6D-46E5-906F-618C7412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EFE-9D78-4FAD-8D40-6102C90B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DD83-55D8-4EAF-97DC-46F967B3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E9D1-DC08-4247-8D43-B08B742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23CD-4574-46CC-B9D4-12526AD3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A064-E394-47EF-B98F-99CCCFA2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35FD-CB67-4F7F-97EA-1CC89ABB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F47B-F9D1-4A33-904A-38EB3550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FBB-6402-4424-B660-56FC879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6E0-F930-41B4-A0FC-8992F9A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7230-E8E6-4F30-A0A3-6C92730C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15F-C994-45FB-8C0F-4BE08BA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39B9-2E72-4CBB-82B5-7F648806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561A-90FC-4773-A731-738BB08D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578E-AFF1-4910-85D8-AB391E7D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095A-41EA-4F60-AE17-88D4DAD4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BEB3-DEBE-44F4-9A41-AA98248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3797-EFE5-4A1D-93C0-46D2A1BD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752B-0C0B-436F-8BD1-BD3F479C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395D-0C5F-49E2-9F3A-EB0DD56C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3A2-EDCF-4C2D-8472-DCBA24C7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BF0F-779A-4AA2-B105-08559E6C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0EAB-EABB-4BFC-B9D8-272075A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90A4-9E9C-4EA6-A0FF-C655CB31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6396-F309-41CA-A374-F8E3363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4F61-FB8D-4A31-BFC9-9405CF8E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7804-3252-4CFB-868D-CCFCB8E2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23AD-E510-4490-952E-209E9265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3654-364D-49DE-8B78-E2689B43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5E63-8420-431B-852B-695EA2B9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7629-0E93-4C88-A5AF-3AF16783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51B-F731-4A45-90BD-385BB134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513D-2F30-4CAB-A0F5-8A6AB1F5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A016-391E-491B-86DD-EB6EADE3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C246-BEDA-46BF-B9C0-D4569FC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BAAB-269A-4A70-84D9-8AE1983B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3180-55CD-4BB8-8B07-D3101DD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493D-C214-4716-8907-554AFAD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4DC2-E49A-437D-90AF-F9EF3C5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7BDC-0BE8-4330-BB9A-FCE012A7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3473-9990-4C78-8402-C7672FF2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9AEB3-EB87-4338-A007-C67479B3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804-7534-43BF-AD5B-617588C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B08EF-68C6-4F2E-A726-2E64234F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0476-C5C2-429A-9252-8E5D046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9DEE7-A0A8-4B03-B54D-BC0723E5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A335-E053-4676-9642-EFE89A6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F0A1-05CB-40FD-8473-AD6BA073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5559-5F50-4FD2-99B6-BF146AA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6391-7345-4A5F-A0A8-397D7675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AE16-2652-4133-904A-2DFDA31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86CD-B888-4A6C-BC69-68624109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A960-55B1-496D-A5D9-4EAE1AEE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D68-252C-45B4-AE85-4D810B0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FCC5-6F0E-4B81-A831-46A25738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E6DD6-2970-4F12-919E-56F2B30E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0BBC-F10B-4EFB-AD97-7502FD0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8796C-74CA-4F4D-B0A6-BAB11F1C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51A7-3D39-4654-85EB-B328820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C904-6126-4DF5-8C9B-DB9AA7D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D8A2A-AA0E-435D-B449-18B9011F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51FD1-6D51-489A-A18C-66C309D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7EC8-B64E-4006-BF97-E387AB1F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FD56-2BE9-47DE-869A-3CACBFA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E47-A02E-4D69-8B50-9D5C42F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D2C6-DC72-4F1A-87A1-0C24F7E1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8878-841F-4ED3-8C78-663BFAC9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1AB0-CB4A-49EA-933B-D1C69AFD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4B63E-0F16-4584-80FC-22345C5B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9D66-1047-42D8-83E9-3D233808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5B7D-93DB-4E5D-AE0F-3024DA8F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5B6D8-31F1-4E3E-AFEB-64562A91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B2EF-8C4E-4CFE-826D-4854C731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03E8-91F4-4DF6-9D0A-13B62898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70B6-E9E9-4DE3-AA76-D710F77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9D8-C042-42AE-BE62-5FAB76A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BBE4-30D7-4D3B-9D03-7FA6F6E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5C4A-CB47-4850-AAF2-0FADB3F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E2DF-F9EF-44E6-9A09-294AE9FF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2FF8-E574-4330-9A30-EA89362C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BD01-5766-4BE0-9842-D969584B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A244C-5440-48D6-9672-48172319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42012-C16D-4D0F-815C-BBF2D9B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BB99D-EBFE-4A0B-833E-271D4AD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1668-5D72-46A5-9419-A5954AB4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FF36F-9ECB-4F6B-ABA2-9711A45B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E56-DFA0-42E4-AC5F-673CF4A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1E6D8-3000-435E-AE68-BE2075DA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059D-E158-462C-85E1-F14A43A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E326C-0DED-4851-A366-DA91DED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FC309-7A5C-4EDA-A92A-2F8F06E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1921D-9558-45DD-B22A-4A0DF243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02593-99CA-45F5-82B4-8A5D3173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61EC-F5D5-4838-83D3-F20A3EC1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4885-0620-4DCD-B491-F111DC6A4DF2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FDE-E716-480A-92EE-42B8C12B8C7A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6DD5-1DD7-4E1E-BC65-F2AD64494E52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0A6E-891B-4A26-AB06-BC92CADBDCEE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58C-25EC-4624-9465-FC996031BC3B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7DB8-03DB-4D34-A325-9E635527C684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A7CF-1E27-4B68-AED4-2A487384BBB8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D671-8E88-4E2B-A82B-0C105C51F680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86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НА РАЗВИТИЕ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НИЯ ДЕТЕЙ</a:t>
            </a:r>
            <a:endParaRPr b="0" lang="en-US" sz="54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0080" y="2928600"/>
            <a:ext cx="6996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ЕДНЕЙ ГРУПП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4-5 ЛЕТ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extBox 21"/>
          <p:cNvSpPr/>
          <p:nvPr/>
        </p:nvSpPr>
        <p:spPr>
          <a:xfrm>
            <a:off x="1725840" y="5715000"/>
            <a:ext cx="54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 воспитатель МБДОУ №20 «Подснежн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ссем Светлана Евген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179280" y="256680"/>
            <a:ext cx="8642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Будь внимателен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.</a:t>
            </a:r>
            <a:r>
              <a:rPr b="0" i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ть внимание, учить быстро и точно реагировать на звуковые сигна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 на слове «Зайчики», произнесенное ведущим, дети должны начать прыгать, на слово «лошадки» - как бы ударять «копытом» об пол, «ра­ки» - пятиться, «птицы» - бегать, раскинув руки в стороны «аист» - стоять на одной ног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помни свое мест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моторно-слуховую пам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стоят в кругу или в разных углах зала, каждый должен запомнить свое место. Все разбегаются, а затем возвращаются на свои мес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помни свою поз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моторно-слуховую пам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стоят в кругу или в разных углах зала, каждый ребенок должен встать в какую-нибудь позу и запомнить ее. Когда зазву­чит музыка, все дети разбегаются, с ее окончанием они должны вернуться на свои места и встать в ту же по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3"/>
          <p:cNvSpPr/>
          <p:nvPr/>
        </p:nvSpPr>
        <p:spPr>
          <a:xfrm>
            <a:off x="324000" y="86760"/>
            <a:ext cx="864216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лаж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вивать волевое вним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е ходят по залу. Когда ведущий поднимет вверх флажок, все дети должны остановиться, хотя музыка продолжает звуч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голка и ни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волевое вним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становятся друг за другом. Первый - иголка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бегает, меняя направление. Остальные бегут за ним, стараясь не от­ста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.</a:t>
            </a:r>
            <a:r>
              <a:rPr b="0" i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ть внимание, учить быстро и точно реагировать на звуковые сигна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выбирают водящего - сову, которая садится в гнездо и спит. В это время дети начинают бегать и прыгать. Затем ведущий говорит: «Ночь!» Сова открывает глаза и начинает летать. Все играющие сразу должны замереть. Кто пошевелится или за­смеется, становится совой. И игра продолж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8:02:45Z</dcterms:created>
  <dc:creator>админ</dc:creator>
  <dc:description/>
  <dc:language>en-US</dc:language>
  <cp:lastModifiedBy>Пользователь</cp:lastModifiedBy>
  <dcterms:modified xsi:type="dcterms:W3CDTF">2015-02-24T18:38:01Z</dcterms:modified>
  <cp:revision>24</cp:revision>
  <dc:subject/>
  <dc:title>Слайд 1</dc:title>
</cp:coreProperties>
</file>