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9CC-CEB0-435A-B61C-1424662F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1B7-0332-42A3-BB3C-0CEA3B70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090-5CD6-4DEC-836D-3F479AF8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DC5-CA51-45A9-A895-E9ED3D4C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11E4-0746-433E-84B8-918332CA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A736-F24F-405C-BD0E-41D03EF5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9D33-764E-4C74-A35B-349EE4B4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2F7C-E6F1-44F7-8227-0B358C47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C3FA-3D28-452C-8412-DCFFDD72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7CFE-E6BE-479A-9865-060A0EA3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18E1-E7C0-4C9C-9EF8-2A154302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984-1186-4FC1-B3B4-25EE7693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FE02-05A7-49F1-9B9C-F4F8A759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7220-295B-4200-BEA2-446D6BB5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04ED-D670-4843-9CBD-F891E7EE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2F7B-500F-4702-B938-E4C14309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09DE-32E0-45FA-886A-1954AA80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7FAA-90C5-474B-BDCB-4E2A1730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60BDA-2283-4D01-9B22-1E3BC8CF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B6EE-64E8-4ADE-9E3E-0BE4A99B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E064-0CC3-4E90-9F31-38C65FCB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3589-7C93-4122-ABA0-7163C6D5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815-BBB8-418A-8CC6-68CD96A2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9B7CE-9487-45DB-9556-BAAE2453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65E4E-625D-49D2-8F68-62878FB9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42A1-AD91-4D3D-A7BC-88377053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CC9CF-2F89-4C47-8FD8-F0C263A8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EBD2-20E0-4461-8198-A13857DD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B2B8-476B-4717-B383-62D05E5C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E7DD-8DCA-4AA4-8F45-126285FA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149E2-7865-45AD-A675-D101D866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BADA-EB01-4582-B565-D6D49409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9309D-6C56-44F0-84D6-57EC6098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37B-9048-43B9-8D9E-BF88B469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758BF-92AD-4CDA-ADAD-EFB8367B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D3DB2-E526-405D-A543-F6C7815C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B55DC-D194-4C64-9E1F-ED671664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F6D5B-4036-4C77-927E-E2D2BCFB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220C-CA6A-4262-A1C2-A4356BED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87F8B-C553-4200-B276-7C9B8DB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90D28-648C-4DF4-BDDE-64F79DEC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1819E-7821-4101-AB0D-C9BC9253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04FA-0DA8-40AC-806D-4F3D22F4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6134A-DE26-48BA-B40A-861C3A52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3AE-CBF3-45BC-9195-2C78B7A7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E1AF5-3899-432F-8F7E-91A2B573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D245C-5692-4712-8294-7E1EAF4D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DCB5B-D87B-4966-BA72-51526844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06D19-F951-4DA4-B791-E484A77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D686-B154-4E19-BEAB-6F2D5E04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06E39-2EFB-4158-B658-F300607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81514-302B-4C40-B2D8-C2E2F7CE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EB185-E711-4B97-9859-DD6EE04B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967D-62EC-4DAE-BC1D-72F73659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1821-1A01-42B6-A008-187BFAB7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2FA-8C36-476D-B150-D209E0FE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42C44-2294-4E2F-8FFB-5FC38B5C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5F9AF-B929-49A8-8E9F-52586F48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8C148-4D8F-4F62-9E63-8284B8FB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8C671-05F7-4A95-9E5C-D143784C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4C532-1EE7-4210-AF9E-1B36DF1B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732F3-0696-4677-B50B-A5389EA4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123D7-F69C-4DCC-BD4A-159C8546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CE775-9EE7-4B0E-9C88-C8C2E465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DC4CB-3D33-40E3-A0B1-25FCCBAA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959C4-177B-47E9-A338-98C3D643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AF5-5E1F-4C8A-98D4-14125ADF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E009-1EF4-4236-90C7-B02E543F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B41C6-BCC7-4079-9637-4F371AFA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B5F9F-3E70-441B-9B0F-FB259961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6BE71-1FC6-4BE3-A9AF-D3C9A0D1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7A8C6-AECD-4F9E-BF7B-34A8CDDD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D1A11-ED6F-43FE-BCFF-CCC0A78E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F4624-EE4B-47B6-81FA-9CB74023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4DDE6-7C6B-4816-AE68-34AB89F3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DE1FE-8462-46A7-99D4-318E1B16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6A5E1-DB2A-4C99-967F-5D26F8B1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793-BF90-42FF-A129-744731A3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FB72C-5AE7-4066-907A-50BDD349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A2ABD-3BC1-4488-B681-6322C7A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954DE-40EA-4075-AE2F-E7CDE1B1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F39C5-818B-433F-993E-7ABAD0D8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4B883-A3EE-4DF0-86D4-96FCA8FF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A1D62-9E2E-4557-A228-22634C0F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7246C-6482-46F2-B458-F6F40479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6C660-EC82-4DFD-9CE6-B9D8CFCC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8B4C0-E15C-4497-B401-A3E47647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3A947-48C0-43A3-9CA4-71E8AECC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B84-2FEE-4CB1-A248-6E065DC3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A8D0D-264F-4AA9-8090-DAA717F3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0FC02-A95B-4622-ACCC-D76A454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C1A2B-FDE1-466D-9C3C-96FCEFE1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A3B69-E765-4908-A348-9A4D90F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69725-0912-4041-ADF6-4F2E2CED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53233-F3C4-47C6-B620-76144EA9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61AD1-2467-42B0-8902-A6E50CBE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8673-7380-407B-94BF-D260AF4260E9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A13C-D585-46B5-B4D8-8A35C8679D1C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8D41-2267-455C-94A9-0E2F060E78D8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54CB-31E5-4B9B-929C-181FEA239CDA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1A85-9D6E-4D66-9F94-6F6C31A3CE0B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38ED-ABC7-4E99-9FE8-3B147A9A3E16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F4EC-8847-4D8D-BF63-46CC2AF00335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bf"/>
            </a:gs>
            <a:gs pos="100000">
              <a:srgbClr val="017fb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bf5f9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FA3D-756B-4F67-B64B-1342B18E13DE}" type="slidenum">
              <a:rPr b="0" lang="ru-RU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4"/>
          <p:cNvSpPr/>
          <p:nvPr/>
        </p:nvSpPr>
        <p:spPr>
          <a:xfrm>
            <a:off x="911880" y="785880"/>
            <a:ext cx="733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НА РАЗВИТ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НИЯ ДЕТ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1571760" y="3286080"/>
            <a:ext cx="609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ГОТОВИТЕЛЬНОЙ ГРУП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6-7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1655640" y="5643720"/>
            <a:ext cx="592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 воспитатель МБДОУ №20 «Подснеж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ссем Светлана Евген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285840" y="31680"/>
            <a:ext cx="85359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ева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ь игры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волевое вним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щие идут по кругу, держась за руки, по сигналу веду­щего останавливаются, делают четыре хлопка, поворачиваются кругом и продолжают движение. Направление меняется после каждого сигнала. Не выполнивший правильно задание выходит из иг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етыре стих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ь игры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внимание, связанное с координацией слухов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вигательного анализа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щие сидят по кругу. Ведущий договаривается с ними, что, если он скажет слово «земля», все должны опустить руки вниз, если слово «вода» - вытянуть руки вперед, слово «воздух» - поднять руки вверх, слово «огонь» - произвести вращение руками в лучезапястных и локтевых суста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ошибается, считается проигравш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втори за м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ь игры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моторно-слуховую памя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стоят около стола ведущего. Ведущий предлагает одному ребенку прохлопать все, что ему простучит карандашом ведущий. Остальные дети внимательно слушают и оценивают исполнение движениями: поднимают вверх большой палец, если хлопки правильные, и опускают его вниз, если неправильные. Ритмические фразы должны быть короткими и ясными по своей струк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3"/>
          <p:cNvSpPr/>
          <p:nvPr/>
        </p:nvSpPr>
        <p:spPr>
          <a:xfrm>
            <a:off x="285840" y="29520"/>
            <a:ext cx="85723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зведч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ь игры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наблюдательность, пам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-й вариан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комнате расставлены стулья в произвольном порядке. Один ребенок (разведчик) идет через комнату, обходя стулья с любой стороны, а другой ребенок (командир), запомнив дорогу, должен провести отряд тем же пут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-й вариан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чало игры такое же, но командир должен начать вести отряд оттуда, куда пришел разведчик и привести туда, откуда вышел разведчи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претный номер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ь игры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наблюдательность, слуховую пам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щие стоят по кругу. Выбирается цифра, которую нельзя произносить, вместо ее произнесения играющий хлопает в ладоши. Например, запретный номер 5. Начинается игра, когда первый ребенок скажет: «Один», следующий продолжает счет и так до пяти. Пятый ребенок молча хлопает в ладоши пять раз. Шестой говорит: «Шесть». И т. 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ерете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щие делятся на две группы и становятся друг за другом. Как только кто-нибудь крикнет: «Начинаем!», дети, стоящие первыми, должны быстро, как веретено, обернуться вокруг себя. Потом соседи берут их за талию и оборачиваются уже вдвоем и т. д., пока не дойдут до последнего в ряду. Побеждает та группа, дети которой обернулись быстр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357120" y="20880"/>
            <a:ext cx="846468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Тропи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ь игры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внимание, связанное с координацией слухов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вигательного анализа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делятся на две команды с одинаковым количеством участвующих. Каждая команда берется за руки, образуя два круга, и по сигналу ведущего начинают движение по кругу в правую сторону до тех пор, пока не прекратится музыка (пауза в музыке через разное количество тактов: 6, 12, 18 и т. д.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чего ведущий дает задание, которое выполняется обеими команд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едущий говорит: «Тропинка!», участники каждой команды, становятся друг за другом, кладут руки на плечи впереди стоящего, приседают, наклоняя голову чуть-чуть вни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едущий говорит: «Копна!», все участники игры направляются к цент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его круга, соединив руки в цент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едущий говорит: «Кочки!», все участники игры приседают, положив руки на голов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 задания чередуются ведущим. Кто во время паузы не выполнит задание, тот выбывает из игры. Выигрывает та команда, где останется больше участни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8:02:45Z</dcterms:created>
  <dc:creator>админ</dc:creator>
  <dc:description/>
  <dc:language>en-US</dc:language>
  <cp:lastModifiedBy>Пользователь</cp:lastModifiedBy>
  <dcterms:modified xsi:type="dcterms:W3CDTF">2015-02-24T18:37:33Z</dcterms:modified>
  <cp:revision>25</cp:revision>
  <dc:subject/>
  <dc:title>Слайд 1</dc:title>
</cp:coreProperties>
</file>