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9FE-977C-4664-BF78-DA548EE7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BB2-ABF8-4B3F-B15C-C0FD9B4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E39-5826-4D86-BEA3-B702155F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42C-07EA-4F00-88FD-6D13D450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769C-1842-461F-9176-008558AF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7955-5FB0-4D00-A454-F59A58A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2C42-3A36-4A39-8684-4905DDE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4D40-EE27-4ED0-A565-8328B799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33E3-E404-4C1F-A781-A3FC519E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E06A-A96D-4DAF-98FB-EF21820E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837C-0AD7-4F49-9DD1-64AC402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87E-BF51-451A-B492-37371AB6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174B-790E-44B3-80CF-DDEECC7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913E-F0AD-42D6-B44B-1C92864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573A-B724-47FD-950F-826B6A8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25F0-B6C6-4A6B-81A7-E3F95FD1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E27F-099F-4B89-AE0D-8FF72194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1CA-67C3-4638-BBEE-B8E3F18A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E83-84F8-4AEB-ACCA-5E91754C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92D-F102-4ED5-B27D-20806C1C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C65-EC2A-4E0C-828A-13298CCE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364-DDC6-4836-AC60-AC16E36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44B-2E58-4419-B39A-2641ADE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D05-7B5B-4DC3-BE26-FFACA45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4CD0-788C-4553-808F-7E392153D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318-BEDD-45ED-A7AD-E11CEDD4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71640" y="1052640"/>
            <a:ext cx="53769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Презентация урока по теме </a:t>
            </a:r>
            <a:br>
              <a:rPr sz="4400"/>
            </a:b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«Ико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19640" y="38862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Ушакова Людмила Никола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МБОУ Сосновской СОШ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с. Челнаво-Рождествен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39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Чем  отличаются эти изображения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241956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3009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59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Свет ик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52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картине свет падает на объект, а на иконе лицо (лик) излучает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вет одно из имён Бога и одно из Его проявлений. Золотой (жёлтый) фон на иконе символ бесконечного божественного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олотой круг на иконе, нимб – знак Божией благодати, которая пронизала жизнь и мысль свя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9336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Святые 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408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амое главное в иконе, - это лицо (лики) и глаза. В ликах проступают мудрость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тина может показывать борьбу добра и зла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она показывает, каким станет человек, если победит в этой борь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2757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3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коны 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23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иконе, в отличие от картины, нет заднего плана и горизо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инии на иконе не сходятся вдали, а напротив, расходятся. Создаётся ощущение, что не вы смотрите на икону Христа, а Христос с иконы как бы смотрит н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493720" cy="360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00160" y="2997360"/>
            <a:ext cx="29116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4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Икона и моли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8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Христиане не молятся иконам. Они молятся перед ик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Христиане молятся тому, кого они видят на ик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она приглашает людей к молитве, а главное – к подражанию жизни св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3760920" cy="250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4417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916000" y="1600200"/>
            <a:ext cx="61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Спасибо з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9360" y="-42840"/>
            <a:ext cx="91533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9280" y="189000"/>
            <a:ext cx="596088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Цель урока: </a:t>
            </a:r>
            <a:br>
              <a:rPr sz="24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Дать представление о православной традиции отношения к икона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93520" y="2133720"/>
            <a:ext cx="6326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адачи урока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учающая: познакомиться с особенностями иконописного изображения; понять различия в написании иконы и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ющая: уяснить, какими способами и средствами в иконе изображается духов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оспитывающая: усвоить отношение к иконам, как к изображению священных для православных христиан  обр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5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Анно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мысление статьи учебника. Обратить внимание на общность и различие изображений на фотографиях и картинах с иконописными изображениями. Общность – дорогие душе человека предметы и лица. Различие – в реальных изображениях присутствует свет и тень,  на иконе все пронизано светом. Картина может показывать борьбу добра и зла в человеке. Икона показывает, каким станет человек, если победит в этой борьбе. Можно показать учащимся фотографии человека, причисленного к лику святых, и его и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456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302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По горизонт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.    Целая стена из икон по середине с вра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.  С помощью чего наполняют воздух дымом благоуханным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.   Что находится за иконостасом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.    Кто совершает службу в храм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По вертик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.    Квадратный столик, на котором зажжено множество свеч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.    Картина, на которой изображено то или иное лицо или событие из Библии или церковной ис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.    Как называется обращение к Богу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.    Этот предмет символизирует веру и причастность человека к Божественному све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5.    Место, где совершаются церковные служб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24360" y="1413000"/>
          <a:ext cx="4968720" cy="4348080"/>
        </p:xfrm>
        <a:graphic>
          <a:graphicData uri="http://schemas.openxmlformats.org/drawingml/2006/table">
            <a:tbl>
              <a:tblPr/>
              <a:tblGrid>
                <a:gridCol w="311040"/>
                <a:gridCol w="311040"/>
                <a:gridCol w="311400"/>
                <a:gridCol w="326880"/>
                <a:gridCol w="330120"/>
                <a:gridCol w="333360"/>
                <a:gridCol w="331920"/>
                <a:gridCol w="333360"/>
                <a:gridCol w="331920"/>
                <a:gridCol w="330120"/>
                <a:gridCol w="330120"/>
                <a:gridCol w="335160"/>
                <a:gridCol w="330120"/>
                <a:gridCol w="333360"/>
                <a:gridCol w="38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75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Икона «Взыскание погибших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416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тоял бы и смотрел…”. Р.Матюшин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оял бы и смотрел, не отрываясь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кона – чудо! Кротость и печаль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“Взыскание погибших”. Как живая!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уится покрывало по плечам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тя прильнуло в поисках защиты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чувствуя далёкий Крестный час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ка ещё ручонки не пробиты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о ты глядишь на каждого из нас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 Мати Света! Все мы виноваты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стория кружит в который раз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стут иуды, воины, пила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пред тобой сейчас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98484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66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И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888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лово «икона» в переводе с греческого языка означает «образ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 иконы – показать сокровенный мир души святого человека в том числе и богочеловек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кона может изображать событие из Биб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3362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Картины и ик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6961320" y="1197000"/>
            <a:ext cx="2182680" cy="1473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435640" y="1484280"/>
            <a:ext cx="15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908000" y="1413000"/>
            <a:ext cx="1776600" cy="187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067280" y="4221000"/>
            <a:ext cx="1709640" cy="2129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1320840" cy="21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50920" y="3357720"/>
            <a:ext cx="1917720" cy="242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2050920" y="4662360"/>
            <a:ext cx="1795680" cy="219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809880" y="1773360"/>
            <a:ext cx="1552680" cy="192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7348680" y="4724280"/>
            <a:ext cx="1795320" cy="201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7236000" y="2708280"/>
            <a:ext cx="143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888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Гармо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527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то слово греческого происхождения. Означает согласованность, стройность, единение в сочетании чего-нибуд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ир приходит в душу человека. И эту внутреннюю гармонию иконописец передает через гармонию внешнюю. На иконе целостная гармония человеческого тела слагается так, что пластика линий мягко скользит к лику и глазам. Главное в иконе лицо, а все остальное как бы вбирается в него. Икона преодолевает обычную рассеянность ума своей плоскостностью и ровным золотым или цветным фоном, гармонией линий и их устремленностью к л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28209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80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Что общего в этих изображениях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2419560" cy="3581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64000" y="1989000"/>
            <a:ext cx="3009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29:41Z</dcterms:created>
  <dc:creator>ppsworld.ru</dc:creator>
  <dc:description/>
  <cp:keywords>фон для power point</cp:keywords>
  <dc:language>en-US</dc:language>
  <cp:lastModifiedBy>User</cp:lastModifiedBy>
  <dcterms:modified xsi:type="dcterms:W3CDTF">2015-03-09T16:58:40Z</dcterms:modified>
  <cp:revision>6</cp:revision>
  <dc:subject/>
  <dc:title>Слайд 1</dc:title>
</cp:coreProperties>
</file>