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DD9B73D-A985-4106-BC65-36CE4261D64B}" type="doc">
      <dgm:prSet loTypeId="urn:microsoft.com/office/officeart/2005/8/layout/cycle5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690D18EC-B04A-4CD6-AE41-4061C1B3E557}">
      <dgm:prSet phldrT="[Текст]" custT="1"/>
      <dgm:spPr/>
      <dgm:t>
        <a:bodyPr/>
        <a:lstStyle/>
        <a:p>
          <a:r>
            <a:rPr lang="ru-RU" sz="1800" b="1" dirty="0" smtClean="0">
              <a:solidFill>
                <a:srgbClr val="002060"/>
              </a:solidFill>
              <a:latin typeface="Times New Roman" pitchFamily="18" charset="0"/>
              <a:cs typeface="Times New Roman" pitchFamily="18" charset="0"/>
            </a:rPr>
            <a:t>ИКТ как средство интерактивного обучения</a:t>
          </a:r>
          <a:endParaRPr lang="ru-RU" sz="1800" b="1" dirty="0">
            <a:solidFill>
              <a:srgbClr val="002060"/>
            </a:solidFill>
            <a:latin typeface="Times New Roman" pitchFamily="18" charset="0"/>
            <a:cs typeface="Times New Roman" pitchFamily="18" charset="0"/>
          </a:endParaRPr>
        </a:p>
      </dgm:t>
    </dgm:pt>
    <dgm:pt modelId="{9F9160B8-F30D-4E23-B77A-1A9436FCB4DF}" type="parTrans" cxnId="{58585CC0-5334-44FA-B2D3-9AC8F4A15EEB}">
      <dgm:prSet/>
      <dgm:spPr/>
      <dgm:t>
        <a:bodyPr/>
        <a:lstStyle/>
        <a:p>
          <a:endParaRPr lang="ru-RU"/>
        </a:p>
      </dgm:t>
    </dgm:pt>
    <dgm:pt modelId="{9B0752E4-62B2-4CD7-9BE6-9DBFD9EC2A04}" type="sibTrans" cxnId="{58585CC0-5334-44FA-B2D3-9AC8F4A15EEB}">
      <dgm:prSet/>
      <dgm:spPr/>
      <dgm:t>
        <a:bodyPr/>
        <a:lstStyle/>
        <a:p>
          <a:endParaRPr lang="ru-RU"/>
        </a:p>
      </dgm:t>
    </dgm:pt>
    <dgm:pt modelId="{7011BA46-C679-420D-B12B-B02E5B309EA0}">
      <dgm:prSet phldrT="[Текст]" custT="1"/>
      <dgm:spPr/>
      <dgm:t>
        <a:bodyPr/>
        <a:lstStyle/>
        <a:p>
          <a:r>
            <a:rPr lang="ru-RU" sz="1800" b="1" dirty="0" smtClean="0">
              <a:solidFill>
                <a:srgbClr val="002060"/>
              </a:solidFill>
              <a:latin typeface="Times New Roman" pitchFamily="18" charset="0"/>
              <a:cs typeface="Times New Roman" pitchFamily="18" charset="0"/>
            </a:rPr>
            <a:t>ИКТ как средство взаимодействия с социумом</a:t>
          </a:r>
          <a:endParaRPr lang="ru-RU" sz="1800" b="1" dirty="0">
            <a:solidFill>
              <a:srgbClr val="002060"/>
            </a:solidFill>
            <a:latin typeface="Times New Roman" pitchFamily="18" charset="0"/>
            <a:cs typeface="Times New Roman" pitchFamily="18" charset="0"/>
          </a:endParaRPr>
        </a:p>
      </dgm:t>
    </dgm:pt>
    <dgm:pt modelId="{AD1F2F15-FC0B-4A28-94FD-4A4D7353AF3B}" type="parTrans" cxnId="{20117EC6-108F-405F-80BB-9E670CD3B4F0}">
      <dgm:prSet/>
      <dgm:spPr/>
      <dgm:t>
        <a:bodyPr/>
        <a:lstStyle/>
        <a:p>
          <a:endParaRPr lang="ru-RU"/>
        </a:p>
      </dgm:t>
    </dgm:pt>
    <dgm:pt modelId="{6EDCD563-1AE5-47AF-8318-CCBC4D0E6634}" type="sibTrans" cxnId="{20117EC6-108F-405F-80BB-9E670CD3B4F0}">
      <dgm:prSet/>
      <dgm:spPr/>
      <dgm:t>
        <a:bodyPr/>
        <a:lstStyle/>
        <a:p>
          <a:endParaRPr lang="ru-RU"/>
        </a:p>
      </dgm:t>
    </dgm:pt>
    <dgm:pt modelId="{17AEBF02-95F8-4689-8679-F55452CC387C}">
      <dgm:prSet phldrT="[Текст]"/>
      <dgm:spPr/>
      <dgm:t>
        <a:bodyPr/>
        <a:lstStyle/>
        <a:p>
          <a:r>
            <a:rPr lang="ru-RU" b="0" dirty="0" smtClean="0">
              <a:solidFill>
                <a:srgbClr val="002060"/>
              </a:solidFill>
              <a:latin typeface="Times New Roman" pitchFamily="18" charset="0"/>
              <a:cs typeface="Times New Roman" pitchFamily="18" charset="0"/>
            </a:rPr>
            <a:t>ИКТ как средство сопровождения программы</a:t>
          </a:r>
          <a:endParaRPr lang="ru-RU" b="0" dirty="0">
            <a:solidFill>
              <a:srgbClr val="00206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F9BCCC3-191A-4A7E-BE0A-C88FD269C307}" type="parTrans" cxnId="{DF646A78-57BB-4053-9868-41B622C1C80E}">
      <dgm:prSet/>
      <dgm:spPr/>
      <dgm:t>
        <a:bodyPr/>
        <a:lstStyle/>
        <a:p>
          <a:endParaRPr lang="ru-RU"/>
        </a:p>
      </dgm:t>
    </dgm:pt>
    <dgm:pt modelId="{C9F2DC6C-E4C3-4D3B-9B18-27F860476E3C}" type="sibTrans" cxnId="{DF646A78-57BB-4053-9868-41B622C1C80E}">
      <dgm:prSet/>
      <dgm:spPr/>
      <dgm:t>
        <a:bodyPr/>
        <a:lstStyle/>
        <a:p>
          <a:endParaRPr lang="ru-RU"/>
        </a:p>
      </dgm:t>
    </dgm:pt>
    <dgm:pt modelId="{0353915F-FF9D-44A6-B66A-7AB9A5715372}">
      <dgm:prSet phldrT="[Текст]"/>
      <dgm:spPr/>
      <dgm:t>
        <a:bodyPr/>
        <a:lstStyle/>
        <a:p>
          <a:r>
            <a:rPr lang="ru-RU" b="1" dirty="0" smtClean="0">
              <a:solidFill>
                <a:srgbClr val="002060"/>
              </a:solidFill>
              <a:latin typeface="Times New Roman" pitchFamily="18" charset="0"/>
              <a:cs typeface="Times New Roman" pitchFamily="18" charset="0"/>
            </a:rPr>
            <a:t>ИКТ как средство АСУ</a:t>
          </a:r>
          <a:endParaRPr lang="ru-RU" b="1" dirty="0">
            <a:solidFill>
              <a:srgbClr val="002060"/>
            </a:solidFill>
            <a:latin typeface="Times New Roman" pitchFamily="18" charset="0"/>
            <a:cs typeface="Times New Roman" pitchFamily="18" charset="0"/>
          </a:endParaRPr>
        </a:p>
      </dgm:t>
    </dgm:pt>
    <dgm:pt modelId="{CFA477DA-AF34-4DC0-B9AE-48B2D9A440FE}" type="parTrans" cxnId="{0CEB2294-4D0B-42F2-8281-5779B324EFC8}">
      <dgm:prSet/>
      <dgm:spPr/>
      <dgm:t>
        <a:bodyPr/>
        <a:lstStyle/>
        <a:p>
          <a:endParaRPr lang="ru-RU"/>
        </a:p>
      </dgm:t>
    </dgm:pt>
    <dgm:pt modelId="{2F67E784-0861-42C2-868F-4BFC76EA38D1}" type="sibTrans" cxnId="{0CEB2294-4D0B-42F2-8281-5779B324EFC8}">
      <dgm:prSet/>
      <dgm:spPr/>
      <dgm:t>
        <a:bodyPr/>
        <a:lstStyle/>
        <a:p>
          <a:endParaRPr lang="ru-RU"/>
        </a:p>
      </dgm:t>
    </dgm:pt>
    <dgm:pt modelId="{1FD78B76-C588-4993-AD0B-33830323F58A}">
      <dgm:prSet phldrT="[Текст]" custT="1"/>
      <dgm:spPr/>
      <dgm:t>
        <a:bodyPr/>
        <a:lstStyle/>
        <a:p>
          <a:r>
            <a:rPr lang="ru-RU" sz="1800" b="1" dirty="0" smtClean="0">
              <a:solidFill>
                <a:srgbClr val="002060"/>
              </a:solidFill>
              <a:latin typeface="Times New Roman" pitchFamily="18" charset="0"/>
              <a:cs typeface="Times New Roman" pitchFamily="18" charset="0"/>
            </a:rPr>
            <a:t>Разработка технологий с включением ИКТ</a:t>
          </a:r>
          <a:endParaRPr lang="ru-RU" sz="1800" b="1" dirty="0">
            <a:solidFill>
              <a:srgbClr val="002060"/>
            </a:solidFill>
            <a:latin typeface="Times New Roman" pitchFamily="18" charset="0"/>
            <a:cs typeface="Times New Roman" pitchFamily="18" charset="0"/>
          </a:endParaRPr>
        </a:p>
      </dgm:t>
    </dgm:pt>
    <dgm:pt modelId="{CAF38FFF-1B09-4512-BC1B-4FE594FF76DC}" type="parTrans" cxnId="{BF352EA5-5327-4A9C-9806-BF64913B5960}">
      <dgm:prSet/>
      <dgm:spPr/>
      <dgm:t>
        <a:bodyPr/>
        <a:lstStyle/>
        <a:p>
          <a:endParaRPr lang="ru-RU"/>
        </a:p>
      </dgm:t>
    </dgm:pt>
    <dgm:pt modelId="{340809C6-ED29-4CDC-8E7A-E2018AB0FBA0}" type="sibTrans" cxnId="{BF352EA5-5327-4A9C-9806-BF64913B5960}">
      <dgm:prSet/>
      <dgm:spPr/>
      <dgm:t>
        <a:bodyPr/>
        <a:lstStyle/>
        <a:p>
          <a:endParaRPr lang="ru-RU"/>
        </a:p>
      </dgm:t>
    </dgm:pt>
    <dgm:pt modelId="{4FF95D97-B228-42BA-9008-04FFD97D0BB3}" type="pres">
      <dgm:prSet presAssocID="{ADD9B73D-A985-4106-BC65-36CE4261D64B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B24CE53-BE06-415F-9BE2-1D57F5D9C1B1}" type="pres">
      <dgm:prSet presAssocID="{690D18EC-B04A-4CD6-AE41-4061C1B3E557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C3EDB3-6345-4C89-BD15-FCE24AE76318}" type="pres">
      <dgm:prSet presAssocID="{690D18EC-B04A-4CD6-AE41-4061C1B3E557}" presName="spNode" presStyleCnt="0"/>
      <dgm:spPr/>
    </dgm:pt>
    <dgm:pt modelId="{244E4891-F36E-44F4-86BD-315053307D15}" type="pres">
      <dgm:prSet presAssocID="{9B0752E4-62B2-4CD7-9BE6-9DBFD9EC2A04}" presName="sibTrans" presStyleLbl="sibTrans1D1" presStyleIdx="0" presStyleCnt="5"/>
      <dgm:spPr/>
      <dgm:t>
        <a:bodyPr/>
        <a:lstStyle/>
        <a:p>
          <a:endParaRPr lang="ru-RU"/>
        </a:p>
      </dgm:t>
    </dgm:pt>
    <dgm:pt modelId="{F4C91D9C-59FE-477B-9921-4174F0F884E3}" type="pres">
      <dgm:prSet presAssocID="{7011BA46-C679-420D-B12B-B02E5B309EA0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D036222-8024-4FFB-A850-2C4C1D88F926}" type="pres">
      <dgm:prSet presAssocID="{7011BA46-C679-420D-B12B-B02E5B309EA0}" presName="spNode" presStyleCnt="0"/>
      <dgm:spPr/>
    </dgm:pt>
    <dgm:pt modelId="{AF79D701-0814-4D3C-B269-ABFAFD29E815}" type="pres">
      <dgm:prSet presAssocID="{6EDCD563-1AE5-47AF-8318-CCBC4D0E6634}" presName="sibTrans" presStyleLbl="sibTrans1D1" presStyleIdx="1" presStyleCnt="5"/>
      <dgm:spPr/>
      <dgm:t>
        <a:bodyPr/>
        <a:lstStyle/>
        <a:p>
          <a:endParaRPr lang="ru-RU"/>
        </a:p>
      </dgm:t>
    </dgm:pt>
    <dgm:pt modelId="{4B8D88A8-43F0-4315-94BF-0CA32E3108D9}" type="pres">
      <dgm:prSet presAssocID="{17AEBF02-95F8-4689-8679-F55452CC387C}" presName="node" presStyleLbl="node1" presStyleIdx="2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D2CF68E-CAE5-448C-9918-47468D9F9552}" type="pres">
      <dgm:prSet presAssocID="{17AEBF02-95F8-4689-8679-F55452CC387C}" presName="spNode" presStyleCnt="0"/>
      <dgm:spPr/>
    </dgm:pt>
    <dgm:pt modelId="{7D1B6135-F7AA-482A-8CB1-502D90050527}" type="pres">
      <dgm:prSet presAssocID="{C9F2DC6C-E4C3-4D3B-9B18-27F860476E3C}" presName="sibTrans" presStyleLbl="sibTrans1D1" presStyleIdx="2" presStyleCnt="5"/>
      <dgm:spPr/>
      <dgm:t>
        <a:bodyPr/>
        <a:lstStyle/>
        <a:p>
          <a:endParaRPr lang="ru-RU"/>
        </a:p>
      </dgm:t>
    </dgm:pt>
    <dgm:pt modelId="{B27D5645-4C46-4DE0-9E5D-6FA004D0041F}" type="pres">
      <dgm:prSet presAssocID="{0353915F-FF9D-44A6-B66A-7AB9A5715372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07C3D3D-FDC4-4E56-B80E-5BA79E18969E}" type="pres">
      <dgm:prSet presAssocID="{0353915F-FF9D-44A6-B66A-7AB9A5715372}" presName="spNode" presStyleCnt="0"/>
      <dgm:spPr/>
    </dgm:pt>
    <dgm:pt modelId="{03372566-20CC-4B33-B854-9C223D1CD4F5}" type="pres">
      <dgm:prSet presAssocID="{2F67E784-0861-42C2-868F-4BFC76EA38D1}" presName="sibTrans" presStyleLbl="sibTrans1D1" presStyleIdx="3" presStyleCnt="5"/>
      <dgm:spPr/>
      <dgm:t>
        <a:bodyPr/>
        <a:lstStyle/>
        <a:p>
          <a:endParaRPr lang="ru-RU"/>
        </a:p>
      </dgm:t>
    </dgm:pt>
    <dgm:pt modelId="{4FE54DDB-3828-4E3C-B1C9-ACC5BEC3DB57}" type="pres">
      <dgm:prSet presAssocID="{1FD78B76-C588-4993-AD0B-33830323F58A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D974BEF-842F-4976-9F32-39D1647AEEC1}" type="pres">
      <dgm:prSet presAssocID="{1FD78B76-C588-4993-AD0B-33830323F58A}" presName="spNode" presStyleCnt="0"/>
      <dgm:spPr/>
    </dgm:pt>
    <dgm:pt modelId="{19315AFA-CF15-441F-9047-9D5ABB3FCB45}" type="pres">
      <dgm:prSet presAssocID="{340809C6-ED29-4CDC-8E7A-E2018AB0FBA0}" presName="sibTrans" presStyleLbl="sibTrans1D1" presStyleIdx="4" presStyleCnt="5"/>
      <dgm:spPr/>
      <dgm:t>
        <a:bodyPr/>
        <a:lstStyle/>
        <a:p>
          <a:endParaRPr lang="ru-RU"/>
        </a:p>
      </dgm:t>
    </dgm:pt>
  </dgm:ptLst>
  <dgm:cxnLst>
    <dgm:cxn modelId="{C1AC9739-3523-45D6-98B6-5131C2C6A87D}" type="presOf" srcId="{6EDCD563-1AE5-47AF-8318-CCBC4D0E6634}" destId="{AF79D701-0814-4D3C-B269-ABFAFD29E815}" srcOrd="0" destOrd="0" presId="urn:microsoft.com/office/officeart/2005/8/layout/cycle5"/>
    <dgm:cxn modelId="{BF352EA5-5327-4A9C-9806-BF64913B5960}" srcId="{ADD9B73D-A985-4106-BC65-36CE4261D64B}" destId="{1FD78B76-C588-4993-AD0B-33830323F58A}" srcOrd="4" destOrd="0" parTransId="{CAF38FFF-1B09-4512-BC1B-4FE594FF76DC}" sibTransId="{340809C6-ED29-4CDC-8E7A-E2018AB0FBA0}"/>
    <dgm:cxn modelId="{58585CC0-5334-44FA-B2D3-9AC8F4A15EEB}" srcId="{ADD9B73D-A985-4106-BC65-36CE4261D64B}" destId="{690D18EC-B04A-4CD6-AE41-4061C1B3E557}" srcOrd="0" destOrd="0" parTransId="{9F9160B8-F30D-4E23-B77A-1A9436FCB4DF}" sibTransId="{9B0752E4-62B2-4CD7-9BE6-9DBFD9EC2A04}"/>
    <dgm:cxn modelId="{892C9DD0-69F9-474A-9C73-6F69B83437E2}" type="presOf" srcId="{C9F2DC6C-E4C3-4D3B-9B18-27F860476E3C}" destId="{7D1B6135-F7AA-482A-8CB1-502D90050527}" srcOrd="0" destOrd="0" presId="urn:microsoft.com/office/officeart/2005/8/layout/cycle5"/>
    <dgm:cxn modelId="{9B1A77D8-8701-43F2-947B-7C22CB4EFBD7}" type="presOf" srcId="{1FD78B76-C588-4993-AD0B-33830323F58A}" destId="{4FE54DDB-3828-4E3C-B1C9-ACC5BEC3DB57}" srcOrd="0" destOrd="0" presId="urn:microsoft.com/office/officeart/2005/8/layout/cycle5"/>
    <dgm:cxn modelId="{452A6D0D-19D3-4557-8DC1-6992606D0A6E}" type="presOf" srcId="{2F67E784-0861-42C2-868F-4BFC76EA38D1}" destId="{03372566-20CC-4B33-B854-9C223D1CD4F5}" srcOrd="0" destOrd="0" presId="urn:microsoft.com/office/officeart/2005/8/layout/cycle5"/>
    <dgm:cxn modelId="{36B8E615-7FDF-412E-8813-94B98990EC7A}" type="presOf" srcId="{0353915F-FF9D-44A6-B66A-7AB9A5715372}" destId="{B27D5645-4C46-4DE0-9E5D-6FA004D0041F}" srcOrd="0" destOrd="0" presId="urn:microsoft.com/office/officeart/2005/8/layout/cycle5"/>
    <dgm:cxn modelId="{20117EC6-108F-405F-80BB-9E670CD3B4F0}" srcId="{ADD9B73D-A985-4106-BC65-36CE4261D64B}" destId="{7011BA46-C679-420D-B12B-B02E5B309EA0}" srcOrd="1" destOrd="0" parTransId="{AD1F2F15-FC0B-4A28-94FD-4A4D7353AF3B}" sibTransId="{6EDCD563-1AE5-47AF-8318-CCBC4D0E6634}"/>
    <dgm:cxn modelId="{2C50FEDB-0BE8-4975-8709-FB8F01A3CF48}" type="presOf" srcId="{7011BA46-C679-420D-B12B-B02E5B309EA0}" destId="{F4C91D9C-59FE-477B-9921-4174F0F884E3}" srcOrd="0" destOrd="0" presId="urn:microsoft.com/office/officeart/2005/8/layout/cycle5"/>
    <dgm:cxn modelId="{8CA77FC4-3AE3-4069-9CD5-C1C3CADE540A}" type="presOf" srcId="{17AEBF02-95F8-4689-8679-F55452CC387C}" destId="{4B8D88A8-43F0-4315-94BF-0CA32E3108D9}" srcOrd="0" destOrd="0" presId="urn:microsoft.com/office/officeart/2005/8/layout/cycle5"/>
    <dgm:cxn modelId="{DF646A78-57BB-4053-9868-41B622C1C80E}" srcId="{ADD9B73D-A985-4106-BC65-36CE4261D64B}" destId="{17AEBF02-95F8-4689-8679-F55452CC387C}" srcOrd="2" destOrd="0" parTransId="{0F9BCCC3-191A-4A7E-BE0A-C88FD269C307}" sibTransId="{C9F2DC6C-E4C3-4D3B-9B18-27F860476E3C}"/>
    <dgm:cxn modelId="{13FCCD97-6078-446D-99D0-0BEE6767CDFE}" type="presOf" srcId="{690D18EC-B04A-4CD6-AE41-4061C1B3E557}" destId="{FB24CE53-BE06-415F-9BE2-1D57F5D9C1B1}" srcOrd="0" destOrd="0" presId="urn:microsoft.com/office/officeart/2005/8/layout/cycle5"/>
    <dgm:cxn modelId="{4714D3EE-01C6-4B2A-BE5B-7EDCAB514D30}" type="presOf" srcId="{ADD9B73D-A985-4106-BC65-36CE4261D64B}" destId="{4FF95D97-B228-42BA-9008-04FFD97D0BB3}" srcOrd="0" destOrd="0" presId="urn:microsoft.com/office/officeart/2005/8/layout/cycle5"/>
    <dgm:cxn modelId="{0CEB2294-4D0B-42F2-8281-5779B324EFC8}" srcId="{ADD9B73D-A985-4106-BC65-36CE4261D64B}" destId="{0353915F-FF9D-44A6-B66A-7AB9A5715372}" srcOrd="3" destOrd="0" parTransId="{CFA477DA-AF34-4DC0-B9AE-48B2D9A440FE}" sibTransId="{2F67E784-0861-42C2-868F-4BFC76EA38D1}"/>
    <dgm:cxn modelId="{072C168A-9EBF-4D65-BB49-B046C8DB0D77}" type="presOf" srcId="{9B0752E4-62B2-4CD7-9BE6-9DBFD9EC2A04}" destId="{244E4891-F36E-44F4-86BD-315053307D15}" srcOrd="0" destOrd="0" presId="urn:microsoft.com/office/officeart/2005/8/layout/cycle5"/>
    <dgm:cxn modelId="{47F1337C-176A-4072-9B7D-44F43D721D8A}" type="presOf" srcId="{340809C6-ED29-4CDC-8E7A-E2018AB0FBA0}" destId="{19315AFA-CF15-441F-9047-9D5ABB3FCB45}" srcOrd="0" destOrd="0" presId="urn:microsoft.com/office/officeart/2005/8/layout/cycle5"/>
    <dgm:cxn modelId="{A1D99FE4-1188-4C8E-9284-92B8A54F40F6}" type="presParOf" srcId="{4FF95D97-B228-42BA-9008-04FFD97D0BB3}" destId="{FB24CE53-BE06-415F-9BE2-1D57F5D9C1B1}" srcOrd="0" destOrd="0" presId="urn:microsoft.com/office/officeart/2005/8/layout/cycle5"/>
    <dgm:cxn modelId="{30F0DE87-4926-4F07-B17B-D11077BED2BB}" type="presParOf" srcId="{4FF95D97-B228-42BA-9008-04FFD97D0BB3}" destId="{1AC3EDB3-6345-4C89-BD15-FCE24AE76318}" srcOrd="1" destOrd="0" presId="urn:microsoft.com/office/officeart/2005/8/layout/cycle5"/>
    <dgm:cxn modelId="{D20A412F-26F9-4693-9FFE-BD1F6D66CB21}" type="presParOf" srcId="{4FF95D97-B228-42BA-9008-04FFD97D0BB3}" destId="{244E4891-F36E-44F4-86BD-315053307D15}" srcOrd="2" destOrd="0" presId="urn:microsoft.com/office/officeart/2005/8/layout/cycle5"/>
    <dgm:cxn modelId="{FBF1672B-96CF-4D05-A2EC-19DF7B25F0BA}" type="presParOf" srcId="{4FF95D97-B228-42BA-9008-04FFD97D0BB3}" destId="{F4C91D9C-59FE-477B-9921-4174F0F884E3}" srcOrd="3" destOrd="0" presId="urn:microsoft.com/office/officeart/2005/8/layout/cycle5"/>
    <dgm:cxn modelId="{9EDA715C-604B-4E78-9A0C-68313537F249}" type="presParOf" srcId="{4FF95D97-B228-42BA-9008-04FFD97D0BB3}" destId="{2D036222-8024-4FFB-A850-2C4C1D88F926}" srcOrd="4" destOrd="0" presId="urn:microsoft.com/office/officeart/2005/8/layout/cycle5"/>
    <dgm:cxn modelId="{8822AC15-6B1E-46BD-A521-042B112588EE}" type="presParOf" srcId="{4FF95D97-B228-42BA-9008-04FFD97D0BB3}" destId="{AF79D701-0814-4D3C-B269-ABFAFD29E815}" srcOrd="5" destOrd="0" presId="urn:microsoft.com/office/officeart/2005/8/layout/cycle5"/>
    <dgm:cxn modelId="{201EBC53-1BF7-4B2F-B09E-7C1084E8660B}" type="presParOf" srcId="{4FF95D97-B228-42BA-9008-04FFD97D0BB3}" destId="{4B8D88A8-43F0-4315-94BF-0CA32E3108D9}" srcOrd="6" destOrd="0" presId="urn:microsoft.com/office/officeart/2005/8/layout/cycle5"/>
    <dgm:cxn modelId="{8BD13B61-49D7-498D-840C-70E16D33B44B}" type="presParOf" srcId="{4FF95D97-B228-42BA-9008-04FFD97D0BB3}" destId="{0D2CF68E-CAE5-448C-9918-47468D9F9552}" srcOrd="7" destOrd="0" presId="urn:microsoft.com/office/officeart/2005/8/layout/cycle5"/>
    <dgm:cxn modelId="{DF127B50-F7A8-4E84-884C-13045E1ED77D}" type="presParOf" srcId="{4FF95D97-B228-42BA-9008-04FFD97D0BB3}" destId="{7D1B6135-F7AA-482A-8CB1-502D90050527}" srcOrd="8" destOrd="0" presId="urn:microsoft.com/office/officeart/2005/8/layout/cycle5"/>
    <dgm:cxn modelId="{235B8268-DB45-4590-87A8-C7D7A7F84A9F}" type="presParOf" srcId="{4FF95D97-B228-42BA-9008-04FFD97D0BB3}" destId="{B27D5645-4C46-4DE0-9E5D-6FA004D0041F}" srcOrd="9" destOrd="0" presId="urn:microsoft.com/office/officeart/2005/8/layout/cycle5"/>
    <dgm:cxn modelId="{E686ACDE-1955-426A-B435-49F1EC13C543}" type="presParOf" srcId="{4FF95D97-B228-42BA-9008-04FFD97D0BB3}" destId="{307C3D3D-FDC4-4E56-B80E-5BA79E18969E}" srcOrd="10" destOrd="0" presId="urn:microsoft.com/office/officeart/2005/8/layout/cycle5"/>
    <dgm:cxn modelId="{9F702273-3372-4A18-9CEC-1FA8470C9D69}" type="presParOf" srcId="{4FF95D97-B228-42BA-9008-04FFD97D0BB3}" destId="{03372566-20CC-4B33-B854-9C223D1CD4F5}" srcOrd="11" destOrd="0" presId="urn:microsoft.com/office/officeart/2005/8/layout/cycle5"/>
    <dgm:cxn modelId="{15601052-ABB6-4B4B-B80E-D1380D633FEE}" type="presParOf" srcId="{4FF95D97-B228-42BA-9008-04FFD97D0BB3}" destId="{4FE54DDB-3828-4E3C-B1C9-ACC5BEC3DB57}" srcOrd="12" destOrd="0" presId="urn:microsoft.com/office/officeart/2005/8/layout/cycle5"/>
    <dgm:cxn modelId="{5A6CCBF8-0A0D-4253-947A-59BE1005CFE9}" type="presParOf" srcId="{4FF95D97-B228-42BA-9008-04FFD97D0BB3}" destId="{ED974BEF-842F-4976-9F32-39D1647AEEC1}" srcOrd="13" destOrd="0" presId="urn:microsoft.com/office/officeart/2005/8/layout/cycle5"/>
    <dgm:cxn modelId="{7576B287-51FE-4533-894B-6BD7D96A74D9}" type="presParOf" srcId="{4FF95D97-B228-42BA-9008-04FFD97D0BB3}" destId="{19315AFA-CF15-441F-9047-9D5ABB3FCB45}" srcOrd="14" destOrd="0" presId="urn:microsoft.com/office/officeart/2005/8/layout/cycle5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5">
  <dgm:title val=""/>
  <dgm:desc val=""/>
  <dgm:catLst>
    <dgm:cat type="cycle" pri="3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func="var" arg="dir" op="equ" val="norm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if>
      <dgm:else name="Name11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fact="-1"/>
          <dgm:constr type="diam" for="ch" refType="diam" op="equ" fact="-1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else>
    </dgm:choose>
    <dgm:ruleLst/>
    <dgm:forEach name="Name12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/>
        </dgm:shape>
        <dgm:presOf axis="desOrSelf" ptType="node"/>
        <dgm:constrLst>
          <dgm:constr type="h" refType="w" fact="0.6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13">
        <dgm:if name="Name14" axis="par ch" ptType="doc node" func="cnt" op="gt" val="1">
          <dgm:layoutNode name="spNode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  <dgm:forEach name="Name15" axis="followSib" ptType="sibTrans" hideLastTrans="0" cnt="1">
            <dgm:layoutNode name="sibTrans">
              <dgm:alg type="conn">
                <dgm:param type="dim" val="1D"/>
                <dgm:param type="connRout" val="curve"/>
                <dgm:param type="begPts" val="radial"/>
                <dgm:param type="endPts" val="radial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connDist"/>
                <dgm:constr type="begPad" refType="connDist" fact="0.2"/>
                <dgm:constr type="endPad" refType="connDist" fact="0.2"/>
              </dgm:constrLst>
              <dgm:ruleLst/>
            </dgm:layoutNode>
          </dgm:forEach>
        </dgm:if>
        <dgm:else name="Name16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C5F-CBD6-4C4C-9649-6DD30017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533-370A-4C3D-BA9E-8778A6BA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DB7-7A49-4D0D-8F47-557DE0E0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94B-CB61-4F60-88C0-22D66138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DAD-9A92-4563-8615-02C6868D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D8B-2C98-4C26-BDBB-99716CF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143-687D-4205-BF3F-70A87EE4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C50-C7BB-4ED2-83B8-1DCC9BBC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86F-F218-4B61-B13E-C7130981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033-17BB-4BD2-8E7F-CDB2F55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E22-0AAB-406C-8097-1107AFD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661-3CCB-4D80-A4D3-6F72E987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D2F818-436B-4BB8-9D01-AA3B46B6DE9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diagramData" Target="../diagrams/data1.xml"/><Relationship Id="rId4" Type="http://schemas.openxmlformats.org/officeDocument/2006/relationships/diagramLayout" Target="../diagrams/layout1.xml"/><Relationship Id="rId5" Type="http://schemas.openxmlformats.org/officeDocument/2006/relationships/diagramQuickStyle" Target="../diagrams/quickStyle1.xml"/><Relationship Id="rId6" Type="http://schemas.openxmlformats.org/officeDocument/2006/relationships/diagramColors" Target="../diagrams/colors1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42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43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920"/>
              <a:ext cx="1725480" cy="185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Презентация по теме: «Внедрение и использование ИКТ в практике работы ДОУ»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500040" y="1857240"/>
            <a:ext cx="8000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Группа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47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48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920"/>
              <a:ext cx="1725480" cy="185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нформатизация общества ставит перед педагогами ДОУ задачи: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14240" y="1714320"/>
            <a:ext cx="771480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00000"/>
              </a:lnSpc>
              <a:spcBef>
                <a:spcPts val="1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тать для ребенка наставником в выборе компьютерны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ctr">
              <a:lnSpc>
                <a:spcPct val="100000"/>
              </a:lnSpc>
              <a:spcBef>
                <a:spcPts val="1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формировать основы информационной культуры личности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imagesCA185MFV"/>
          <p:cNvPicPr/>
          <p:nvPr/>
        </p:nvPicPr>
        <p:blipFill>
          <a:blip r:embed="rId3"/>
          <a:stretch/>
        </p:blipFill>
        <p:spPr>
          <a:xfrm>
            <a:off x="2786040" y="4071960"/>
            <a:ext cx="4038120" cy="2018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Группа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3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54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920"/>
              <a:ext cx="1725480" cy="185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Использование ИКТ в деятельности ДОУ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2960" y="1500120"/>
            <a:ext cx="81435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 детском саду компьютер может использоваться в следующих направлен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накомство с возможностями ЭВМ в области хранения и обработки информации (с помощью компьютеров мы можем писать, рисовать, слушать и создавать музыку и т.д.) и получения первичных навыков обращения с н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Компьютер как средство интеллектуального развития дошкольника, для формирования творческого воображения, быстрого реагирования на ситуацию, познание окружающ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Компьютер как средство взаимодействия взрослых и детей (формирования начальных математических представлений, обучения азбуке, слого и словообразованию и т.д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8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59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920"/>
              <a:ext cx="1725480" cy="185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Где же ИКТ могут помочь современному педагогу в его работе? </a:t>
            </a:r>
            <a:br>
              <a:rPr sz="48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500040" y="1214280"/>
            <a:ext cx="807228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1. Подбор иллюстративного материала к занятиям и для оформления стендов, группы, кабинетов (сканирование, Интернет; принтер, презента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Группа 15"/>
          <p:cNvGrpSpPr/>
          <p:nvPr/>
        </p:nvGrpSpPr>
        <p:grpSpPr>
          <a:xfrm>
            <a:off x="-214200" y="0"/>
            <a:ext cx="9357840" cy="6857640"/>
            <a:chOff x="-214200" y="0"/>
            <a:chExt cx="9357840" cy="6857640"/>
          </a:xfrm>
        </p:grpSpPr>
        <p:pic>
          <p:nvPicPr>
            <p:cNvPr id="63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-214200" y="0"/>
              <a:ext cx="93578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64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071840" y="142920"/>
              <a:ext cx="1725480" cy="185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65" name="Овал 7"/>
          <p:cNvSpPr/>
          <p:nvPr/>
        </p:nvSpPr>
        <p:spPr>
          <a:xfrm>
            <a:off x="3571920" y="3714840"/>
            <a:ext cx="2928600" cy="264276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500720" y="1500120"/>
            <a:ext cx="3357360" cy="2356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1000080" y="2009880"/>
            <a:ext cx="3223800" cy="2356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357720" y="2143080"/>
            <a:ext cx="2499840" cy="2285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2071800" y="2428920"/>
            <a:ext cx="1428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1928880" y="3429000"/>
            <a:ext cx="1213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айт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0" y="928800"/>
            <a:ext cx="2071440" cy="13568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вышение  познавательной мотив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5214960" y="2143080"/>
            <a:ext cx="22143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929040" y="3143160"/>
            <a:ext cx="15714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4071960" y="4786200"/>
            <a:ext cx="2214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4000320" y="5643720"/>
            <a:ext cx="1856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айт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8"/>
          <p:cNvSpPr/>
          <p:nvPr/>
        </p:nvSpPr>
        <p:spPr>
          <a:xfrm>
            <a:off x="6858000" y="1143000"/>
            <a:ext cx="2142720" cy="12855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вышение  социального стат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9"/>
          <p:cNvSpPr/>
          <p:nvPr/>
        </p:nvSpPr>
        <p:spPr>
          <a:xfrm>
            <a:off x="6429240" y="5572080"/>
            <a:ext cx="2142720" cy="8568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офессиональное 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0"/>
          <p:cNvSpPr/>
          <p:nvPr/>
        </p:nvSpPr>
        <p:spPr>
          <a:xfrm>
            <a:off x="357120" y="5429160"/>
            <a:ext cx="3428640" cy="1142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становление контакта, открытость, довер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1"/>
          <p:cNvSpPr/>
          <p:nvPr/>
        </p:nvSpPr>
        <p:spPr>
          <a:xfrm>
            <a:off x="0" y="3286080"/>
            <a:ext cx="1571400" cy="99972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Рост дост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1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82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920"/>
              <a:ext cx="1725480" cy="185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83" name="TextBox 7"/>
          <p:cNvSpPr/>
          <p:nvPr/>
        </p:nvSpPr>
        <p:spPr>
          <a:xfrm>
            <a:off x="571320" y="285840"/>
            <a:ext cx="70005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сновные направления развития ИКТ в условиях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285840" y="1643040"/>
            <a:ext cx="2857320" cy="1142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бучение работе н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компьют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единительная линия 17"/>
          <p:cNvCxnSpPr/>
          <p:nvPr/>
        </p:nvCxnSpPr>
        <p:spPr>
          <a:xfrm flipV="1">
            <a:off x="642600" y="1428480"/>
            <a:ext cx="2286360" cy="1572120"/>
          </a:xfrm>
          <a:prstGeom prst="straightConnector1">
            <a:avLst/>
          </a:prstGeom>
          <a:ln w="57150">
            <a:solidFill>
              <a:srgbClr val="c00000"/>
            </a:solidFill>
            <a:round/>
          </a:ln>
        </p:spPr>
      </p:cxnSp>
      <p:cxnSp>
        <p:nvCxnSpPr>
          <p:cNvPr id="86" name="Прямая соединительная линия 19"/>
          <p:cNvCxnSpPr/>
          <p:nvPr/>
        </p:nvCxnSpPr>
        <p:spPr>
          <a:xfrm>
            <a:off x="428400" y="1500120"/>
            <a:ext cx="2358000" cy="1571760"/>
          </a:xfrm>
          <a:prstGeom prst="straightConnector1">
            <a:avLst/>
          </a:prstGeom>
          <a:ln w="57150">
            <a:solidFill>
              <a:srgbClr val="c00000"/>
            </a:solidFill>
            <a:round/>
          </a:ln>
        </p:spPr>
      </p:cxnSp>
      <p:sp>
        <p:nvSpPr>
          <p:cNvPr id="87" name="Стрелка вправо 20"/>
          <p:cNvSpPr/>
          <p:nvPr/>
        </p:nvSpPr>
        <p:spPr>
          <a:xfrm>
            <a:off x="3214800" y="1857240"/>
            <a:ext cx="85680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Прямоугольник 21"/>
          <p:cNvSpPr/>
          <p:nvPr/>
        </p:nvSpPr>
        <p:spPr>
          <a:xfrm>
            <a:off x="4500720" y="1643040"/>
            <a:ext cx="4428720" cy="1142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спользование ИКТ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е предусматривает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обучение детей основам информатики вычислительной тех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2"/>
          <p:cNvSpPr/>
          <p:nvPr/>
        </p:nvSpPr>
        <p:spPr>
          <a:xfrm>
            <a:off x="357120" y="3143160"/>
            <a:ext cx="3785760" cy="99972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редство развития и воспитан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3"/>
          <p:cNvSpPr/>
          <p:nvPr/>
        </p:nvSpPr>
        <p:spPr>
          <a:xfrm>
            <a:off x="357120" y="4357800"/>
            <a:ext cx="3785760" cy="8568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редство интерактив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285840" y="5500800"/>
            <a:ext cx="3857400" cy="9284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редство монитор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5"/>
          <p:cNvSpPr/>
          <p:nvPr/>
        </p:nvSpPr>
        <p:spPr>
          <a:xfrm>
            <a:off x="4429080" y="2928960"/>
            <a:ext cx="4357440" cy="78552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вивающие компьютер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6"/>
          <p:cNvSpPr/>
          <p:nvPr/>
        </p:nvSpPr>
        <p:spPr>
          <a:xfrm>
            <a:off x="4500720" y="3857760"/>
            <a:ext cx="4214520" cy="78552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удиовизуальный ряд,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7"/>
          <p:cNvSpPr/>
          <p:nvPr/>
        </p:nvSpPr>
        <p:spPr>
          <a:xfrm>
            <a:off x="4572000" y="4857840"/>
            <a:ext cx="4357440" cy="7138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Дидактические компьютер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8"/>
          <p:cNvSpPr/>
          <p:nvPr/>
        </p:nvSpPr>
        <p:spPr>
          <a:xfrm>
            <a:off x="4643280" y="5786280"/>
            <a:ext cx="4214520" cy="8568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омпьютерные технологии для индивидуальной работы с ребе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97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98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920"/>
              <a:ext cx="1725480" cy="1856880"/>
            </a:xfrm>
            <a:prstGeom prst="rect">
              <a:avLst/>
            </a:prstGeom>
            <a:ln w="9525">
              <a:noFill/>
            </a:ln>
          </p:spPr>
        </p:pic>
      </p:grp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128895614"/>
              </p:ext>
            </p:extLst>
          </p:nvPr>
        </p:nvGraphicFramePr>
        <p:xfrm>
          <a:off x="571320" y="357120"/>
          <a:ext cx="8143560" cy="6000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sp>
        <p:nvSpPr>
          <p:cNvPr id="99" name="TextBox 6"/>
          <p:cNvSpPr/>
          <p:nvPr/>
        </p:nvSpPr>
        <p:spPr>
          <a:xfrm>
            <a:off x="3214800" y="2714760"/>
            <a:ext cx="2785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системе работы 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Группа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01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02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920"/>
              <a:ext cx="1725480" cy="185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240" cy="39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5300" spc="-1" strike="noStrike">
                <a:solidFill>
                  <a:srgbClr val="002060"/>
                </a:solidFill>
                <a:latin typeface="Times New Roman"/>
              </a:rPr>
              <a:t>Спасибо за внимание!</a:t>
            </a:r>
            <a:endParaRPr b="0" lang="ru-RU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  <Words>269</Words>
  <Paragraphs>4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6:13:10Z</dcterms:created>
  <dc:creator>user</dc:creator>
  <dc:description/>
  <dc:language>en-US</dc:language>
  <cp:lastModifiedBy>Alexandr</cp:lastModifiedBy>
  <dcterms:modified xsi:type="dcterms:W3CDTF">2015-02-06T18:35:07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