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1BDE-F7B3-4926-967F-8824C9D4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73E-3E45-4FAB-86DF-D774B4BA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4B5-0850-4214-A457-766AEC47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8F72-3A4C-4B84-A3E8-ECE1B76E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E2B-B546-4297-ACB5-7CC016AC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5F5-0C5F-4D43-AAA4-61732BD4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9B0-2349-4790-9A93-C9936CE9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57B-742A-4F31-96A5-BD2572D7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B36B-CF02-4A1D-86FB-DDA9085A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9C53-021B-420C-87FA-6BDEE25E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4BA-1213-414C-B8BA-63466C05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D7C-A2A2-4432-A7DB-A25DE7CE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69C7-CCA8-444C-A508-353BEFC627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1640" y="2130120"/>
            <a:ext cx="3886200" cy="22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женерные войска Вооружённых Сил Российской Федераци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x_adc1b46d"/>
          <p:cNvPicPr/>
          <p:nvPr/>
        </p:nvPicPr>
        <p:blipFill>
          <a:blip r:embed="rId1"/>
          <a:stretch/>
        </p:blipFill>
        <p:spPr>
          <a:xfrm>
            <a:off x="1071720" y="3214800"/>
            <a:ext cx="3489120" cy="23382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44" name="Прямоугольник 4"/>
          <p:cNvSpPr/>
          <p:nvPr/>
        </p:nvSpPr>
        <p:spPr>
          <a:xfrm>
            <a:off x="6929280" y="6429240"/>
            <a:ext cx="1928880" cy="428760"/>
          </a:xfrm>
          <a:prstGeom prst="rect">
            <a:avLst/>
          </a:prstGeom>
          <a:solidFill>
            <a:srgbClr val="738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57160" y="3143160"/>
            <a:ext cx="74296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устройство и содержание инженерных заграждений, и производство разрушений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установка и содержание ядерных мин и фугасов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уничтожение и обезвреживание ядерных мин противник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делывание и содержание проходов в заграждениях и разрушениях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устройство проходов через препятстви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азминирование местности и объектов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одготовка и содержание путей движения войск, подвоза и эвакуаци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борудование и содержание переправ при форсировании водных преград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нженерные мероприятия по маскировке войск и объектов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нженерные мероприятия по восстановлению боеспособности войск и ликвидация последствий ядерных ударов противник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добыча и очистка воды, оборудование пунктов водоснабжени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4500720" y="928800"/>
            <a:ext cx="328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огласно Боевому уставу Сухопутных войск ВС  инженерное обеспечение включает в себ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6929280" y="6429240"/>
            <a:ext cx="1928880" cy="428760"/>
          </a:xfrm>
          <a:prstGeom prst="rect">
            <a:avLst/>
          </a:prstGeom>
          <a:solidFill>
            <a:srgbClr val="738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x400_images_000egr53"/>
          <p:cNvPicPr/>
          <p:nvPr/>
        </p:nvPicPr>
        <p:blipFill>
          <a:blip r:embed="rId1"/>
          <a:stretch/>
        </p:blipFill>
        <p:spPr>
          <a:xfrm>
            <a:off x="1000080" y="785880"/>
            <a:ext cx="3514680" cy="2343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4572000" y="2143080"/>
            <a:ext cx="3500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нженерную разведку противника, местности и объектов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фортификационное оборудование позиций, рубежей, районов, пунктов управлени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6160" y="785520"/>
            <a:ext cx="440064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Будни инженерных войск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Анимашки Военные, разные военные анимашки, разные анимашки | Smayli.ru"/>
          <p:cNvPicPr/>
          <p:nvPr/>
        </p:nvPicPr>
        <p:blipFill>
          <a:blip r:embed="rId1"/>
          <a:stretch/>
        </p:blipFill>
        <p:spPr>
          <a:xfrm>
            <a:off x="3929040" y="285768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structure.mil.ru/images/military/military/photo/sv_iv.jpg"/>
          <p:cNvPicPr/>
          <p:nvPr/>
        </p:nvPicPr>
        <p:blipFill>
          <a:blip r:embed="rId2"/>
          <a:stretch/>
        </p:blipFill>
        <p:spPr>
          <a:xfrm>
            <a:off x="928800" y="3643200"/>
            <a:ext cx="3425760" cy="242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voenpro.ru/img/images/02-den-inzhenernyh-vojsk.jpeg"/>
          <p:cNvPicPr/>
          <p:nvPr/>
        </p:nvPicPr>
        <p:blipFill>
          <a:blip r:embed="rId3"/>
          <a:stretch/>
        </p:blipFill>
        <p:spPr>
          <a:xfrm>
            <a:off x="928800" y="785880"/>
            <a:ext cx="3429000" cy="2233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kapellan.ru/wp-content/uploads/2010/12/151.jpg"/>
          <p:cNvPicPr/>
          <p:nvPr/>
        </p:nvPicPr>
        <p:blipFill>
          <a:blip r:embed="rId4"/>
          <a:stretch/>
        </p:blipFill>
        <p:spPr>
          <a:xfrm>
            <a:off x="4929120" y="1571760"/>
            <a:ext cx="3243240" cy="2261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http://pix.photone.me/file/5030_w600.jpg"/>
          <p:cNvPicPr/>
          <p:nvPr/>
        </p:nvPicPr>
        <p:blipFill>
          <a:blip r:embed="rId5"/>
          <a:stretch/>
        </p:blipFill>
        <p:spPr>
          <a:xfrm>
            <a:off x="4929120" y="392904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57360" y="274680"/>
            <a:ext cx="532908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6929280" y="6429240"/>
            <a:ext cx="1928880" cy="428760"/>
          </a:xfrm>
          <a:prstGeom prst="rect">
            <a:avLst/>
          </a:prstGeom>
          <a:solidFill>
            <a:srgbClr val="738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Анимашки звезды, анимированные звездочки, разные анимашки | Smayli.ru"/>
          <p:cNvPicPr/>
          <p:nvPr/>
        </p:nvPicPr>
        <p:blipFill>
          <a:blip r:embed="rId1"/>
          <a:stretch/>
        </p:blipFill>
        <p:spPr>
          <a:xfrm>
            <a:off x="5572080" y="2071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Анимашки звезды, анимированные звездочки, разные анимашки | Smayli.ru"/>
          <p:cNvPicPr/>
          <p:nvPr/>
        </p:nvPicPr>
        <p:blipFill>
          <a:blip r:embed="rId2"/>
          <a:stretch/>
        </p:blipFill>
        <p:spPr>
          <a:xfrm>
            <a:off x="6858000" y="128592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99" name="TextBox 8"/>
          <p:cNvSpPr/>
          <p:nvPr/>
        </p:nvSpPr>
        <p:spPr>
          <a:xfrm>
            <a:off x="2571840" y="3857760"/>
            <a:ext cx="550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женерными войсками гордится вся стран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дь вы всегда нужны, неважно - мир или войн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йска, где часто ошибиться можно только один раз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ы благодарны вам за службу в прошлом и сейчас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усть ваши знания и опыт оберегают белый свет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на планете воцарится покой и мир на много лет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img-fotki.yandex.ru/get/5301/irina-marianna.7/0_4afd5_694714a5_L.jpg"/>
          <p:cNvPicPr/>
          <p:nvPr/>
        </p:nvPicPr>
        <p:blipFill>
          <a:blip r:embed="rId3"/>
          <a:stretch/>
        </p:blipFill>
        <p:spPr>
          <a:xfrm>
            <a:off x="1071720" y="928800"/>
            <a:ext cx="3673440" cy="2571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Анимашки звезды, анимированные звездочки, разные анимашки | Smayli.ru"/>
          <p:cNvPicPr/>
          <p:nvPr/>
        </p:nvPicPr>
        <p:blipFill>
          <a:blip r:embed="rId4"/>
          <a:stretch/>
        </p:blipFill>
        <p:spPr>
          <a:xfrm>
            <a:off x="6786720" y="285768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643200" y="928440"/>
            <a:ext cx="4500720" cy="38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женерные войс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 воинские формирования специальных войск вооружённых сил Российской Федерации, предназначенные для инженерного оборудования территории боевых действий, инженерной разведки и сопровождения войск в наступлении. В состав инженерных войск входят инженерно-сапёрные, инженерно-дорожные, понтонные и другие подразде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0" descr="Эмблема_инженерных_войск_ВС_РФ"/>
          <p:cNvPicPr/>
          <p:nvPr/>
        </p:nvPicPr>
        <p:blipFill>
          <a:blip r:embed="rId1"/>
          <a:stretch/>
        </p:blipFill>
        <p:spPr>
          <a:xfrm>
            <a:off x="1143000" y="3286080"/>
            <a:ext cx="2598840" cy="1643040"/>
          </a:xfrm>
          <a:prstGeom prst="rect">
            <a:avLst/>
          </a:prstGeom>
          <a:ln w="12600">
            <a:solidFill>
              <a:srgbClr val="1e1c11"/>
            </a:solidFill>
            <a:miter/>
          </a:ln>
        </p:spPr>
      </p:pic>
      <p:sp>
        <p:nvSpPr>
          <p:cNvPr id="47" name="Text Box 11"/>
          <p:cNvSpPr/>
          <p:nvPr/>
        </p:nvSpPr>
        <p:spPr>
          <a:xfrm>
            <a:off x="1143000" y="5072040"/>
            <a:ext cx="2571840" cy="641520"/>
          </a:xfrm>
          <a:prstGeom prst="rect">
            <a:avLst/>
          </a:prstGeom>
          <a:solidFill>
            <a:srgbClr val="e6b9b8"/>
          </a:soli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блема инженерных войск Вооружённых Сил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6929280" y="6429240"/>
            <a:ext cx="1928880" cy="428760"/>
          </a:xfrm>
          <a:prstGeom prst="rect">
            <a:avLst/>
          </a:prstGeom>
          <a:solidFill>
            <a:srgbClr val="738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142880" y="2642760"/>
            <a:ext cx="40719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нце XII века процесс дробления феодальной Руси на множество княжеств привел к строительству крепостей и сооружений самых различных типов практически на всей территории. О высоком уровне русского военно-инженерного искусства того времени свидетельствует как умелое строительство укреплений, так и совершенствование инженерных мероприятий при обеспечении наступательных действий войс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3706920" y="426960"/>
            <a:ext cx="4730760" cy="2279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starinarus.ru/images/stena.jpg"/>
          <p:cNvPicPr/>
          <p:nvPr/>
        </p:nvPicPr>
        <p:blipFill>
          <a:blip r:embed="rId2"/>
          <a:stretch/>
        </p:blipFill>
        <p:spPr>
          <a:xfrm>
            <a:off x="1000080" y="785880"/>
            <a:ext cx="3092400" cy="2857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forum.awd.ru/gallery/images/upload/b76/6b6/b766b66e43b7e872dc36133cc093cb4e.jpg"/>
          <p:cNvPicPr/>
          <p:nvPr/>
        </p:nvPicPr>
        <p:blipFill>
          <a:blip r:embed="rId3"/>
          <a:stretch/>
        </p:blipFill>
        <p:spPr>
          <a:xfrm>
            <a:off x="1000080" y="3835440"/>
            <a:ext cx="30718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2992320" y="353880"/>
            <a:ext cx="5700960" cy="1590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7960" y="2071800"/>
            <a:ext cx="37098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1242 году русские разгромили немцев на льду Чудского озера. Русские войска умело использовали при этом как долговременные оборонительные сооружения, так и полевые укрепления, выполненные с учётом особенностей мест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alpha-omega.moy.su/_si/3/62280492.jpg"/>
          <p:cNvPicPr/>
          <p:nvPr/>
        </p:nvPicPr>
        <p:blipFill>
          <a:blip r:embed="rId2"/>
          <a:stretch/>
        </p:blipFill>
        <p:spPr>
          <a:xfrm>
            <a:off x="1000080" y="3182760"/>
            <a:ext cx="364320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2919240" y="390600"/>
            <a:ext cx="5774040" cy="1590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28720" y="2071800"/>
            <a:ext cx="371484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им примером является взятие Казани в 1552 году Иваном IV. Иван Грозный решил построить на берегу реки Свияги при впадении её в Волгу в 25 км от Казани крепость Свияжск. Впервые в истории строительства за 28 дней была построена крепость-город, сыгравшая важную роль опорной базы при осаде Каза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sviyajsk.ru/images/articles/stroitelstvo2.jpg"/>
          <p:cNvPicPr/>
          <p:nvPr/>
        </p:nvPicPr>
        <p:blipFill>
          <a:blip r:embed="rId2"/>
          <a:stretch/>
        </p:blipFill>
        <p:spPr>
          <a:xfrm>
            <a:off x="500040" y="3214800"/>
            <a:ext cx="41767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71600" y="714240"/>
            <a:ext cx="46148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В в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XVIII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е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7960" y="1600200"/>
            <a:ext cx="370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 руководством  Петр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ыли проведены первые инженерные учебные маневры. Для подготовки инженерных кадров создаются инженерных школы в Москве и Санкт-Петербург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zateevo.ru/upload/iblock/bcd/bcdd3ba4d2a4cd5dd8e1458d703620c4.jpg"/>
          <p:cNvPicPr/>
          <p:nvPr/>
        </p:nvPicPr>
        <p:blipFill>
          <a:blip r:embed="rId1"/>
          <a:stretch/>
        </p:blipFill>
        <p:spPr>
          <a:xfrm>
            <a:off x="928800" y="3214800"/>
            <a:ext cx="3857400" cy="2361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1000080" y="55720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этих школах готовили унтер - и обер-офицеров инженерных войс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ic.pics.livejournal.com/nagolovu_voenny/52535377/24384/24384_900.jpg"/>
          <p:cNvPicPr/>
          <p:nvPr/>
        </p:nvPicPr>
        <p:blipFill>
          <a:blip r:embed="rId2"/>
          <a:stretch/>
        </p:blipFill>
        <p:spPr>
          <a:xfrm>
            <a:off x="928800" y="714240"/>
            <a:ext cx="2879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1640" y="714240"/>
            <a:ext cx="378612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В в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XIX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е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071600" y="1600200"/>
            <a:ext cx="43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концу XIX века инженерные войска предназначались для обеспечения боевых действий пехоты, артиллерии и кавалерии, ведения крепостного строительства, выполнения инженерных задач при осаде и обороне крепостей, минной войны, устройства путей и переправ, телеграфных линий и имели в своём составе сапёров, понтонеров, минёров, электриков, воздухоплавателей, военных железнодорожников, связистов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s://upload.wikimedia.org/wikipedia/ru/3/3b/Jebens-lgv-saper-batalion.jpg"/>
          <p:cNvPicPr/>
          <p:nvPr/>
        </p:nvPicPr>
        <p:blipFill>
          <a:blip r:embed="rId1"/>
          <a:stretch/>
        </p:blipFill>
        <p:spPr>
          <a:xfrm>
            <a:off x="214200" y="785880"/>
            <a:ext cx="4168800" cy="35002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785880" y="4357800"/>
            <a:ext cx="3571920" cy="1067400"/>
          </a:xfrm>
          <a:prstGeom prst="rect">
            <a:avLst/>
          </a:prstGeom>
          <a:solidFill>
            <a:srgbClr val="e6b9b8"/>
          </a:soli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пёры Лейб-гвардии сапёрного батальон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853 год. Картина работы А. И. Гебен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00720" y="571680"/>
            <a:ext cx="41860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ми́трий Миха́йлович Ка́рбыше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 1880- 1945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)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29080" y="1999800"/>
            <a:ext cx="39290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ерал-лейтенант инженерных войск, профессор Военной академии Генерального штаба, доктор военных наук, Герой Советского Союз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s://upload.wikimedia.org/wikipedia/commons/7/7e/Dmitry_Mikhaylovich_Karbyshev.jpg"/>
          <p:cNvPicPr/>
          <p:nvPr/>
        </p:nvPicPr>
        <p:blipFill>
          <a:blip r:embed="rId1"/>
          <a:stretch/>
        </p:blipFill>
        <p:spPr>
          <a:xfrm>
            <a:off x="1000080" y="1428840"/>
            <a:ext cx="3057480" cy="46432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5"/>
          <p:cNvSpPr/>
          <p:nvPr/>
        </p:nvSpPr>
        <p:spPr>
          <a:xfrm>
            <a:off x="6929280" y="6429240"/>
            <a:ext cx="1928880" cy="428760"/>
          </a:xfrm>
          <a:prstGeom prst="rect">
            <a:avLst/>
          </a:prstGeom>
          <a:solidFill>
            <a:srgbClr val="738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1000080" y="785880"/>
            <a:ext cx="3429000" cy="703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годы Великой Отечественной войны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42960" y="2786040"/>
            <a:ext cx="385272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очь на 18 февраля 1945 года в концлагере Маутхаузен (Австрия), в числе других заключённых (около 500 человек), был после зверских пыток облит водой на морозе и погиб. Тело Д. М. Карбышева было сожжено в печах Маутхаузе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s://upload.wikimedia.org/wikipedia/commons/5/56/Mauthausen_-_Memorial_to_General_Karbyshev.JPG"/>
          <p:cNvPicPr/>
          <p:nvPr/>
        </p:nvPicPr>
        <p:blipFill>
          <a:blip r:embed="rId1"/>
          <a:stretch/>
        </p:blipFill>
        <p:spPr>
          <a:xfrm>
            <a:off x="4500720" y="1285920"/>
            <a:ext cx="4000320" cy="300024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5000760" y="4500720"/>
            <a:ext cx="3214440" cy="1067400"/>
          </a:xfrm>
          <a:prstGeom prst="rect">
            <a:avLst/>
          </a:prstGeom>
          <a:noFill/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амятник генералу Д. М. Карбышеву на территории бывшего концентрационного лагеря Маутхаузен, Австр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6929280" y="6429240"/>
            <a:ext cx="1928880" cy="428760"/>
          </a:xfrm>
          <a:prstGeom prst="rect">
            <a:avLst/>
          </a:prstGeom>
          <a:solidFill>
            <a:srgbClr val="738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14:50:00Z</dcterms:created>
  <dc:creator>Admin</dc:creator>
  <dc:description/>
  <dc:language>en-US</dc:language>
  <cp:lastModifiedBy>Admin</cp:lastModifiedBy>
  <dcterms:modified xsi:type="dcterms:W3CDTF">2015-03-09T15:52:35Z</dcterms:modified>
  <cp:revision>22</cp:revision>
  <dc:subject/>
  <dc:title>Инженерные войска Вооружённых Сил Российской Федерации  </dc:title>
</cp:coreProperties>
</file>