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A232-E971-478C-9841-5D6B6AF0A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8650-2F67-4829-A5FD-108A285F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8ED5-1FAA-4472-80B1-A1ECAEE9F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3AC0-6254-49A6-AE3C-4229C5443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9D27-A7C7-48A6-969D-142CED81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4DB1-AD71-456A-A089-BDD3A956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E24E-14E1-42B9-8CCA-2DE664FB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6A87-EDA9-4466-BB52-8D16EB62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F709-AB70-4167-86CB-BAFDE711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DB11-E5F1-4BCD-A376-D4124362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AF97-1CF1-43C0-9EAD-E675EA25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4948-4916-469B-9391-8CCC34F6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C16C-B6BB-4A82-9477-2CD11B00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A022-3B7F-455A-A2BB-08E027B5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092E-058F-434A-A04D-B123A795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78E8-BE37-4116-BC45-A1BF411B2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D9F9-311F-4E5A-A593-FFA464551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7124-5EB1-4860-8098-BFA06793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53E6-9A59-4B6D-A56C-31E67DC8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0AA3-40E6-4647-8C29-506BA48C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E2FA-3281-4031-BFB5-94A1AFA0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A9AA-AEB7-42C2-AF1D-5EE1F9F8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BE4C-00E0-4F57-A63F-56C79A49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32D1-BE84-4B4F-ADE2-D778ED4A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F6A0-3AE8-4C87-810C-C2EE967432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B3C3-89AE-477A-861F-795520A551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КЛУМБ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43280" y="189000"/>
            <a:ext cx="4248360" cy="3139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3284640"/>
            <a:ext cx="3960720" cy="33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932360" y="333360"/>
            <a:ext cx="3938760" cy="3168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84360" y="3500280"/>
            <a:ext cx="4032000" cy="26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476280"/>
            <a:ext cx="800748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Ковровая клумб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создается из карликовых растений с разнообразными цветными листьями, которые создают сплошной узор, напоминающий орнамент цветочного ков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почти не используются цветочные раст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 rot="21186600">
            <a:off x="398520" y="3201840"/>
            <a:ext cx="4105080" cy="3087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 rot="21084000">
            <a:off x="4859280" y="333360"/>
            <a:ext cx="4032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7720" y="404280"/>
            <a:ext cx="800748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Приподнятая клумб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приподнимают над уровнем земли с помощью различных материалов: камень, кирпич, доски, бревна и т.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08000" y="2781360"/>
            <a:ext cx="511344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7720" y="476280"/>
            <a:ext cx="800748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Моноклумб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составлена из одного вида раст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3413160" cy="3025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859280" y="1916280"/>
            <a:ext cx="364644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втор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такое клумб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е существуют виды клумб в зависимости от расположения на участк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е виды клумб вы знает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пределите, о чем идет речь в текст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лавная черта  – это одновременное цветение всех растений, расположенных на ней. На дачных участках такие клумбы встречаются редко. Чаще всего такие клумбы украшают города. Они отличаются строгостью композиционного рисунка, симметричностью и четкостью фор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7720" y="620280"/>
            <a:ext cx="8007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аще всего такой вариант посадки используют для оформления городских парков. Такая клумба требует серьезного ухода и грамотного выбора растений. Для оформления такой клумбы выбирают карликовые декоративные растения. Их высаживают определенным образом и при правильном уходе они, разрастаясь, образуют пышный “ковер” с восхитительным узором.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пределите вид клумбы по рисунк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56898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8209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вторение пройденного ранее материал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е виды цветников вы знает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е две группы цветников существую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такое рабатка, к какой группе она относитс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такое миксбордер, к какой группе относитс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такое клумб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272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70581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Клумба с заменой цветочных растений в течение сезон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7720" y="476280"/>
            <a:ext cx="800748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Цветочные композиции, радующие взгляд шикарным цветением в течение всего сезона – мечта, которую легко воплотить у себя на участке, грамотно подобрав растения. Клумба непрерывного цветения – отличный вариант создания не замирающего ни на одно мгновение цветочного шедевра, от созерцания которого получаешь эстетическое удовольствие в любое время года. Секрет создания такой клумбы достаточно прост: чтобы добиться нескончаемой красоты достаточно подобрать растения с разными периодами цветения и дополнить композицию обильно цветущими однолетниками, а также экземплярами с декоративной листв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Условия необходимые при создании всесезонного цветни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обходимо учитывать не только сроки цветения декоративных растений, но и требования по выращиванию каждой из культу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 выборе растений учитывать требовательность растения к освещенности, его засухоустойчивость, особенности почвы, предпочитаемой выбранным экземпляром и  рекомендации по уходу за н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549000"/>
            <a:ext cx="8007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дварительно прорисовать пару вариантов схем клумб непрерывного цветения.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620280"/>
            <a:ext cx="3927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тения для цветника: 1 – снежная форзиция, 2 – медуница, 3 – дельфиниум, 4 – подсолнечник травянистый, 5 – мискантус китайский, 6 – флокс метельчатый, 7 – нарциссы, 8 – гелениум, 9 – морозник, 10 – астранция, 11 – кореопсис мутовчатый, 12 – заячья капуста, 13 – герань, 14 – аквилегия, 15 – котовник, 16 – шалфей, 17 – астра подушковидная, 18 – колокольчик персиколистный, 19 – выносной цветочный вазон с сезонными растениями, 20 – герань, 21 – манжетка мягк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976640" y="692280"/>
            <a:ext cx="38102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Наиболее популярные растения для цветочных композиций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будившись от первых весенних лучей зацветают радующие взгляд нежные первоцветы: сине-голубые пролески, желтые и лиловые крокусы, незабудка, медуница, нарциссы и раннецветущие тюльпа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932360" y="1916280"/>
            <a:ext cx="38815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765000"/>
            <a:ext cx="39276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мае во всей красе проявляют себя ирисы, люпины, аквилегии, пионы, форзиция, соревнуясь в красоте с роскошными махровыми нарциссами и шикарными тюльпан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3960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620280"/>
            <a:ext cx="3927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сокие свечки пирамидальных соцветий голубых дельфиниумов – солистов цветника, придают клумбе особой торжественности и красочности. Дополняют живописную картину астранция и аквилег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932360" y="836640"/>
            <a:ext cx="38098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7720" y="476280"/>
            <a:ext cx="800748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Клумб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— это особые фигурные грядки, на которых выращиваются различные цветочно-декоративные раст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лумба — небольшой участок (до 10—15 м2) любой геометрической формы, на котором высажена одна или несколько культур. В отдельных случаях размеры клумб могут достигать 50 м2 и более. В композицию клумб включают также газон, мощение плитками и другими материалами, различные огражд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476280"/>
            <a:ext cx="39276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осенние месяцы ярких красок цветнику придают кореопсис, очиток, астра подушковидная и гелениум. Повторно преображаются шалфей и дельфиниум, радуя цветением, хотя и не таким пышным, как лет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932360" y="1268280"/>
            <a:ext cx="3887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ывод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создания всесезонной клумбы необходимо тщательно выбирать растения, учитывая сроки их цветения, требования к почве и т.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же необходимо составить предварительный план клумбы, где отразить все растения, которые предполагают использова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Форма клумбы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ругла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вадратна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вальна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омбическа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вездчат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орма выбирается в зависимости от ландшафта участка, его дизайна  и предпочтений чело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асположение клумб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аще всего клумбы устраивают в центре партера парка или сквера, у парадных входов во Дворцы культуры, возле клубов, кинотеатров, театров. Создают их также на газонах, при этом цветущие растения очень красиво выделяются на зеленом фоне трав.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иды клумб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 расположению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ентральна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оков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788000" y="620640"/>
            <a:ext cx="4066920" cy="28814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50920" y="3627360"/>
            <a:ext cx="396072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Виды клумб в зависимости от стиля оформления и видам размещаемых растений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Регулярна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строгий геометрический узор из растений, между которыми должны быть четкие грани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се растения должны цвести одновремен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5113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7720" y="476280"/>
            <a:ext cx="800748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Нерегулярна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выглядит естественной, не заметно приложения рук челове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растения имеют разный срок и период цвет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одна волна цветения сменяет другу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2T21:14:36Z</dcterms:created>
  <dc:creator>Камар</dc:creator>
  <dc:description/>
  <dc:language>en-US</dc:language>
  <cp:lastModifiedBy>Камар</cp:lastModifiedBy>
  <dcterms:modified xsi:type="dcterms:W3CDTF">2015-02-02T23:13:54Z</dcterms:modified>
  <cp:revision>2</cp:revision>
  <dc:subject/>
  <dc:title>КЛУМБА</dc:title>
</cp:coreProperties>
</file>