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319-FD34-4DA5-842B-8568B80C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6F4-F442-4FC7-961B-486A117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1FC-3B72-46D0-B5C8-2B15E1B6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DBC-BE4E-46D8-848E-171BDA6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431-4EFF-4ABA-B16C-E8C8419F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DC8-BFB1-491F-BAD7-1AEEC7FA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DF0-CA98-4D60-A8EA-F324C684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549-D777-43CC-A2DD-537BA06A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A91-822E-4B76-B350-6D67189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116-A087-4B5F-8696-8DE7892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3F1-5B3C-47D1-ACA9-832EC6BC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9BA-8846-46BB-ACF9-8FCDA13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327-8BD6-4089-B712-516A41820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Блок-схема: альтернативный процесс 2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42" name="Блок-схема: альтернативный процесс 2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04840" y="2781360"/>
            <a:ext cx="490680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3"/>
          <a:stretch/>
        </p:blipFill>
        <p:spPr>
          <a:xfrm>
            <a:off x="1298520" y="665280"/>
            <a:ext cx="7991640" cy="494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95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еж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пальчики «бегут»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316240" y="1079640"/>
            <a:ext cx="458784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101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уро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0" y="5359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большой и указательный пальц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ложить в клювик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763640" y="1411200"/>
            <a:ext cx="5381640" cy="4035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107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 вед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ладошки горсточкой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187280" y="1415880"/>
            <a:ext cx="5793120" cy="4026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113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алив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пальчики как бы брызгают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558800" y="1341360"/>
            <a:ext cx="58564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119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ошкин 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руки «домиком» над голов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860480" y="771480"/>
            <a:ext cx="5423040" cy="5375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Скругленный прямоугольник 1"/>
          <p:cNvGrpSpPr/>
          <p:nvPr/>
        </p:nvGrpSpPr>
        <p:grpSpPr>
          <a:xfrm>
            <a:off x="165240" y="176040"/>
            <a:ext cx="8881920" cy="6505920"/>
            <a:chOff x="165240" y="176040"/>
            <a:chExt cx="8881920" cy="6505920"/>
          </a:xfrm>
        </p:grpSpPr>
        <p:pic>
          <p:nvPicPr>
            <p:cNvPr id="125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819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95360" y="504720"/>
              <a:ext cx="822492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Прямоугольник 3" descr=""/>
          <p:cNvPicPr/>
          <p:nvPr/>
        </p:nvPicPr>
        <p:blipFill>
          <a:blip r:embed="rId2"/>
          <a:stretch/>
        </p:blipFill>
        <p:spPr>
          <a:xfrm>
            <a:off x="-469800" y="2646360"/>
            <a:ext cx="1001556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Скругленный прямоугольник 1"/>
          <p:cNvGrpSpPr/>
          <p:nvPr/>
        </p:nvGrpSpPr>
        <p:grpSpPr>
          <a:xfrm>
            <a:off x="165240" y="176040"/>
            <a:ext cx="8881920" cy="6505920"/>
            <a:chOff x="165240" y="176040"/>
            <a:chExt cx="8881920" cy="6505920"/>
          </a:xfrm>
        </p:grpSpPr>
        <p:pic>
          <p:nvPicPr>
            <p:cNvPr id="12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819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95360" y="504720"/>
              <a:ext cx="822492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Прямоугольник 1"/>
          <p:cNvSpPr/>
          <p:nvPr/>
        </p:nvSpPr>
        <p:spPr>
          <a:xfrm>
            <a:off x="-1440" y="2309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 презентации использованы материалы книги Т. Н. Щербаковой «Кулачки – ладош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47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955960" y="998640"/>
            <a:ext cx="323208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Тили – тили – ти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хлопки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53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шлепок по коленям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987640" y="971640"/>
            <a:ext cx="2808360" cy="4914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59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агорел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помахать кистями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627280" y="723960"/>
            <a:ext cx="3600360" cy="571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65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ош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0" y="559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«ушки на макушке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уки ладошками вперед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855800" y="928800"/>
            <a:ext cx="5432400" cy="482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71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руки «домиком» над головой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1860480" y="771480"/>
            <a:ext cx="5423040" cy="5375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77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ошка выскочил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топнуть ногой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432160" y="1112760"/>
            <a:ext cx="427968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Блок-схема: альтернативный процесс 4"/>
          <p:cNvGrpSpPr/>
          <p:nvPr/>
        </p:nvGrpSpPr>
        <p:grpSpPr>
          <a:xfrm>
            <a:off x="92160" y="176040"/>
            <a:ext cx="8807400" cy="6505920"/>
            <a:chOff x="92160" y="176040"/>
            <a:chExt cx="8807400" cy="6505920"/>
          </a:xfrm>
        </p:grpSpPr>
        <p:pic>
          <p:nvPicPr>
            <p:cNvPr id="83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92160" y="176040"/>
              <a:ext cx="880740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084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Гл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«бинокль»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484360" y="1011240"/>
            <a:ext cx="417528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Блок-схема: альтернативный процесс 4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89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пуч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 ладошки около глаз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Солнышко\Рабочий стол\семинар гимнастика\1360  карапуз  КУЛАЧКИ ЛАДОШКИ  № 8  2011\обложка_0031.jpg"/>
          <p:cNvPicPr/>
          <p:nvPr/>
        </p:nvPicPr>
        <p:blipFill>
          <a:blip r:embed="rId2"/>
          <a:stretch/>
        </p:blipFill>
        <p:spPr>
          <a:xfrm>
            <a:off x="2268360" y="1112760"/>
            <a:ext cx="4751640" cy="497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2:41:31Z</dcterms:created>
  <dc:creator>Солнышко</dc:creator>
  <dc:description/>
  <dc:language>en-US</dc:language>
  <cp:lastModifiedBy>Солнышко</cp:lastModifiedBy>
  <dcterms:modified xsi:type="dcterms:W3CDTF">2013-12-18T14:14:47Z</dcterms:modified>
  <cp:revision>11</cp:revision>
  <dc:subject/>
  <dc:title>Презентация PowerPoint</dc:title>
</cp:coreProperties>
</file>