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9.wmf" ContentType="image/x-wmf"/>
  <Override PartName="/ppt/media/image1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0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wmf" ContentType="image/x-wmf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940-5B3D-4586-B346-591113CA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5D3E-4B0B-4221-8C96-BA7ED34C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432-3869-4D22-8B68-F88DBEB3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B1E2-3910-4A30-B406-4BF58FA4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60E-C660-4BB8-A105-EDB5CA55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1CF-A281-4EEB-A62F-07DCE6F0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526-C0E0-45EF-B1CF-49713F58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E34-3616-4263-A741-E523856B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229-E02D-4781-A7D3-6518CB47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55B-169F-453B-91B6-69538678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928-29ED-42A5-804D-D63285F9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DC67-2BAB-42CF-B61B-8F3F7F8B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D421-FE32-402E-92EC-AC9247259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video" Target="file:///tmp/home/.config/libreoffice/4/user/gallery/&#1091;&#1090;&#1103;&#1090;&#1072;" TargetMode="External"/><Relationship Id="rId3" Type="http://schemas.microsoft.com/office/2007/relationships/media" Target="file:///tmp/home/.config/libreoffice/4/user/gallery/&#1091;&#1090;&#1103;&#1090;&#1072;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video" Target="file:///tmp/home/.config/libreoffice/4/user/gallery/&#1082;&#1091;&#1088;&#1099;" TargetMode="External"/><Relationship Id="rId4" Type="http://schemas.microsoft.com/office/2007/relationships/media" Target="file:///tmp/home/.config/libreoffice/4/user/gallery/&#1082;&#1091;&#1088;&#1099;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video" Target="file:///tmp/home/.config/libreoffice/4/user/gallery/&#1075;&#1091;&#1089;&#1080;" TargetMode="External"/><Relationship Id="rId3" Type="http://schemas.microsoft.com/office/2007/relationships/media" Target="file:///tmp/home/.config/libreoffice/4/user/gallery/&#1075;&#1091;&#1089;&#1080;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video" Target="file:///tmp/home/.config/libreoffice/4/user/gallery/&#1094;&#1099;&#1087;&#1083;&#1103;&#1090;&#1072;" TargetMode="External"/><Relationship Id="rId3" Type="http://schemas.microsoft.com/office/2007/relationships/media" Target="file:///tmp/home/.config/libreoffice/4/user/gallery/&#1094;&#1099;&#1087;&#1083;&#1103;&#1090;&#1072;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c4a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756" r="0" b="0"/>
          <a:stretch/>
        </p:blipFill>
        <p:spPr>
          <a:xfrm>
            <a:off x="0" y="0"/>
            <a:ext cx="1619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88920" y="423720"/>
            <a:ext cx="26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Домашние п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35280" y="1197000"/>
            <a:ext cx="698472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cc4400"/>
                    </a:gs>
                    <a:gs pos="50000">
                      <a:srgbClr val="800000"/>
                    </a:gs>
                    <a:gs pos="100000">
                      <a:srgbClr val="cc4400"/>
                    </a:gs>
                  </a:gsLst>
                  <a:lin ang="13500000"/>
                </a:gradFill>
                <a:latin typeface="Arial"/>
              </a:rPr>
              <a:t>Кто как голос подает</a:t>
            </a:r>
            <a:endParaRPr b="0" lang="en-US" sz="4400" spc="1" strike="noStrike">
              <a:ln w="936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cc4400"/>
                  </a:gs>
                  <a:gs pos="50000">
                    <a:srgbClr val="800000"/>
                  </a:gs>
                  <a:gs pos="100000">
                    <a:srgbClr val="cc44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c4a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2756" r="0" b="0"/>
          <a:stretch/>
        </p:blipFill>
        <p:spPr>
          <a:xfrm>
            <a:off x="0" y="0"/>
            <a:ext cx="161928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63640" y="189000"/>
            <a:ext cx="7056360" cy="52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227640" y="404640"/>
            <a:ext cx="2205000" cy="2808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851280" y="3068640"/>
            <a:ext cx="225432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908000" y="333360"/>
            <a:ext cx="2125800" cy="3024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8101080" y="6021360"/>
            <a:ext cx="584280" cy="584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525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2c4a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2756" r="0" b="0"/>
          <a:stretch/>
        </p:blipFill>
        <p:spPr>
          <a:xfrm>
            <a:off x="0" y="0"/>
            <a:ext cx="161928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211640" y="3284640"/>
            <a:ext cx="2089080" cy="2065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156360" y="40464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979640" y="333360"/>
            <a:ext cx="1871640" cy="3527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63640" y="189000"/>
            <a:ext cx="7056360" cy="52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8101080" y="6021360"/>
            <a:ext cx="657000" cy="657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428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c4a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2756" r="0" b="0"/>
          <a:stretch/>
        </p:blipFill>
        <p:spPr>
          <a:xfrm>
            <a:off x="0" y="0"/>
            <a:ext cx="161928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08000" y="333360"/>
            <a:ext cx="2808360" cy="2462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508720" y="333360"/>
            <a:ext cx="3095640" cy="2408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67280" y="2997360"/>
            <a:ext cx="2035080" cy="2160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63640" y="189000"/>
            <a:ext cx="7056360" cy="52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7956720" y="5950080"/>
            <a:ext cx="728640" cy="728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5953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2756" r="0" b="0"/>
          <a:stretch/>
        </p:blipFill>
        <p:spPr>
          <a:xfrm>
            <a:off x="0" y="0"/>
            <a:ext cx="16192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79040" y="0"/>
            <a:ext cx="705636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Цели: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849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уточнить названия домашних пти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849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совершенствование  знаний о том  как подают гол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домашние птиц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849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обогащение и активизация предметного и глаго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словар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8494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обучение образованию глаголов от звукоподража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8494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составление простого пред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8494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развитие слухового вним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3141720"/>
            <a:ext cx="73803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Ход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Взрослый кликает мышкой, появляется слайд с граммофончиком. Ребёнку предлагается послушать пение птицы и отгадать, что это за птица. Если отгадает (если не отгадает), взрослый кликает мышкой и появляется изображение птицы. Если ребенок  затрудняется , то взрослый демонстрирует ребенку картинку (кликом мышки)  и просит её назвать. Например: «Это утка» Далее задается вопрос: « А как утка подает голос?»  Значит она что делает? Она  … (  крякает). Взрослый просит ребенка повторить предложение целиком: « Утка крякает.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2c4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2756" r="0" b="0"/>
          <a:stretch/>
        </p:blipFill>
        <p:spPr>
          <a:xfrm>
            <a:off x="0" y="0"/>
            <a:ext cx="16192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44000" y="6021360"/>
            <a:ext cx="649080" cy="649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050920" y="1098720"/>
            <a:ext cx="6266160" cy="4346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79640" y="1052640"/>
            <a:ext cx="640872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008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0" t="2756" r="0" b="0"/>
          <a:stretch/>
        </p:blipFill>
        <p:spPr>
          <a:xfrm>
            <a:off x="0" y="0"/>
            <a:ext cx="16192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172360" y="5877000"/>
            <a:ext cx="728640" cy="728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1908000" y="47628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35280" y="333360"/>
            <a:ext cx="5329080" cy="54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571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c4a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756" r="0" b="0"/>
          <a:stretch/>
        </p:blipFill>
        <p:spPr>
          <a:xfrm>
            <a:off x="0" y="0"/>
            <a:ext cx="16192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85080" y="5661000"/>
            <a:ext cx="873000" cy="873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24000" y="333360"/>
            <a:ext cx="4680000" cy="619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340000" y="476280"/>
            <a:ext cx="424800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3060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c4a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2756" r="0" b="0"/>
          <a:stretch/>
        </p:blipFill>
        <p:spPr>
          <a:xfrm>
            <a:off x="0" y="0"/>
            <a:ext cx="16192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28000" y="595008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68360" y="1197000"/>
            <a:ext cx="583272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411280" y="1341360"/>
            <a:ext cx="554544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7102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c4a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2756" r="0" b="0"/>
          <a:stretch/>
        </p:blipFill>
        <p:spPr>
          <a:xfrm>
            <a:off x="0" y="0"/>
            <a:ext cx="16192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5950080"/>
            <a:ext cx="584280" cy="58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68360" y="333360"/>
            <a:ext cx="4824720" cy="619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627280" y="692280"/>
            <a:ext cx="4086360" cy="5456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398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c4a6"/>
            </a:gs>
            <a:gs pos="50000">
              <a:srgbClr val="ffffff"/>
            </a:gs>
            <a:gs pos="100000">
              <a:srgbClr val="e2c4a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2756" r="0" b="0"/>
          <a:stretch/>
        </p:blipFill>
        <p:spPr>
          <a:xfrm>
            <a:off x="0" y="0"/>
            <a:ext cx="161928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28000" y="5950080"/>
            <a:ext cx="657360" cy="657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8000" y="333360"/>
            <a:ext cx="5040360" cy="56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2195640" y="476280"/>
            <a:ext cx="4608360" cy="5267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7152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2c4a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2756" r="0" b="0"/>
          <a:stretch/>
        </p:blipFill>
        <p:spPr>
          <a:xfrm>
            <a:off x="0" y="0"/>
            <a:ext cx="16192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835280" y="620640"/>
            <a:ext cx="698472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cc4400"/>
                    </a:gs>
                  </a:gsLst>
                  <a:lin ang="13500000"/>
                </a:gradFill>
                <a:latin typeface="Arial"/>
              </a:rPr>
              <a:t>Отгадай,</a:t>
            </a:r>
            <a:endParaRPr b="0" lang="en-US" sz="4400" spc="1" strike="noStrike">
              <a:ln w="936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cc4400"/>
                  </a:gs>
                </a:gsLst>
                <a:lin ang="135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cc4400"/>
                    </a:gs>
                  </a:gsLst>
                  <a:lin ang="13500000"/>
                </a:gradFill>
                <a:latin typeface="Arial"/>
              </a:rPr>
              <a:t>кого позвали</a:t>
            </a:r>
            <a:endParaRPr b="0" lang="en-US" sz="4400" spc="1" strike="noStrike">
              <a:ln w="936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cc44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5:34:05Z</dcterms:created>
  <dc:creator>XTreme</dc:creator>
  <dc:description/>
  <dc:language>en-US</dc:language>
  <cp:lastModifiedBy>Солнышко</cp:lastModifiedBy>
  <dcterms:modified xsi:type="dcterms:W3CDTF">2010-03-22T12:12:35Z</dcterms:modified>
  <cp:revision>9</cp:revision>
  <dc:subject/>
  <dc:title>Слайд 1</dc:title>
</cp:coreProperties>
</file>