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C0BC-D08B-4A2C-8500-40FF8473FA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E42-549A-4F51-B81E-D5076E84364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BBA-F1DC-4507-9006-A29F471C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55C-5ED9-4894-B3ED-15F040CF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B08-535E-4030-8665-F90670B3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D93-B4EA-40B0-8154-FDD0442E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BFF-3CA8-4092-82F3-0686F998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2E8-DB2D-4F4A-B7BF-BC89EA30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6FC-40A2-4725-A84B-5A671F5E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962-B457-481C-A99D-63347434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AA7-AA50-4EC7-8DA6-A0B6E37A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61B-AFAD-4EC5-9DBA-822768CA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582-F167-458C-ADD2-91F9BCE3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1DB-F651-4AD5-8017-F2D0AF9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58B4-9258-4B7F-9809-5CE2C01A8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-30240" y="-274680"/>
            <a:ext cx="9210600" cy="2652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20484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5" descr="http://www.gs.by/get_img?ImageId=2790"/>
          <p:cNvPicPr/>
          <p:nvPr/>
        </p:nvPicPr>
        <p:blipFill>
          <a:blip r:embed="rId3"/>
          <a:stretch/>
        </p:blipFill>
        <p:spPr>
          <a:xfrm>
            <a:off x="2170080" y="1542960"/>
            <a:ext cx="5089680" cy="519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5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TextBox 5"/>
          <p:cNvSpPr/>
          <p:nvPr/>
        </p:nvSpPr>
        <p:spPr>
          <a:xfrm>
            <a:off x="-88920" y="566244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(Ладони — под левую щёку, голо­в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наклонить влево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-4680" y="77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Спит медведь в своей берлог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rcRect l="22472" t="5092" r="24773" b="8133"/>
          <a:stretch/>
        </p:blipFill>
        <p:spPr>
          <a:xfrm>
            <a:off x="1527120" y="806400"/>
            <a:ext cx="6089760" cy="487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TextBox 5"/>
          <p:cNvSpPr/>
          <p:nvPr/>
        </p:nvSpPr>
        <p:spPr>
          <a:xfrm>
            <a:off x="-88920" y="566244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Calibri"/>
                <a:ea typeface="Arial"/>
              </a:rPr>
              <a:t>(Ладони — под правую щёку, го­лов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Calibri"/>
                <a:ea typeface="Arial"/>
              </a:rPr>
              <a:t>наклонить вправо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-4680" y="77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Спит барсук и чёрный кро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rcRect l="25511" t="7065" r="23760" b="5975"/>
          <a:stretch/>
        </p:blipFill>
        <p:spPr>
          <a:xfrm>
            <a:off x="1763640" y="785880"/>
            <a:ext cx="5580000" cy="465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TextBox 5"/>
          <p:cNvSpPr/>
          <p:nvPr/>
        </p:nvSpPr>
        <p:spPr>
          <a:xfrm>
            <a:off x="-88920" y="566244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(Растопыренные пальцы — «лапы волка»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«идут по земле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-4680" y="77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Только волка кормят ног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rcRect l="15485" t="3424" r="16464" b="4193"/>
          <a:stretch/>
        </p:blipFill>
        <p:spPr>
          <a:xfrm>
            <a:off x="882720" y="785880"/>
            <a:ext cx="737856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5"/>
          <p:cNvSpPr/>
          <p:nvPr/>
        </p:nvSpPr>
        <p:spPr>
          <a:xfrm>
            <a:off x="-1584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(Положить руки на живот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-4680" y="77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А не то живот сведё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rcRect l="29665" t="2758" r="26163" b="3324"/>
          <a:stretch/>
        </p:blipFill>
        <p:spPr>
          <a:xfrm>
            <a:off x="1927080" y="785880"/>
            <a:ext cx="5256360" cy="5432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8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8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1"/>
          <p:cNvSpPr/>
          <p:nvPr/>
        </p:nvSpPr>
        <p:spPr>
          <a:xfrm>
            <a:off x="-1440" y="1916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В презентации использованы материалы книги О.И. Крупенч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«Тренируем пальчики – развиваем реч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старшая группа детского са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8T16:20:13Z</dcterms:modified>
  <cp:revision>71</cp:revision>
  <dc:subject/>
  <dc:title>Презентация PowerPoint</dc:title>
</cp:coreProperties>
</file>