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applause.wav" ContentType="audio/x-wav"/>
  <Override PartName="/ppt/media/image42.wmf" ContentType="image/x-wmf"/>
  <Override PartName="/ppt/media/image43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.png" ContentType="image/png"/>
  <Override PartName="/ppt/media/image44.wmf" ContentType="image/x-wmf"/>
  <Override PartName="/ppt/media/image48.gif" ContentType="image/gif"/>
  <Override PartName="/ppt/media/image13.wmf" ContentType="image/x-wmf"/>
  <Override PartName="/ppt/media/image12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B68-C4F0-4A39-B57F-EAED2BDF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F13-A3CC-420B-925B-424EF7C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2CA-C444-4FEC-B170-32CC1B0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E29-7B7F-4FCF-B0EC-66D02E00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361-C58D-43F4-9F28-58F6240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436-CA8B-4994-926B-F7ED738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C2A-13E3-4F37-AFB6-FD96F66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D39-8C9E-4A67-936E-2CE7EBB8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0C-8AC3-4888-991B-882387F1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584-AC1F-49A0-821D-4AEE55D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569-7B34-4915-8CC7-03A6E9E0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637-615F-4D94-B5BD-22D9398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8CA-35B8-46A5-BF0B-27FAFF1ED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7.wmf"/><Relationship Id="rId5" Type="http://schemas.openxmlformats.org/officeDocument/2006/relationships/image" Target="../media/image33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34.wmf"/><Relationship Id="rId4" Type="http://schemas.openxmlformats.org/officeDocument/2006/relationships/image" Target="../media/image15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0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5.wmf"/><Relationship Id="rId4" Type="http://schemas.openxmlformats.org/officeDocument/2006/relationships/image" Target="../media/image11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42.wmf"/><Relationship Id="rId4" Type="http://schemas.openxmlformats.org/officeDocument/2006/relationships/image" Target="../media/image8.wmf"/><Relationship Id="rId5" Type="http://schemas.openxmlformats.org/officeDocument/2006/relationships/image" Target="../media/image42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21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8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12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197000"/>
            <a:ext cx="76341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ff65b2"/>
                    </a:gs>
                    <a:gs pos="100000">
                      <a:srgbClr val="ff99cc">
                        <a:alpha val="83137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лишний 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ff65b2"/>
                  </a:gs>
                  <a:gs pos="100000">
                    <a:srgbClr val="ff99cc">
                      <a:alpha val="83137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1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2162520" cy="269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3167280" cy="273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2092320" cy="266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64000" y="5493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50000">
              <a:srgbClr val="ffffff"/>
            </a:gs>
            <a:gs pos="100000">
              <a:srgbClr val="ffe1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90504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435640" y="333360"/>
            <a:ext cx="338436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76360" y="37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867280" y="3716280"/>
            <a:ext cx="25923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1e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3311640" cy="25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476360" y="3716280"/>
            <a:ext cx="3240000" cy="264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80000" y="260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5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248112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124000" y="333360"/>
            <a:ext cx="20620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476360" y="3716280"/>
            <a:ext cx="3311640" cy="264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580000" y="333360"/>
            <a:ext cx="324000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5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1e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3240000" cy="2660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24000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476360" y="378936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012000" y="3716280"/>
            <a:ext cx="20160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10200" r="26073" b="56478"/>
          <a:stretch/>
        </p:blipFill>
        <p:spPr>
          <a:xfrm>
            <a:off x="1763640" y="333360"/>
            <a:ext cx="2808360" cy="2693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28271" t="83697" r="28271" b="-3249"/>
          <a:stretch/>
        </p:blipFill>
        <p:spPr>
          <a:xfrm>
            <a:off x="1547640" y="4581360"/>
            <a:ext cx="3240360" cy="129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83914" t="3723" r="-1443" b="85743"/>
          <a:stretch/>
        </p:blipFill>
        <p:spPr>
          <a:xfrm>
            <a:off x="5651640" y="3860640"/>
            <a:ext cx="3024000" cy="2351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9564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6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6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rcRect l="46057" t="0" r="0" b="51512"/>
          <a:stretch/>
        </p:blipFill>
        <p:spPr>
          <a:xfrm>
            <a:off x="5508720" y="371628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763640" y="333360"/>
            <a:ext cx="2808360" cy="2641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96000" y="333360"/>
            <a:ext cx="27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835280" y="3716280"/>
            <a:ext cx="295092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7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9356" t="0" r="3876" b="9722"/>
          <a:stretch/>
        </p:blipFill>
        <p:spPr>
          <a:xfrm>
            <a:off x="1547640" y="333360"/>
            <a:ext cx="3240360" cy="264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24000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33336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547640" y="3716280"/>
            <a:ext cx="338472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7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7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7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50000">
              <a:srgbClr val="ffffff"/>
            </a:gs>
            <a:gs pos="100000">
              <a:srgbClr val="ffe1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3384720" cy="261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90920" cy="2664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11618" t="0" r="0" b="0"/>
          <a:stretch/>
        </p:blipFill>
        <p:spPr>
          <a:xfrm>
            <a:off x="3132000" y="4076640"/>
            <a:ext cx="1586160" cy="197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rcRect l="10342" t="0" r="0" b="0"/>
          <a:stretch/>
        </p:blipFill>
        <p:spPr>
          <a:xfrm flipH="1">
            <a:off x="1547280" y="4076640"/>
            <a:ext cx="158436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8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547640" y="1413000"/>
            <a:ext cx="698364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5b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0" lang="en-US" sz="1800" spc="1" strike="noStrike">
              <a:ln w="0">
                <a:noFill/>
              </a:ln>
              <a:solidFill>
                <a:srgbClr val="ff65b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2637000" cy="3164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remove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6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47760" y="65160"/>
            <a:ext cx="78231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40a94"/>
                </a:solidFill>
                <a:latin typeface="Arial"/>
              </a:rPr>
              <a:t>Цели:</a:t>
            </a:r>
            <a:r>
              <a:rPr b="1" i="1" lang="en-US" sz="2400" spc="-1" strike="noStrike">
                <a:solidFill>
                  <a:srgbClr val="b40a9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40a9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активизация и обогащение словаря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«Домашние птиц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закрепить знания детей о внешних признаках, повадках пти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совершенствование умений образовывать притяж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прилагательные, существительные  множественного чис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уменьшительно-ласкательную форму существитель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развитие связной речи, умений ребенка отвеч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на поставленный вопро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0dbc"/>
                </a:solidFill>
                <a:latin typeface="Arial"/>
              </a:rPr>
              <a:t>развитие мышления, зритель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95480" y="3789360"/>
            <a:ext cx="8059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0a94"/>
                </a:solidFill>
                <a:latin typeface="Arial"/>
              </a:rPr>
              <a:t>Ход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40a94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Просим ребёнка называть появляющиеся картинки.</a:t>
            </a:r>
            <a:br>
              <a:rPr sz="2000"/>
            </a:b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- Какая картинка лишняя, какая не подходит к осталь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После ответа ребёнка кликаем мышкой и лиш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картинка меняет цвет фона.</a:t>
            </a:r>
            <a:br>
              <a:rPr sz="2000"/>
            </a:b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- Объясни, почему она лишняя?</a:t>
            </a:r>
            <a:br>
              <a:rPr sz="2000"/>
            </a:b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Ребёнок может назвать и  другую картинку. Важно, чтобы он см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0dbc"/>
                </a:solidFill>
                <a:latin typeface="Arial"/>
              </a:rPr>
              <a:t>объяснить вам, почему именно эта картинка лишня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50000">
              <a:srgbClr val="ffffff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3456000" cy="26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45600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268360" y="3716280"/>
            <a:ext cx="223236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64000" y="3716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3024000" cy="266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3716280"/>
            <a:ext cx="2571840" cy="268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049480" y="3716280"/>
            <a:ext cx="20034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50000">
              <a:srgbClr val="ffffff"/>
            </a:gs>
            <a:gs pos="100000">
              <a:srgbClr val="ffe1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194472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200484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867280" y="3716280"/>
            <a:ext cx="2592360" cy="2665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64000" y="333360"/>
            <a:ext cx="337032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50000">
              <a:srgbClr val="ffffff"/>
            </a:gs>
            <a:gs pos="100000">
              <a:srgbClr val="ffe1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3370320" cy="266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2376720" cy="266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39092" r="63298" b="11375"/>
          <a:stretch/>
        </p:blipFill>
        <p:spPr>
          <a:xfrm>
            <a:off x="5796000" y="378936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476360" y="371628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e1e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345600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4472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0" t="0" r="0" b="9661"/>
          <a:stretch/>
        </p:blipFill>
        <p:spPr>
          <a:xfrm>
            <a:off x="5364000" y="371628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76360" y="404640"/>
            <a:ext cx="3456000" cy="2597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51640" y="333360"/>
            <a:ext cx="302400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651640" y="3710160"/>
            <a:ext cx="2881080" cy="265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295092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3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e1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2754" r="0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60280"/>
            <a:ext cx="3600360" cy="28069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3645000"/>
            <a:ext cx="3600360" cy="280656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5192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1944720" cy="266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76360" y="3716280"/>
            <a:ext cx="3311640" cy="269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435640" y="333360"/>
            <a:ext cx="324000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5b2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1:16Z</dcterms:created>
  <dc:creator>Солнышко</dc:creator>
  <dc:description/>
  <dc:language>en-US</dc:language>
  <cp:lastModifiedBy>Солнышко</cp:lastModifiedBy>
  <dcterms:modified xsi:type="dcterms:W3CDTF">2010-03-24T12:58:22Z</dcterms:modified>
  <cp:revision>7</cp:revision>
  <dc:subject/>
  <dc:title>Слайд 1</dc:title>
</cp:coreProperties>
</file>